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F74-4050-4591-B2B9-24C9F693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F9A-3A77-4586-8453-B03323A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E53-23D2-463E-8543-C4BFEA9C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511-C261-4207-B247-F58465F5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FDF-7E49-44BD-9962-41B01873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5AA-7B03-4907-858A-A4FBAA7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DB3-CA33-4398-8C71-F078562E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DAAA-10AF-4A58-9F1F-FC1CD38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1D14-9B8B-45D2-B5AD-66A0AF6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7DD2-2161-4A55-B593-4C65317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020-AF37-4C18-9DE8-63C9B40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8AB-FE41-4BA7-ACB7-03B9A64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2EEC-BEB7-4C62-88F8-6D259BE5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325B-EDDB-4479-9156-D19C402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7D2-371F-4A2D-BC63-490FC81D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F19-5901-4328-9D4D-C3BBCE91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E24-F373-412D-B9EC-C229A2A5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E37-D08C-4189-967D-45FF173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A90-6CBD-4368-AEBD-CDE2AAB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AA1-ECA2-4E51-8478-F25DED75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F94-EC7D-4354-8CF6-B99A2668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AA8-3F72-4FF3-9274-16F0145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327-5AA5-4D56-A2D1-930C860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489-5DBF-402E-917A-4B99BBE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7C0-993E-492F-8A75-050C81D9A4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4E43-84F2-492F-8BBA-182510D81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71D-9F44-4231-B2B3-CAE12187EC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7961-C91D-4AF5-AD2A-A350300F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​​ 8"/>
          <p:cNvSpPr/>
          <p:nvPr/>
        </p:nvSpPr>
        <p:spPr>
          <a:xfrm>
            <a:off x="900000" y="4005360"/>
            <a:ext cx="1079640" cy="35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​​ 9"/>
          <p:cNvSpPr/>
          <p:nvPr/>
        </p:nvSpPr>
        <p:spPr>
          <a:xfrm>
            <a:off x="7236000" y="4017960"/>
            <a:ext cx="1081080" cy="35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​​ 10"/>
          <p:cNvSpPr/>
          <p:nvPr/>
        </p:nvSpPr>
        <p:spPr>
          <a:xfrm>
            <a:off x="3924360" y="4373640"/>
            <a:ext cx="151128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5"/>
          <p:cNvSpPr/>
          <p:nvPr/>
        </p:nvSpPr>
        <p:spPr>
          <a:xfrm>
            <a:off x="1187280" y="2962440"/>
            <a:ext cx="7021800" cy="71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​​ 2"/>
          <p:cNvSpPr/>
          <p:nvPr/>
        </p:nvSpPr>
        <p:spPr>
          <a:xfrm>
            <a:off x="684360" y="256536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​​ 3"/>
          <p:cNvSpPr/>
          <p:nvPr/>
        </p:nvSpPr>
        <p:spPr>
          <a:xfrm>
            <a:off x="3726000" y="2575080"/>
            <a:ext cx="1944720" cy="19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​​ 4"/>
          <p:cNvSpPr/>
          <p:nvPr/>
        </p:nvSpPr>
        <p:spPr>
          <a:xfrm>
            <a:off x="7020000" y="25653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6"/>
          <p:cNvSpPr/>
          <p:nvPr/>
        </p:nvSpPr>
        <p:spPr>
          <a:xfrm>
            <a:off x="2808360" y="3070080"/>
            <a:ext cx="431640" cy="543240"/>
          </a:xfrm>
          <a:custGeom>
            <a:avLst/>
            <a:gdLst>
              <a:gd name="textAreaLeft" fmla="*/ 0 w 431640"/>
              <a:gd name="textAreaRight" fmla="*/ 432000 w 43164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7"/>
          <p:cNvSpPr/>
          <p:nvPr/>
        </p:nvSpPr>
        <p:spPr>
          <a:xfrm rot="10800000">
            <a:off x="5975280" y="3069720"/>
            <a:ext cx="433440" cy="543240"/>
          </a:xfrm>
          <a:custGeom>
            <a:avLst/>
            <a:gdLst>
              <a:gd name="textAreaLeft" fmla="*/ 0 w 433440"/>
              <a:gd name="textAreaRight" fmla="*/ 433800 w 43344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2f2f2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11"/>
          <p:cNvSpPr/>
          <p:nvPr/>
        </p:nvSpPr>
        <p:spPr>
          <a:xfrm>
            <a:off x="937080" y="3117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​​ 12"/>
          <p:cNvSpPr/>
          <p:nvPr/>
        </p:nvSpPr>
        <p:spPr>
          <a:xfrm>
            <a:off x="4170240" y="3352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13"/>
          <p:cNvSpPr/>
          <p:nvPr/>
        </p:nvSpPr>
        <p:spPr>
          <a:xfrm>
            <a:off x="7302960" y="313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​​ 14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新月形 19"/>
          <p:cNvSpPr/>
          <p:nvPr/>
        </p:nvSpPr>
        <p:spPr>
          <a:xfrm rot="3811200">
            <a:off x="4079160" y="2137680"/>
            <a:ext cx="71568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9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新月形 20"/>
          <p:cNvSpPr/>
          <p:nvPr/>
        </p:nvSpPr>
        <p:spPr>
          <a:xfrm rot="3501600">
            <a:off x="4023360" y="2196000"/>
            <a:ext cx="71568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新月形 21"/>
          <p:cNvSpPr/>
          <p:nvPr/>
        </p:nvSpPr>
        <p:spPr>
          <a:xfrm rot="3811200">
            <a:off x="939240" y="222876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新月形 23"/>
          <p:cNvSpPr/>
          <p:nvPr/>
        </p:nvSpPr>
        <p:spPr>
          <a:xfrm rot="3811200">
            <a:off x="7274880" y="2243160"/>
            <a:ext cx="61884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