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5A8-67B3-413F-ACF1-C2469CB4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E0A-DDFF-41E7-A8C5-E3514DDE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BF2-3C96-4077-AF94-249A18B9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BDDB-FE45-409E-ADB5-5DC95819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A15-DE9E-472E-9FD8-3A4742A7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1F0-19E4-420F-B181-3F33B20E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0B55-A5D3-4B2D-ABC4-324AFC10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A24-7792-45DC-A181-0A772BB2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CA4-1A24-4A8C-9035-3DB52064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7B5-24FA-435D-B576-374C8059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FA5-C1A2-4C03-A976-334D0799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389-F8C2-4D54-AD5F-28E24801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EFA4-44E6-4E88-A865-A7D9E005EF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A489-FD86-451C-946F-ED5C6DE276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apidppt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组合 3" descr=""/>
          <p:cNvPicPr/>
          <p:nvPr/>
        </p:nvPicPr>
        <p:blipFill>
          <a:blip r:embed="rId1"/>
          <a:stretch/>
        </p:blipFill>
        <p:spPr>
          <a:xfrm>
            <a:off x="2951280" y="2212920"/>
            <a:ext cx="3095640" cy="5973840"/>
          </a:xfrm>
          <a:prstGeom prst="rect">
            <a:avLst/>
          </a:prstGeom>
          <a:ln w="0">
            <a:noFill/>
          </a:ln>
        </p:spPr>
      </p:pic>
      <p:sp>
        <p:nvSpPr>
          <p:cNvPr id="42" name="TextBox 11"/>
          <p:cNvSpPr/>
          <p:nvPr/>
        </p:nvSpPr>
        <p:spPr>
          <a:xfrm flipH="1">
            <a:off x="1001160" y="263700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18"/>
          <p:cNvSpPr/>
          <p:nvPr/>
        </p:nvSpPr>
        <p:spPr>
          <a:xfrm>
            <a:off x="1100160" y="3062160"/>
            <a:ext cx="199872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1"/>
          <p:cNvSpPr/>
          <p:nvPr/>
        </p:nvSpPr>
        <p:spPr>
          <a:xfrm flipH="1">
            <a:off x="1001160" y="366408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20"/>
          <p:cNvSpPr/>
          <p:nvPr/>
        </p:nvSpPr>
        <p:spPr>
          <a:xfrm>
            <a:off x="1100160" y="4089240"/>
            <a:ext cx="199872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1"/>
          <p:cNvSpPr/>
          <p:nvPr/>
        </p:nvSpPr>
        <p:spPr>
          <a:xfrm flipH="1">
            <a:off x="1001160" y="476568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22"/>
          <p:cNvSpPr/>
          <p:nvPr/>
        </p:nvSpPr>
        <p:spPr>
          <a:xfrm>
            <a:off x="1100160" y="5191200"/>
            <a:ext cx="341460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 flipH="1">
            <a:off x="7170840" y="263700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24"/>
          <p:cNvSpPr/>
          <p:nvPr/>
        </p:nvSpPr>
        <p:spPr>
          <a:xfrm>
            <a:off x="5819760" y="3062160"/>
            <a:ext cx="2349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 flipH="1">
            <a:off x="7170840" y="43718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26"/>
          <p:cNvSpPr/>
          <p:nvPr/>
        </p:nvSpPr>
        <p:spPr>
          <a:xfrm>
            <a:off x="5460840" y="4797360"/>
            <a:ext cx="270828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 flipH="1">
            <a:off x="7170840" y="39736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49600" y="4761000"/>
            <a:ext cx="5553000" cy="1590480"/>
            <a:chOff x="1749600" y="4761000"/>
            <a:chExt cx="5553000" cy="1590480"/>
          </a:xfrm>
        </p:grpSpPr>
        <p:pic>
          <p:nvPicPr>
            <p:cNvPr id="54" name="椭圆 10" descr=""/>
            <p:cNvPicPr/>
            <p:nvPr/>
          </p:nvPicPr>
          <p:blipFill>
            <a:blip r:embed="rId2"/>
            <a:stretch/>
          </p:blipFill>
          <p:spPr>
            <a:xfrm>
              <a:off x="1749600" y="4761000"/>
              <a:ext cx="555300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640240" y="5071680"/>
              <a:ext cx="36925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29"/>
          <p:cNvSpPr/>
          <p:nvPr/>
        </p:nvSpPr>
        <p:spPr>
          <a:xfrm>
            <a:off x="5922720" y="26028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靶型分割并列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0">
            <a:hlinkClick r:id="rId3"/>
          </p:cNvPr>
          <p:cNvSpPr/>
          <p:nvPr/>
        </p:nvSpPr>
        <p:spPr>
          <a:xfrm>
            <a:off x="2124000" y="645336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3CA-48C1-4F3B-920D-87D90770B2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1:05:4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