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1DB-1ACA-4686-A1EB-DEFE7946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241-A331-46CB-A508-44E8D34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5D0-C606-4762-90C3-ED9AC4C7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B26-A0DC-4247-8F25-7A8E4DE1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6CB-76C1-4415-9E33-972AD97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0E4-9A5C-4C7E-A3CF-E07BC8D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CBE-C2EF-4C93-B9DE-FB3F9D9B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740-6066-472D-B413-4F59FFF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A49-EBD1-4A52-91A4-6533595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95F-2013-41F2-B818-EAC097F0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039-E6CD-4FB7-BA7C-770E3A5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847-59D9-431D-AAFB-74E1BCC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DBAE-0E27-499B-A53A-96D943B62A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298-0059-4705-BFCA-C308F7626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1749600" cy="1292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标志类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924280"/>
            <a:ext cx="1649160" cy="165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195640" y="3068640"/>
            <a:ext cx="1728720" cy="127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356000" y="2997360"/>
            <a:ext cx="1508400" cy="151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732720" y="3141720"/>
            <a:ext cx="1508040" cy="151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5105520"/>
            <a:ext cx="1442880" cy="144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828800" y="5410080"/>
            <a:ext cx="1401840" cy="118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657600" y="5257800"/>
            <a:ext cx="1353960" cy="138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7391520" y="5181480"/>
            <a:ext cx="148248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562720" y="5486400"/>
            <a:ext cx="1218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BE1-7347-427A-B0C4-3BB52FDF73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6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