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E8C-2683-4DFA-8628-23C394D4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F245-680C-4533-8849-A5B0858E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CC3-D30A-42E3-926B-5407D1C7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AB0A-A078-4791-86D0-016A4D55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3DCB-A6C1-4A75-80A3-E15A1E8F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5505-65A1-4648-8F11-2BB878B5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C907-BA16-44B2-AF6B-78ABE06D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D737-435D-4188-B193-0A3E1AAE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1D62-81A7-4E1D-AEE2-9348771D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72F4-5AED-412D-AEA2-FAA3240E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E47C-0794-486C-B54A-67354D7E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8780-9BC5-40AF-8AFC-6E49D08B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AFEB-3B0E-4454-B6CA-56640D6F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B4BA-2264-4269-851F-7FE42849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F44D-B931-4387-9EA0-B9A03C87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95D7-1365-48DD-892B-75E628372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0444-3259-4A9F-A096-7F028B03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812-145B-4943-A821-E19CF61D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E2D2-CFB5-4EDA-968E-0480D232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E45E-32E0-475A-89C7-FF6604A2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B41-57CA-4825-84EE-5988B695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6DE-2816-473C-B9AA-C6F17CA7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169-6D52-4585-B6FA-77B0D637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A8EE-5CF7-4DC1-8E4C-8222F665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E988-72DA-4EF7-BD60-DF0E5C1FD82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F311-2FEA-4D67-A282-26918782C4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85C4-4239-4055-A6B0-8A1F0715FA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3D37-118C-47CB-8BF1-5577081D9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弧形 4"/>
          <p:cNvSpPr/>
          <p:nvPr/>
        </p:nvSpPr>
        <p:spPr>
          <a:xfrm>
            <a:off x="1793880" y="3008160"/>
            <a:ext cx="5975280" cy="2814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饼形 3"/>
          <p:cNvSpPr/>
          <p:nvPr/>
        </p:nvSpPr>
        <p:spPr>
          <a:xfrm rot="7916400">
            <a:off x="1956960" y="2920680"/>
            <a:ext cx="4248000" cy="4054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586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饼形 5"/>
          <p:cNvSpPr/>
          <p:nvPr/>
        </p:nvSpPr>
        <p:spPr>
          <a:xfrm rot="20018400">
            <a:off x="743040" y="1539360"/>
            <a:ext cx="3978360" cy="3795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5084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I:\f\PPT库\剪影人物\16.png"/>
          <p:cNvPicPr/>
          <p:nvPr/>
        </p:nvPicPr>
        <p:blipFill>
          <a:blip r:embed="rId2"/>
          <a:stretch/>
        </p:blipFill>
        <p:spPr>
          <a:xfrm>
            <a:off x="2143080" y="2000160"/>
            <a:ext cx="903240" cy="2778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I:\f\PPT库\剪影人物\167.png"/>
          <p:cNvPicPr/>
          <p:nvPr/>
        </p:nvPicPr>
        <p:blipFill>
          <a:blip r:embed="rId3"/>
          <a:stretch/>
        </p:blipFill>
        <p:spPr>
          <a:xfrm>
            <a:off x="3255840" y="2144880"/>
            <a:ext cx="685800" cy="1858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I:\f\PPT库\剪影人物\191.png"/>
          <p:cNvPicPr/>
          <p:nvPr/>
        </p:nvPicPr>
        <p:blipFill>
          <a:blip r:embed="rId4"/>
          <a:stretch/>
        </p:blipFill>
        <p:spPr>
          <a:xfrm>
            <a:off x="5186520" y="1662120"/>
            <a:ext cx="1087200" cy="3251160"/>
          </a:xfrm>
          <a:prstGeom prst="rect">
            <a:avLst/>
          </a:prstGeom>
          <a:ln w="0">
            <a:noFill/>
          </a:ln>
        </p:spPr>
      </p:pic>
      <p:sp>
        <p:nvSpPr>
          <p:cNvPr id="88" name="TextBox 13"/>
          <p:cNvSpPr/>
          <p:nvPr/>
        </p:nvSpPr>
        <p:spPr>
          <a:xfrm>
            <a:off x="957240" y="2511360"/>
            <a:ext cx="141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注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2965320" y="1747800"/>
            <a:ext cx="14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注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6"/>
          <p:cNvSpPr/>
          <p:nvPr/>
        </p:nvSpPr>
        <p:spPr>
          <a:xfrm>
            <a:off x="6215040" y="1928880"/>
            <a:ext cx="14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注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388800" y="2365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级关系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系列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6:1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