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880" y="147240"/>
            <a:ext cx="890928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880" y="981000"/>
            <a:ext cx="890928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8880" y="3689280"/>
            <a:ext cx="890928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88880" y="147240"/>
            <a:ext cx="890928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88880" y="981000"/>
            <a:ext cx="434772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54400" y="981000"/>
            <a:ext cx="434772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88880" y="3689280"/>
            <a:ext cx="434772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54400" y="3689280"/>
            <a:ext cx="434772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88880" y="147240"/>
            <a:ext cx="890928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88880" y="981000"/>
            <a:ext cx="286848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01000" y="981000"/>
            <a:ext cx="286848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13480" y="981000"/>
            <a:ext cx="286848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8880" y="3689280"/>
            <a:ext cx="286848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01000" y="3689280"/>
            <a:ext cx="286848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13480" y="3689280"/>
            <a:ext cx="286848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88880" y="147240"/>
            <a:ext cx="890928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88880" y="981000"/>
            <a:ext cx="89092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88880" y="147240"/>
            <a:ext cx="890928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88880" y="981000"/>
            <a:ext cx="89092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8880" y="147240"/>
            <a:ext cx="890928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88880" y="981000"/>
            <a:ext cx="4347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54400" y="981000"/>
            <a:ext cx="4347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88880" y="147240"/>
            <a:ext cx="890928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88880" y="147240"/>
            <a:ext cx="8909280" cy="24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88880" y="147240"/>
            <a:ext cx="890928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88880" y="981000"/>
            <a:ext cx="434772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54400" y="981000"/>
            <a:ext cx="4347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88880" y="3689280"/>
            <a:ext cx="434772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88880" y="147240"/>
            <a:ext cx="890928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88880" y="981000"/>
            <a:ext cx="4347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54400" y="981000"/>
            <a:ext cx="434772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54400" y="3689280"/>
            <a:ext cx="434772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880" y="147240"/>
            <a:ext cx="890928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88880" y="981000"/>
            <a:ext cx="434772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54400" y="981000"/>
            <a:ext cx="434772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8880" y="3689280"/>
            <a:ext cx="890928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8880" y="147240"/>
            <a:ext cx="890928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8880" y="981000"/>
            <a:ext cx="89092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7eea"/>
              </a:buClr>
              <a:buSzPct val="2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499"/>
              </a:spcBef>
              <a:buClr>
                <a:srgbClr val="007eea"/>
              </a:buClr>
              <a:buSzPct val="2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499"/>
              </a:spcBef>
              <a:buClr>
                <a:srgbClr val="007eea"/>
              </a:buClr>
              <a:buSzPct val="2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499"/>
              </a:spcBef>
              <a:buClr>
                <a:srgbClr val="007eea"/>
              </a:buClr>
              <a:buSzPct val="2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499"/>
              </a:spcBef>
              <a:buClr>
                <a:srgbClr val="007eea"/>
              </a:buClr>
              <a:buSzPct val="2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矩形 6"/>
          <p:cNvSpPr/>
          <p:nvPr/>
        </p:nvSpPr>
        <p:spPr>
          <a:xfrm>
            <a:off x="0" y="785880"/>
            <a:ext cx="9906120" cy="5076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矩形 9"/>
          <p:cNvSpPr/>
          <p:nvPr/>
        </p:nvSpPr>
        <p:spPr>
          <a:xfrm>
            <a:off x="7416720" y="785880"/>
            <a:ext cx="2000160" cy="507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矩形 1"/>
          <p:cNvSpPr/>
          <p:nvPr/>
        </p:nvSpPr>
        <p:spPr>
          <a:xfrm>
            <a:off x="6264360" y="785880"/>
            <a:ext cx="2001600" cy="50760"/>
          </a:xfrm>
          <a:prstGeom prst="rect">
            <a:avLst/>
          </a:prstGeom>
          <a:solidFill>
            <a:srgbClr val="005e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矩形 7"/>
          <p:cNvSpPr/>
          <p:nvPr/>
        </p:nvSpPr>
        <p:spPr>
          <a:xfrm>
            <a:off x="5703840" y="785880"/>
            <a:ext cx="1136520" cy="50760"/>
          </a:xfrm>
          <a:prstGeom prst="rect">
            <a:avLst/>
          </a:prstGeom>
          <a:solidFill>
            <a:srgbClr val="007e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Oval 2"/>
          <p:cNvSpPr/>
          <p:nvPr/>
        </p:nvSpPr>
        <p:spPr>
          <a:xfrm>
            <a:off x="2728800" y="5254560"/>
            <a:ext cx="4940280" cy="478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728800" y="1851120"/>
            <a:ext cx="4395600" cy="3641400"/>
            <a:chOff x="2728800" y="1851120"/>
            <a:chExt cx="4395600" cy="3641400"/>
          </a:xfrm>
        </p:grpSpPr>
        <p:sp>
          <p:nvSpPr>
            <p:cNvPr id="44" name="Freeform 4"/>
            <p:cNvSpPr/>
            <p:nvPr/>
          </p:nvSpPr>
          <p:spPr>
            <a:xfrm>
              <a:off x="3135600" y="2980800"/>
              <a:ext cx="2346840" cy="2511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5"/>
            <p:cNvSpPr/>
            <p:nvPr/>
          </p:nvSpPr>
          <p:spPr>
            <a:xfrm>
              <a:off x="2728800" y="2456280"/>
              <a:ext cx="1086840" cy="1176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6"/>
            <p:cNvSpPr/>
            <p:nvPr/>
          </p:nvSpPr>
          <p:spPr>
            <a:xfrm>
              <a:off x="5189400" y="1851120"/>
              <a:ext cx="1935000" cy="1812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Rectangle 7"/>
          <p:cNvSpPr/>
          <p:nvPr/>
        </p:nvSpPr>
        <p:spPr>
          <a:xfrm>
            <a:off x="485640" y="4537080"/>
            <a:ext cx="24480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5eac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5eac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5eac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903960" y="419724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5eac"/>
                </a:solidFill>
                <a:latin typeface="微软雅黑"/>
                <a:ea typeface="微软雅黑"/>
              </a:rPr>
              <a:t>单击此处添加标题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488880" y="2306520"/>
            <a:ext cx="24480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907200" y="196848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6969240" y="3857760"/>
            <a:ext cx="244764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7598520" y="350208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7600" y="189000"/>
            <a:ext cx="889164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</a:rPr>
              <a:t>使用规范说明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269720"/>
            <a:ext cx="9671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微软雅黑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99cc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99cc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微软雅黑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微软雅黑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99cc00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99cc00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99cc00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99cc00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99cc00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99cc00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99cc00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99cc00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99cc00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99cc00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99cc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99cc00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99cc00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7894800" y="333360"/>
            <a:ext cx="150480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2T19:22:00Z</dcterms:created>
  <dc:creator>微笑PPT_小A; 郑琰</dc:creator>
  <dc:description>小A</dc:description>
  <cp:keywords>TZ-固定图形;XG-单色;KJ-3D;DH-静态</cp:keywords>
  <dc:language>en-US</dc:language>
  <cp:lastModifiedBy>雨林木风</cp:lastModifiedBy>
  <dcterms:modified xsi:type="dcterms:W3CDTF">2015-06-13T05:50:47Z</dcterms:modified>
  <cp:revision>137</cp:revision>
  <dc:subject>DG-关联</dc:subject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  <property fmtid="{D5CDD505-2E9C-101B-9397-08002B2CF9AE}" pid="3" name="Presentation">
    <vt:lpwstr>PowerPoint 演示文稿</vt:lpwstr>
  </property>
  <property fmtid="{D5CDD505-2E9C-101B-9397-08002B2CF9AE}" pid="4" name="SlideDescription">
    <vt:lpwstr>图示10</vt:lpwstr>
  </property>
</Properties>
</file>