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F73-4DD9-4E83-A069-FAF05914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56F-8646-45BD-98EE-F4F2357F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A3E-A3C3-4188-ADF0-5E83942A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54B-E382-4112-8563-E0DE1172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7FAA-7885-4D14-82FD-D2B8A5D9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708B-25F9-4B78-A71E-31949567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57CB-6BD0-4039-A62A-4C6C8770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9874-573A-4055-8E16-75DC3382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C2B7-9E39-47BC-B2DC-69027525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6B49-1ECD-4ACE-8F42-5F2CAA6B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648F-E677-4274-9614-E02F0E0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7EB-EFD1-4A3F-805C-ABF7BD80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07CF-E0B1-4F2A-93CB-056743C7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D60B-4C39-407C-996B-18F2B4AB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5882-267E-41E0-B8E5-3CE4B386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A439-DB2E-4E76-BD69-9E96D7D0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2CFA-3C5E-4096-A905-54C3043B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3D6-C24B-4329-A395-46CF0D74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1F6-8A82-4E28-9A9D-A54F30FA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E61-D952-4DF5-9684-D4E8DDD9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B50-51E7-44C7-AB10-E9348AC8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C3E-B5C1-4C94-8264-39B6CE7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58D-AE19-4354-A813-E637EA28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66B-858F-4587-B06E-813C439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9226-645B-4FE9-9A2A-7CF3DFD10F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789D-08E1-477A-BA82-1F3A44AE1D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83C2-5ABB-44B6-9C16-D5002D3902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BFBA-7A93-402A-86E0-3F23C9A10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6"/>
          <p:cNvSpPr/>
          <p:nvPr/>
        </p:nvSpPr>
        <p:spPr>
          <a:xfrm>
            <a:off x="1312920" y="198900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到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年，产品远销美洲、澳大利亚及中东地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1248480" y="765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产品远销海内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8"/>
          <p:cNvGrpSpPr/>
          <p:nvPr/>
        </p:nvGrpSpPr>
        <p:grpSpPr>
          <a:xfrm>
            <a:off x="1351080" y="2832120"/>
            <a:ext cx="6636960" cy="3439800"/>
            <a:chOff x="1351080" y="2832120"/>
            <a:chExt cx="6636960" cy="3439800"/>
          </a:xfrm>
        </p:grpSpPr>
        <p:sp>
          <p:nvSpPr>
            <p:cNvPr id="85" name="Freeform 59"/>
            <p:cNvSpPr/>
            <p:nvPr/>
          </p:nvSpPr>
          <p:spPr>
            <a:xfrm>
              <a:off x="4072680" y="4789800"/>
              <a:ext cx="63000" cy="1220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60"/>
            <p:cNvGrpSpPr/>
            <p:nvPr/>
          </p:nvGrpSpPr>
          <p:grpSpPr>
            <a:xfrm>
              <a:off x="1351080" y="2832120"/>
              <a:ext cx="6636960" cy="3439800"/>
              <a:chOff x="1351080" y="2832120"/>
              <a:chExt cx="6636960" cy="3439800"/>
            </a:xfrm>
          </p:grpSpPr>
          <p:sp>
            <p:nvSpPr>
              <p:cNvPr id="87" name="Freeform 61"/>
              <p:cNvSpPr/>
              <p:nvPr/>
            </p:nvSpPr>
            <p:spPr>
              <a:xfrm>
                <a:off x="1351080" y="4233240"/>
                <a:ext cx="1347120" cy="14536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62"/>
              <p:cNvSpPr/>
              <p:nvPr/>
            </p:nvSpPr>
            <p:spPr>
              <a:xfrm>
                <a:off x="5387760" y="2914200"/>
                <a:ext cx="2600280" cy="335772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63"/>
              <p:cNvSpPr/>
              <p:nvPr/>
            </p:nvSpPr>
            <p:spPr>
              <a:xfrm>
                <a:off x="3892320" y="4992120"/>
                <a:ext cx="767880" cy="90792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64"/>
              <p:cNvSpPr/>
              <p:nvPr/>
            </p:nvSpPr>
            <p:spPr>
              <a:xfrm>
                <a:off x="1593000" y="3639600"/>
                <a:ext cx="214920" cy="32184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65"/>
              <p:cNvSpPr/>
              <p:nvPr/>
            </p:nvSpPr>
            <p:spPr>
              <a:xfrm>
                <a:off x="2825640" y="2860200"/>
                <a:ext cx="176400" cy="3682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66"/>
              <p:cNvSpPr/>
              <p:nvPr/>
            </p:nvSpPr>
            <p:spPr>
              <a:xfrm>
                <a:off x="3503520" y="4872240"/>
                <a:ext cx="246960" cy="2098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67"/>
              <p:cNvSpPr/>
              <p:nvPr/>
            </p:nvSpPr>
            <p:spPr>
              <a:xfrm>
                <a:off x="3767400" y="4780800"/>
                <a:ext cx="333360" cy="38232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68"/>
              <p:cNvSpPr/>
              <p:nvPr/>
            </p:nvSpPr>
            <p:spPr>
              <a:xfrm>
                <a:off x="4019760" y="4592520"/>
                <a:ext cx="72000" cy="13500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9"/>
              <p:cNvSpPr/>
              <p:nvPr/>
            </p:nvSpPr>
            <p:spPr>
              <a:xfrm>
                <a:off x="4453920" y="3813480"/>
                <a:ext cx="57600" cy="22644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70"/>
              <p:cNvSpPr/>
              <p:nvPr/>
            </p:nvSpPr>
            <p:spPr>
              <a:xfrm>
                <a:off x="4206600" y="4051800"/>
                <a:ext cx="318240" cy="36072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1"/>
              <p:cNvSpPr/>
              <p:nvPr/>
            </p:nvSpPr>
            <p:spPr>
              <a:xfrm>
                <a:off x="4724280" y="5578200"/>
                <a:ext cx="212400" cy="33984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72"/>
              <p:cNvGrpSpPr/>
              <p:nvPr/>
            </p:nvGrpSpPr>
            <p:grpSpPr>
              <a:xfrm>
                <a:off x="1573920" y="2832120"/>
                <a:ext cx="3762360" cy="2096640"/>
                <a:chOff x="1573920" y="2832120"/>
                <a:chExt cx="3762360" cy="2096640"/>
              </a:xfrm>
            </p:grpSpPr>
            <p:sp>
              <p:nvSpPr>
                <p:cNvPr id="99" name="Freeform 73"/>
                <p:cNvSpPr/>
                <p:nvPr/>
              </p:nvSpPr>
              <p:spPr>
                <a:xfrm>
                  <a:off x="1573920" y="2832120"/>
                  <a:ext cx="3762360" cy="20966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74"/>
                <p:cNvSpPr/>
                <p:nvPr/>
              </p:nvSpPr>
              <p:spPr>
                <a:xfrm>
                  <a:off x="4104360" y="4120920"/>
                  <a:ext cx="135720" cy="2631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Freeform 75"/>
              <p:cNvSpPr/>
              <p:nvPr/>
            </p:nvSpPr>
            <p:spPr>
              <a:xfrm>
                <a:off x="2492280" y="5199480"/>
                <a:ext cx="137520" cy="27540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Freeform 76"/>
            <p:cNvSpPr/>
            <p:nvPr/>
          </p:nvSpPr>
          <p:spPr>
            <a:xfrm>
              <a:off x="6543360" y="2967120"/>
              <a:ext cx="119520" cy="1623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Freeform 79"/>
          <p:cNvSpPr/>
          <p:nvPr/>
        </p:nvSpPr>
        <p:spPr>
          <a:xfrm>
            <a:off x="5340240" y="3279600"/>
            <a:ext cx="2190960" cy="2295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80"/>
          <p:cNvSpPr/>
          <p:nvPr/>
        </p:nvSpPr>
        <p:spPr>
          <a:xfrm>
            <a:off x="5353200" y="3182760"/>
            <a:ext cx="2412720" cy="3127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82"/>
          <p:cNvSpPr/>
          <p:nvPr/>
        </p:nvSpPr>
        <p:spPr>
          <a:xfrm flipV="1" rot="10601400">
            <a:off x="4035600" y="3364560"/>
            <a:ext cx="2311200" cy="672840"/>
          </a:xfrm>
          <a:prstGeom prst="pie">
            <a:avLst/>
          </a:prstGeom>
          <a:noFill/>
          <a:ln w="28440">
            <a:solidFill>
              <a:srgbClr val="93d502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83"/>
          <p:cNvSpPr/>
          <p:nvPr/>
        </p:nvSpPr>
        <p:spPr>
          <a:xfrm flipV="1" rot="12027600">
            <a:off x="3980880" y="3762000"/>
            <a:ext cx="3622680" cy="1324080"/>
          </a:xfrm>
          <a:prstGeom prst="pie">
            <a:avLst/>
          </a:prstGeom>
          <a:noFill/>
          <a:ln w="28440">
            <a:solidFill>
              <a:srgbClr val="93d502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86"/>
          <p:cNvSpPr/>
          <p:nvPr/>
        </p:nvSpPr>
        <p:spPr>
          <a:xfrm flipH="1" flipV="1" rot="9222000">
            <a:off x="1800000" y="3794400"/>
            <a:ext cx="2286000" cy="896760"/>
          </a:xfrm>
          <a:prstGeom prst="pie">
            <a:avLst/>
          </a:prstGeom>
          <a:noFill/>
          <a:ln w="28440">
            <a:solidFill>
              <a:srgbClr val="93d502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rc 89"/>
          <p:cNvSpPr/>
          <p:nvPr/>
        </p:nvSpPr>
        <p:spPr>
          <a:xfrm flipH="1" flipV="1" rot="3938400">
            <a:off x="3543120" y="4097520"/>
            <a:ext cx="1434960" cy="877680"/>
          </a:xfrm>
          <a:prstGeom prst="pie">
            <a:avLst/>
          </a:prstGeom>
          <a:noFill/>
          <a:ln w="28440">
            <a:solidFill>
              <a:srgbClr val="93d502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"/>
          <p:cNvSpPr/>
          <p:nvPr/>
        </p:nvSpPr>
        <p:spPr>
          <a:xfrm>
            <a:off x="3576240" y="591804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7"/>
          <p:cNvSpPr/>
          <p:nvPr/>
        </p:nvSpPr>
        <p:spPr>
          <a:xfrm>
            <a:off x="3782880" y="3657600"/>
            <a:ext cx="463680" cy="463680"/>
          </a:xfrm>
          <a:prstGeom prst="ellipse">
            <a:avLst/>
          </a:prstGeom>
          <a:solidFill>
            <a:srgbClr val="93d502">
              <a:alpha val="50000"/>
            </a:srgbClr>
          </a:solidFill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2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