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1A1-C639-44E1-8257-267215A4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424-66C0-4D18-BFD7-0E965FAE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E21-114E-4AC8-A84B-C3200816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570-6FB5-46BE-AA0A-57F4A96F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51E-7F2F-4C33-B363-C6BE4C23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2D6-680B-4859-809F-3529B82F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703-330F-4C2F-A26D-1C09708B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F31-94D1-4502-B00A-A34A62D0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ECA-079D-4C32-9560-A3812F8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86E-C5A6-45AD-8DBD-6323D929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E80-A536-406F-8E2C-0629FDD8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EDF-571C-437F-B081-01919EDA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86EA-BA51-4F4C-8224-9EB249ECB2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B967-AA65-4044-B04F-E0B407B6C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68400"/>
            <a:ext cx="64008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40" y="65008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641520" y="2077920"/>
            <a:ext cx="1431720" cy="1967040"/>
          </a:xfrm>
          <a:prstGeom prst="downArrowCallout">
            <a:avLst>
              <a:gd name="adj1" fmla="val 49894"/>
              <a:gd name="adj2" fmla="val 24944"/>
              <a:gd name="adj3" fmla="val 15272"/>
              <a:gd name="adj4" fmla="val 88880"/>
            </a:avLst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39920" y="2077920"/>
            <a:ext cx="1433520" cy="1967040"/>
          </a:xfrm>
          <a:prstGeom prst="downArrowCallout">
            <a:avLst>
              <a:gd name="adj1" fmla="val 49894"/>
              <a:gd name="adj2" fmla="val 24944"/>
              <a:gd name="adj3" fmla="val 15253"/>
              <a:gd name="adj4" fmla="val 8888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844800" y="2077920"/>
            <a:ext cx="1432080" cy="1967040"/>
          </a:xfrm>
          <a:prstGeom prst="downArrowCallout">
            <a:avLst>
              <a:gd name="adj1" fmla="val 49894"/>
              <a:gd name="adj2" fmla="val 24944"/>
              <a:gd name="adj3" fmla="val 15274"/>
              <a:gd name="adj4" fmla="val 8888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5446800" y="2077920"/>
            <a:ext cx="1433520" cy="1967040"/>
          </a:xfrm>
          <a:prstGeom prst="downArrowCallout">
            <a:avLst>
              <a:gd name="adj1" fmla="val 49894"/>
              <a:gd name="adj2" fmla="val 24944"/>
              <a:gd name="adj3" fmla="val 15253"/>
              <a:gd name="adj4" fmla="val 88880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7051680" y="2077920"/>
            <a:ext cx="1433520" cy="1967040"/>
          </a:xfrm>
          <a:prstGeom prst="downArrowCallout">
            <a:avLst>
              <a:gd name="adj1" fmla="val 49894"/>
              <a:gd name="adj2" fmla="val 24944"/>
              <a:gd name="adj3" fmla="val 15259"/>
              <a:gd name="adj4" fmla="val 8888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774720" y="5533920"/>
            <a:ext cx="113328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773280" y="4381560"/>
            <a:ext cx="112860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81432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2398680" y="5533920"/>
            <a:ext cx="113364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2397240" y="4381560"/>
            <a:ext cx="112860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243828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3997440" y="5533920"/>
            <a:ext cx="113328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3995640" y="4381560"/>
            <a:ext cx="112896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403704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5599080" y="5533920"/>
            <a:ext cx="113364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7"/>
          <p:cNvSpPr/>
          <p:nvPr/>
        </p:nvSpPr>
        <p:spPr>
          <a:xfrm>
            <a:off x="5597640" y="4381560"/>
            <a:ext cx="112860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563868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0"/>
          <p:cNvSpPr/>
          <p:nvPr/>
        </p:nvSpPr>
        <p:spPr>
          <a:xfrm>
            <a:off x="7183440" y="5533920"/>
            <a:ext cx="113364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1"/>
          <p:cNvSpPr/>
          <p:nvPr/>
        </p:nvSpPr>
        <p:spPr>
          <a:xfrm>
            <a:off x="7182000" y="4381560"/>
            <a:ext cx="112860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2"/>
          <p:cNvSpPr/>
          <p:nvPr/>
        </p:nvSpPr>
        <p:spPr>
          <a:xfrm>
            <a:off x="722304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95904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258804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419760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578844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738864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3"/>
          <p:cNvSpPr/>
          <p:nvPr/>
        </p:nvSpPr>
        <p:spPr>
          <a:xfrm>
            <a:off x="3851280" y="1628640"/>
            <a:ext cx="42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欢迎合作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2B8-1C80-4BC8-9F77-C355ADB0EA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1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