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23A6-6B06-4C3F-86B7-DB6697F26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33D6-2F7E-4EBB-B33F-40507018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0397-0EB7-4028-8258-78712E50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A468-95CD-411B-A07B-33A19F387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94E3-8717-43EF-8BD4-64D7E387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4BD6-F365-43F4-AFEA-A8E81369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9F85-0917-45F2-9EEC-9B5E188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55C6-87C3-4B81-BDB0-3D20AF9BF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A05E-9224-4761-82E4-63C99F817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1FC3-D7E5-491B-81BC-F8B606F9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ADA72-2C06-41D1-9A5E-D88B78B2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FA2E-1729-4394-A6FB-580868259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3867-6C18-4F74-B8A8-FE267D76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1F7F-89A0-447B-B46F-A000C2B3F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98CA1-B4C8-4AD4-B403-5DD7F9666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6AC3-67B5-4A7F-AAB5-B570BE788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1656-DC24-4DB6-B2AD-9555209F6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BFB7-D349-4522-9FD6-021AFBD6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8953-285A-4C19-8138-3E8596017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0D36-CC2B-4480-BE3A-D94053943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3CE7-F91C-4E84-B1F4-43B8DF5D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9C6D-54C7-4B48-9A79-951F4700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9DC-F092-4EEE-99F4-96F7EC2E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50B-CB51-4F1E-9521-6886091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EE5D-A8E5-41CB-8167-6F0EE5F10C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C20-8CC0-4CA3-BAED-82394EEA69A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C998-2367-498A-8F2A-9CB28B2FDE5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0621-322D-446E-9D24-B0DEE3B91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组合 1"/>
          <p:cNvGrpSpPr/>
          <p:nvPr/>
        </p:nvGrpSpPr>
        <p:grpSpPr>
          <a:xfrm>
            <a:off x="2232000" y="2335320"/>
            <a:ext cx="2849760" cy="1190520"/>
            <a:chOff x="2232000" y="2335320"/>
            <a:chExt cx="2849760" cy="1190520"/>
          </a:xfrm>
        </p:grpSpPr>
        <p:sp>
          <p:nvSpPr>
            <p:cNvPr id="83" name="Freeform 4"/>
            <p:cNvSpPr/>
            <p:nvPr/>
          </p:nvSpPr>
          <p:spPr>
            <a:xfrm>
              <a:off x="2232000" y="2335320"/>
              <a:ext cx="2849760" cy="119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53"/>
            <p:cNvSpPr/>
            <p:nvPr/>
          </p:nvSpPr>
          <p:spPr>
            <a:xfrm>
              <a:off x="2557080" y="2770560"/>
              <a:ext cx="176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组合 4"/>
          <p:cNvGrpSpPr/>
          <p:nvPr/>
        </p:nvGrpSpPr>
        <p:grpSpPr>
          <a:xfrm>
            <a:off x="4527720" y="1143000"/>
            <a:ext cx="1244520" cy="2760840"/>
            <a:chOff x="4527720" y="1143000"/>
            <a:chExt cx="1244520" cy="2760840"/>
          </a:xfrm>
        </p:grpSpPr>
        <p:sp>
          <p:nvSpPr>
            <p:cNvPr id="86" name="Freeform 7"/>
            <p:cNvSpPr/>
            <p:nvPr/>
          </p:nvSpPr>
          <p:spPr>
            <a:xfrm>
              <a:off x="4527720" y="1143000"/>
              <a:ext cx="1244520" cy="2760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53"/>
            <p:cNvSpPr/>
            <p:nvPr/>
          </p:nvSpPr>
          <p:spPr>
            <a:xfrm>
              <a:off x="4890240" y="1633680"/>
              <a:ext cx="434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组合 7"/>
          <p:cNvGrpSpPr/>
          <p:nvPr/>
        </p:nvGrpSpPr>
        <p:grpSpPr>
          <a:xfrm>
            <a:off x="3438360" y="3063960"/>
            <a:ext cx="1238400" cy="2752560"/>
            <a:chOff x="3438360" y="3063960"/>
            <a:chExt cx="1238400" cy="2752560"/>
          </a:xfrm>
        </p:grpSpPr>
        <p:sp>
          <p:nvSpPr>
            <p:cNvPr id="89" name="Freeform 5"/>
            <p:cNvSpPr/>
            <p:nvPr/>
          </p:nvSpPr>
          <p:spPr>
            <a:xfrm>
              <a:off x="3438360" y="3063960"/>
              <a:ext cx="1238400" cy="275256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53"/>
            <p:cNvSpPr/>
            <p:nvPr/>
          </p:nvSpPr>
          <p:spPr>
            <a:xfrm>
              <a:off x="4025520" y="4061880"/>
              <a:ext cx="4352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10"/>
          <p:cNvGrpSpPr/>
          <p:nvPr/>
        </p:nvGrpSpPr>
        <p:grpSpPr>
          <a:xfrm>
            <a:off x="4114800" y="3467160"/>
            <a:ext cx="2847960" cy="1190520"/>
            <a:chOff x="4114800" y="3467160"/>
            <a:chExt cx="2847960" cy="1190520"/>
          </a:xfrm>
        </p:grpSpPr>
        <p:sp>
          <p:nvSpPr>
            <p:cNvPr id="92" name="Freeform 6"/>
            <p:cNvSpPr/>
            <p:nvPr/>
          </p:nvSpPr>
          <p:spPr>
            <a:xfrm>
              <a:off x="4114800" y="3467160"/>
              <a:ext cx="2847960" cy="1190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d7d7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53"/>
            <p:cNvSpPr/>
            <p:nvPr/>
          </p:nvSpPr>
          <p:spPr>
            <a:xfrm>
              <a:off x="4889880" y="3902400"/>
              <a:ext cx="1762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Oval 8"/>
          <p:cNvSpPr/>
          <p:nvPr/>
        </p:nvSpPr>
        <p:spPr>
          <a:xfrm>
            <a:off x="4114800" y="3051000"/>
            <a:ext cx="890640" cy="8938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5:58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