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826-CDAF-4658-BB36-E8CF0A1C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0F3-3BDC-4722-93D0-BF4288E4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DD3-D6EA-4476-AEFF-FA8DD518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31D-8BED-4EDA-A387-57D5EAC4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941-8586-4133-B15D-3DD70A4B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D73-08D8-47C9-A54E-3BDFF23A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10A-7B08-432A-9A7E-37B68123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A2E-DE5A-46DA-B869-3A04B50B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246-4A08-4FB1-B046-D3D0420B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FE2-478F-4E20-A25C-24656424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791-9FF1-4BA8-9A5B-392E20B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544-3F0D-4FA5-947F-ABD6A3D9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0D1B-3A66-44B5-B467-828A90863A89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E135-9518-4B50-B57B-0A58BD05410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11"/>
          <p:cNvSpPr/>
          <p:nvPr/>
        </p:nvSpPr>
        <p:spPr>
          <a:xfrm>
            <a:off x="3783240" y="335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点</a:t>
            </a:r>
            <a:r>
              <a:rPr b="1" lang="zh-CN" sz="3600" spc="-1" strike="noStrike">
                <a:solidFill>
                  <a:srgbClr val="8fcf01"/>
                </a:solidFill>
                <a:latin typeface="华文楷体"/>
                <a:ea typeface="华文楷体"/>
              </a:rPr>
              <a:t>击</a:t>
            </a:r>
            <a:r>
              <a:rPr b="1" lang="zh-CN" sz="3600" spc="-1" strike="noStrike">
                <a:solidFill>
                  <a:srgbClr val="00b0f0"/>
                </a:solidFill>
                <a:latin typeface="华文楷体"/>
                <a:ea typeface="华文楷体"/>
              </a:rPr>
              <a:t>添</a:t>
            </a:r>
            <a:r>
              <a:rPr b="1" lang="zh-CN" sz="3600" spc="-1" strike="noStrike">
                <a:solidFill>
                  <a:srgbClr val="ffc000"/>
                </a:solidFill>
                <a:latin typeface="华文楷体"/>
                <a:ea typeface="华文楷体"/>
              </a:rPr>
              <a:t>加</a:t>
            </a:r>
            <a:r>
              <a:rPr b="1" lang="zh-CN" sz="3600" spc="-1" strike="noStrike">
                <a:solidFill>
                  <a:srgbClr val="e36c09"/>
                </a:solidFill>
                <a:latin typeface="华文楷体"/>
                <a:ea typeface="华文楷体"/>
              </a:rPr>
              <a:t>标</a:t>
            </a:r>
            <a:r>
              <a:rPr b="1" lang="zh-CN" sz="3600" spc="-1" strike="noStrike">
                <a:solidFill>
                  <a:srgbClr val="ff5ba5"/>
                </a:solidFill>
                <a:latin typeface="华文楷体"/>
                <a:ea typeface="华文楷体"/>
              </a:rPr>
              <a:t>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804760" y="1929960"/>
            <a:ext cx="3522600" cy="3522600"/>
            <a:chOff x="2804760" y="1929960"/>
            <a:chExt cx="3522600" cy="3522600"/>
          </a:xfrm>
        </p:grpSpPr>
        <p:sp>
          <p:nvSpPr>
            <p:cNvPr id="43" name="饼形 11"/>
            <p:cNvSpPr/>
            <p:nvPr/>
          </p:nvSpPr>
          <p:spPr>
            <a:xfrm rot="10800000">
              <a:off x="2804760" y="19299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饼形 9"/>
            <p:cNvSpPr/>
            <p:nvPr/>
          </p:nvSpPr>
          <p:spPr>
            <a:xfrm rot="10800000">
              <a:off x="3180960" y="22978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饼形 8"/>
            <p:cNvSpPr/>
            <p:nvPr/>
          </p:nvSpPr>
          <p:spPr>
            <a:xfrm rot="10800000">
              <a:off x="3431520" y="25488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饼形 7"/>
            <p:cNvSpPr/>
            <p:nvPr/>
          </p:nvSpPr>
          <p:spPr>
            <a:xfrm rot="10800000">
              <a:off x="3674520" y="27856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饼形 6"/>
            <p:cNvSpPr/>
            <p:nvPr/>
          </p:nvSpPr>
          <p:spPr>
            <a:xfrm rot="10800000">
              <a:off x="3832200" y="29527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804400" y="1928520"/>
            <a:ext cx="3522600" cy="3522600"/>
            <a:chOff x="2804400" y="1928520"/>
            <a:chExt cx="3522600" cy="3522600"/>
          </a:xfrm>
        </p:grpSpPr>
        <p:sp>
          <p:nvSpPr>
            <p:cNvPr id="49" name="饼形 16"/>
            <p:cNvSpPr/>
            <p:nvPr/>
          </p:nvSpPr>
          <p:spPr>
            <a:xfrm flipH="1" rot="10800000">
              <a:off x="2804040" y="192852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饼形 17"/>
            <p:cNvSpPr/>
            <p:nvPr/>
          </p:nvSpPr>
          <p:spPr>
            <a:xfrm flipH="1" rot="10800000">
              <a:off x="3180240" y="22968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饼形 18"/>
            <p:cNvSpPr/>
            <p:nvPr/>
          </p:nvSpPr>
          <p:spPr>
            <a:xfrm flipH="1" rot="10800000">
              <a:off x="3440520" y="254736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饼形 19"/>
            <p:cNvSpPr/>
            <p:nvPr/>
          </p:nvSpPr>
          <p:spPr>
            <a:xfrm flipH="1" rot="10800000">
              <a:off x="3686400" y="278424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饼形 20"/>
            <p:cNvSpPr/>
            <p:nvPr/>
          </p:nvSpPr>
          <p:spPr>
            <a:xfrm flipH="1" rot="10800000">
              <a:off x="3841560" y="29512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800080" y="1928160"/>
            <a:ext cx="3522600" cy="3522600"/>
            <a:chOff x="2800080" y="1928160"/>
            <a:chExt cx="3522600" cy="3522600"/>
          </a:xfrm>
        </p:grpSpPr>
        <p:sp>
          <p:nvSpPr>
            <p:cNvPr id="55" name="饼形 24"/>
            <p:cNvSpPr/>
            <p:nvPr/>
          </p:nvSpPr>
          <p:spPr>
            <a:xfrm flipV="1" rot="10800000">
              <a:off x="2800080" y="192780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饼形 25"/>
            <p:cNvSpPr/>
            <p:nvPr/>
          </p:nvSpPr>
          <p:spPr>
            <a:xfrm flipV="1" rot="10800000">
              <a:off x="3176280" y="231192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饼形 26"/>
            <p:cNvSpPr/>
            <p:nvPr/>
          </p:nvSpPr>
          <p:spPr>
            <a:xfrm flipV="1" rot="10800000">
              <a:off x="3426840" y="25722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饼形 27"/>
            <p:cNvSpPr/>
            <p:nvPr/>
          </p:nvSpPr>
          <p:spPr>
            <a:xfrm flipV="1" rot="10800000">
              <a:off x="3669840" y="28245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饼形 28"/>
            <p:cNvSpPr/>
            <p:nvPr/>
          </p:nvSpPr>
          <p:spPr>
            <a:xfrm flipV="1" rot="10800000">
              <a:off x="3827520" y="29700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99720" y="1928160"/>
            <a:ext cx="3522600" cy="3522600"/>
            <a:chOff x="2799720" y="1928160"/>
            <a:chExt cx="3522600" cy="3522600"/>
          </a:xfrm>
        </p:grpSpPr>
        <p:sp>
          <p:nvSpPr>
            <p:cNvPr id="61" name="饼形 31"/>
            <p:cNvSpPr/>
            <p:nvPr/>
          </p:nvSpPr>
          <p:spPr>
            <a:xfrm flipH="1" flipV="1" rot="10800000">
              <a:off x="2799360" y="1927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饼形 32"/>
            <p:cNvSpPr/>
            <p:nvPr/>
          </p:nvSpPr>
          <p:spPr>
            <a:xfrm flipH="1" flipV="1" rot="10800000">
              <a:off x="3175560" y="231192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饼形 33"/>
            <p:cNvSpPr/>
            <p:nvPr/>
          </p:nvSpPr>
          <p:spPr>
            <a:xfrm flipH="1" flipV="1" rot="10800000">
              <a:off x="3435840" y="257220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饼形 34"/>
            <p:cNvSpPr/>
            <p:nvPr/>
          </p:nvSpPr>
          <p:spPr>
            <a:xfrm flipH="1" flipV="1" rot="10800000">
              <a:off x="3681720" y="282456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饼形 35"/>
            <p:cNvSpPr/>
            <p:nvPr/>
          </p:nvSpPr>
          <p:spPr>
            <a:xfrm flipH="1" flipV="1" rot="10800000">
              <a:off x="3836880" y="29700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795040" y="1929240"/>
            <a:ext cx="3522600" cy="3522600"/>
            <a:chOff x="2795040" y="1929240"/>
            <a:chExt cx="3522600" cy="3522600"/>
          </a:xfrm>
        </p:grpSpPr>
        <p:sp>
          <p:nvSpPr>
            <p:cNvPr id="67" name="饼形 38"/>
            <p:cNvSpPr/>
            <p:nvPr/>
          </p:nvSpPr>
          <p:spPr>
            <a:xfrm flipH="1" flipV="1" rot="5400000">
              <a:off x="2794680" y="192888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饼形 39"/>
            <p:cNvSpPr/>
            <p:nvPr/>
          </p:nvSpPr>
          <p:spPr>
            <a:xfrm flipH="1" flipV="1" rot="5400000">
              <a:off x="3178800" y="230508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饼形 40"/>
            <p:cNvSpPr/>
            <p:nvPr/>
          </p:nvSpPr>
          <p:spPr>
            <a:xfrm flipH="1" flipV="1" rot="5400000">
              <a:off x="3439080" y="255600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饼形 41"/>
            <p:cNvSpPr/>
            <p:nvPr/>
          </p:nvSpPr>
          <p:spPr>
            <a:xfrm flipH="1" flipV="1" rot="5400000">
              <a:off x="3691440" y="279900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饼形 42"/>
            <p:cNvSpPr/>
            <p:nvPr/>
          </p:nvSpPr>
          <p:spPr>
            <a:xfrm flipH="1" flipV="1" rot="5400000">
              <a:off x="3836880" y="29559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01520" y="1928880"/>
            <a:ext cx="3522600" cy="3522600"/>
            <a:chOff x="2801520" y="1928880"/>
            <a:chExt cx="3522600" cy="3522600"/>
          </a:xfrm>
        </p:grpSpPr>
        <p:sp>
          <p:nvSpPr>
            <p:cNvPr id="73" name="饼形 45"/>
            <p:cNvSpPr/>
            <p:nvPr/>
          </p:nvSpPr>
          <p:spPr>
            <a:xfrm rot="5400000">
              <a:off x="2801520" y="19285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饼形 46"/>
            <p:cNvSpPr/>
            <p:nvPr/>
          </p:nvSpPr>
          <p:spPr>
            <a:xfrm rot="5400000">
              <a:off x="3169800" y="230472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饼形 47"/>
            <p:cNvSpPr/>
            <p:nvPr/>
          </p:nvSpPr>
          <p:spPr>
            <a:xfrm rot="5400000">
              <a:off x="3420360" y="25650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饼形 48"/>
            <p:cNvSpPr/>
            <p:nvPr/>
          </p:nvSpPr>
          <p:spPr>
            <a:xfrm rot="5400000">
              <a:off x="3657240" y="28112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饼形 49"/>
            <p:cNvSpPr/>
            <p:nvPr/>
          </p:nvSpPr>
          <p:spPr>
            <a:xfrm rot="5400000">
              <a:off x="3824280" y="29653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98640" y="1928880"/>
            <a:ext cx="3522960" cy="3522600"/>
            <a:chOff x="2798640" y="1928880"/>
            <a:chExt cx="3522960" cy="3522600"/>
          </a:xfrm>
        </p:grpSpPr>
        <p:sp>
          <p:nvSpPr>
            <p:cNvPr id="79" name="饼形 52"/>
            <p:cNvSpPr/>
            <p:nvPr/>
          </p:nvSpPr>
          <p:spPr>
            <a:xfrm flipH="1" rot="16200000">
              <a:off x="2798640" y="1928520"/>
              <a:ext cx="3522600" cy="352296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0 h 3522960"/>
                <a:gd name="textAreaBottom" fmla="*/ 3523320 h 35229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饼形 53"/>
            <p:cNvSpPr/>
            <p:nvPr/>
          </p:nvSpPr>
          <p:spPr>
            <a:xfrm flipH="1" rot="16200000">
              <a:off x="3182760" y="2304720"/>
              <a:ext cx="2770200" cy="277056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0 h 2770560"/>
                <a:gd name="textAreaBottom" fmla="*/ 2770920 h 27705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饼形 54"/>
            <p:cNvSpPr/>
            <p:nvPr/>
          </p:nvSpPr>
          <p:spPr>
            <a:xfrm flipH="1" rot="16200000">
              <a:off x="3443040" y="2565000"/>
              <a:ext cx="2259000" cy="225936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0 h 2259360"/>
                <a:gd name="textAreaBottom" fmla="*/ 2259720 h 2259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饼形 55"/>
            <p:cNvSpPr/>
            <p:nvPr/>
          </p:nvSpPr>
          <p:spPr>
            <a:xfrm flipH="1" rot="16200000">
              <a:off x="3694320" y="281124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饼形 56"/>
            <p:cNvSpPr/>
            <p:nvPr/>
          </p:nvSpPr>
          <p:spPr>
            <a:xfrm flipH="1" rot="16200000">
              <a:off x="3839040" y="2964960"/>
              <a:ext cx="1458720" cy="1459080"/>
            </a:xfrm>
            <a:custGeom>
              <a:avLst/>
              <a:gdLst>
                <a:gd name="textAreaLeft" fmla="*/ 0 w 1458720"/>
                <a:gd name="textAreaRight" fmla="*/ 1458720 w 145872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00080" y="1920600"/>
            <a:ext cx="3522600" cy="3522600"/>
            <a:chOff x="2800080" y="1920600"/>
            <a:chExt cx="3522600" cy="3522600"/>
          </a:xfrm>
        </p:grpSpPr>
        <p:sp>
          <p:nvSpPr>
            <p:cNvPr id="85" name="饼形 60"/>
            <p:cNvSpPr/>
            <p:nvPr/>
          </p:nvSpPr>
          <p:spPr>
            <a:xfrm flipV="1" rot="16200000">
              <a:off x="2800080" y="192024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饼形 61"/>
            <p:cNvSpPr/>
            <p:nvPr/>
          </p:nvSpPr>
          <p:spPr>
            <a:xfrm flipV="1" rot="16200000">
              <a:off x="3168360" y="2296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饼形 62"/>
            <p:cNvSpPr/>
            <p:nvPr/>
          </p:nvSpPr>
          <p:spPr>
            <a:xfrm flipV="1" rot="16200000">
              <a:off x="3418920" y="25470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饼形 63"/>
            <p:cNvSpPr/>
            <p:nvPr/>
          </p:nvSpPr>
          <p:spPr>
            <a:xfrm flipV="1" rot="16200000">
              <a:off x="3655800" y="279000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饼形 64"/>
            <p:cNvSpPr/>
            <p:nvPr/>
          </p:nvSpPr>
          <p:spPr>
            <a:xfrm flipV="1" rot="16200000">
              <a:off x="3822840" y="2948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625320"/>
            <a:ext cx="533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动感彩虹多色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0.17395 -0.53796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16476 -0.53819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-0.49878 -0.27825 E">
                                      <p:cBhvr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-0.49896 0.25602 E"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4843 0.46204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14289 0.46204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50139 0.26644 E">
                                      <p:cBhvr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50156 -0.25879 E">
                                      <p:cBhvr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04046E-006 L 0.17395 -0.53734 E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5434E-006 L 0.50156 -0.25849 E">
                                      <p:cBhvr>
                                        <p:cTn id="2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0.50139 0.26613 E">
                                      <p:cBhvr>
                                        <p:cTn id="2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0.14289 0.4615 E">
                                      <p:cBhvr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-0.14843 0.4615 E">
                                      <p:cBhvr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4046E-006 L -0.49896 0.25572 E">
                                      <p:cBhvr>
                                        <p:cTn id="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-0.49878 -0.27791 E">
                                      <p:cBhvr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5434E-006 L -0.16476 -0.53757 E">
                                      <p:cBhvr>
                                        <p:cTn id="3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60" y="-1755720"/>
            <a:ext cx="3522600" cy="3517920"/>
            <a:chOff x="-360" y="-1755720"/>
            <a:chExt cx="3522600" cy="3517920"/>
          </a:xfrm>
        </p:grpSpPr>
        <p:sp>
          <p:nvSpPr>
            <p:cNvPr id="93" name="饼形 45"/>
            <p:cNvSpPr/>
            <p:nvPr/>
          </p:nvSpPr>
          <p:spPr>
            <a:xfrm rot="5400000">
              <a:off x="1800" y="-1757880"/>
              <a:ext cx="3517920" cy="3522600"/>
            </a:xfrm>
            <a:custGeom>
              <a:avLst/>
              <a:gdLst>
                <a:gd name="textAreaLeft" fmla="*/ 0 w 3517920"/>
                <a:gd name="textAreaRight" fmla="*/ 351828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饼形 46"/>
            <p:cNvSpPr/>
            <p:nvPr/>
          </p:nvSpPr>
          <p:spPr>
            <a:xfrm rot="5400000">
              <a:off x="369360" y="-1381680"/>
              <a:ext cx="2766600" cy="277020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饼形 47"/>
            <p:cNvSpPr/>
            <p:nvPr/>
          </p:nvSpPr>
          <p:spPr>
            <a:xfrm rot="5400000">
              <a:off x="619560" y="-1121040"/>
              <a:ext cx="2256120" cy="2259000"/>
            </a:xfrm>
            <a:custGeom>
              <a:avLst/>
              <a:gdLst>
                <a:gd name="textAreaLeft" fmla="*/ 0 w 2256120"/>
                <a:gd name="textAreaRight" fmla="*/ 225648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饼形 48"/>
            <p:cNvSpPr/>
            <p:nvPr/>
          </p:nvSpPr>
          <p:spPr>
            <a:xfrm rot="5400000">
              <a:off x="856440" y="-875160"/>
              <a:ext cx="1767600" cy="17701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饼形 49"/>
            <p:cNvSpPr/>
            <p:nvPr/>
          </p:nvSpPr>
          <p:spPr>
            <a:xfrm rot="5400000">
              <a:off x="1023120" y="-721080"/>
              <a:ext cx="1456920" cy="145872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381440" y="-360"/>
            <a:ext cx="3522600" cy="3522600"/>
            <a:chOff x="7381440" y="-360"/>
            <a:chExt cx="3522600" cy="3522600"/>
          </a:xfrm>
        </p:grpSpPr>
        <p:sp>
          <p:nvSpPr>
            <p:cNvPr id="99" name="饼形 11"/>
            <p:cNvSpPr/>
            <p:nvPr/>
          </p:nvSpPr>
          <p:spPr>
            <a:xfrm rot="10800000">
              <a:off x="7381440" y="-3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饼形 9"/>
            <p:cNvSpPr/>
            <p:nvPr/>
          </p:nvSpPr>
          <p:spPr>
            <a:xfrm rot="10800000">
              <a:off x="7757640" y="36756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饼形 8"/>
            <p:cNvSpPr/>
            <p:nvPr/>
          </p:nvSpPr>
          <p:spPr>
            <a:xfrm rot="10800000">
              <a:off x="8008200" y="61848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饼形 7"/>
            <p:cNvSpPr/>
            <p:nvPr/>
          </p:nvSpPr>
          <p:spPr>
            <a:xfrm rot="10800000">
              <a:off x="8251200" y="85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饼形 6"/>
            <p:cNvSpPr/>
            <p:nvPr/>
          </p:nvSpPr>
          <p:spPr>
            <a:xfrm rot="10800000">
              <a:off x="8408880" y="1022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-1756440" y="-360"/>
            <a:ext cx="3516120" cy="3522600"/>
            <a:chOff x="-1756440" y="-360"/>
            <a:chExt cx="3516120" cy="3522600"/>
          </a:xfrm>
        </p:grpSpPr>
        <p:sp>
          <p:nvSpPr>
            <p:cNvPr id="105" name="饼形 16"/>
            <p:cNvSpPr/>
            <p:nvPr/>
          </p:nvSpPr>
          <p:spPr>
            <a:xfrm flipH="1" rot="10800000">
              <a:off x="-1756800" y="-36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饼形 17"/>
            <p:cNvSpPr/>
            <p:nvPr/>
          </p:nvSpPr>
          <p:spPr>
            <a:xfrm flipH="1" rot="10800000">
              <a:off x="-1380960" y="36792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饼形 18"/>
            <p:cNvSpPr/>
            <p:nvPr/>
          </p:nvSpPr>
          <p:spPr>
            <a:xfrm flipH="1" rot="10800000">
              <a:off x="-1119960" y="61848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饼形 19"/>
            <p:cNvSpPr/>
            <p:nvPr/>
          </p:nvSpPr>
          <p:spPr>
            <a:xfrm flipH="1" rot="10800000">
              <a:off x="-874440" y="85536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饼形 20"/>
            <p:cNvSpPr/>
            <p:nvPr/>
          </p:nvSpPr>
          <p:spPr>
            <a:xfrm flipH="1" rot="10800000">
              <a:off x="-721800" y="102240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381440" y="3334680"/>
            <a:ext cx="3522600" cy="3522600"/>
            <a:chOff x="7381440" y="3334680"/>
            <a:chExt cx="3522600" cy="3522600"/>
          </a:xfrm>
        </p:grpSpPr>
        <p:sp>
          <p:nvSpPr>
            <p:cNvPr id="111" name="饼形 24"/>
            <p:cNvSpPr/>
            <p:nvPr/>
          </p:nvSpPr>
          <p:spPr>
            <a:xfrm flipV="1" rot="10800000">
              <a:off x="7381440" y="33343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饼形 25"/>
            <p:cNvSpPr/>
            <p:nvPr/>
          </p:nvSpPr>
          <p:spPr>
            <a:xfrm flipV="1" rot="10800000">
              <a:off x="7757640" y="3718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饼形 26"/>
            <p:cNvSpPr/>
            <p:nvPr/>
          </p:nvSpPr>
          <p:spPr>
            <a:xfrm flipV="1" rot="10800000">
              <a:off x="8008200" y="397872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饼形 27"/>
            <p:cNvSpPr/>
            <p:nvPr/>
          </p:nvSpPr>
          <p:spPr>
            <a:xfrm flipV="1" rot="10800000">
              <a:off x="8251200" y="42310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饼形 28"/>
            <p:cNvSpPr/>
            <p:nvPr/>
          </p:nvSpPr>
          <p:spPr>
            <a:xfrm flipV="1" rot="10800000">
              <a:off x="8408880" y="43765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-1756440" y="3334680"/>
            <a:ext cx="3516120" cy="3522600"/>
            <a:chOff x="-1756440" y="3334680"/>
            <a:chExt cx="3516120" cy="3522600"/>
          </a:xfrm>
        </p:grpSpPr>
        <p:sp>
          <p:nvSpPr>
            <p:cNvPr id="117" name="饼形 31"/>
            <p:cNvSpPr/>
            <p:nvPr/>
          </p:nvSpPr>
          <p:spPr>
            <a:xfrm flipH="1" flipV="1" rot="10800000">
              <a:off x="-1756800" y="333432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饼形 32"/>
            <p:cNvSpPr/>
            <p:nvPr/>
          </p:nvSpPr>
          <p:spPr>
            <a:xfrm flipH="1" flipV="1" rot="10800000">
              <a:off x="-1380960" y="371844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饼形 33"/>
            <p:cNvSpPr/>
            <p:nvPr/>
          </p:nvSpPr>
          <p:spPr>
            <a:xfrm flipH="1" flipV="1" rot="10800000">
              <a:off x="-1119960" y="397872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饼形 34"/>
            <p:cNvSpPr/>
            <p:nvPr/>
          </p:nvSpPr>
          <p:spPr>
            <a:xfrm flipH="1" flipV="1" rot="10800000">
              <a:off x="-874440" y="423108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饼形 35"/>
            <p:cNvSpPr/>
            <p:nvPr/>
          </p:nvSpPr>
          <p:spPr>
            <a:xfrm flipH="1" flipV="1" rot="10800000">
              <a:off x="-721800" y="437652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620680" y="5096160"/>
            <a:ext cx="3522600" cy="3522600"/>
            <a:chOff x="5620680" y="5096160"/>
            <a:chExt cx="3522600" cy="3522600"/>
          </a:xfrm>
        </p:grpSpPr>
        <p:sp>
          <p:nvSpPr>
            <p:cNvPr id="123" name="饼形 38"/>
            <p:cNvSpPr/>
            <p:nvPr/>
          </p:nvSpPr>
          <p:spPr>
            <a:xfrm flipH="1" flipV="1" rot="5400000">
              <a:off x="5620320" y="5095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饼形 39"/>
            <p:cNvSpPr/>
            <p:nvPr/>
          </p:nvSpPr>
          <p:spPr>
            <a:xfrm flipH="1" flipV="1" rot="5400000">
              <a:off x="6004440" y="54720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饼形 40"/>
            <p:cNvSpPr/>
            <p:nvPr/>
          </p:nvSpPr>
          <p:spPr>
            <a:xfrm flipH="1" flipV="1" rot="5400000">
              <a:off x="6264720" y="572292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饼形 41"/>
            <p:cNvSpPr/>
            <p:nvPr/>
          </p:nvSpPr>
          <p:spPr>
            <a:xfrm flipH="1" flipV="1" rot="5400000">
              <a:off x="6517080" y="5965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饼形 42"/>
            <p:cNvSpPr/>
            <p:nvPr/>
          </p:nvSpPr>
          <p:spPr>
            <a:xfrm flipH="1" flipV="1" rot="5400000">
              <a:off x="666252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620680" y="-1755720"/>
            <a:ext cx="3522600" cy="3517920"/>
            <a:chOff x="5620680" y="-1755720"/>
            <a:chExt cx="3522600" cy="3517920"/>
          </a:xfrm>
        </p:grpSpPr>
        <p:sp>
          <p:nvSpPr>
            <p:cNvPr id="129" name="饼形 52"/>
            <p:cNvSpPr/>
            <p:nvPr/>
          </p:nvSpPr>
          <p:spPr>
            <a:xfrm flipH="1" rot="16200000">
              <a:off x="5622480" y="-1757880"/>
              <a:ext cx="3517920" cy="3522600"/>
            </a:xfrm>
            <a:custGeom>
              <a:avLst/>
              <a:gdLst>
                <a:gd name="textAreaLeft" fmla="*/ 360 w 3517920"/>
                <a:gd name="textAreaRight" fmla="*/ 351864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饼形 53"/>
            <p:cNvSpPr/>
            <p:nvPr/>
          </p:nvSpPr>
          <p:spPr>
            <a:xfrm flipH="1" rot="16200000">
              <a:off x="6006240" y="-1381320"/>
              <a:ext cx="2766600" cy="2770200"/>
            </a:xfrm>
            <a:custGeom>
              <a:avLst/>
              <a:gdLst>
                <a:gd name="textAreaLeft" fmla="*/ -360 w 2766600"/>
                <a:gd name="textAreaRight" fmla="*/ 276660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饼形 54"/>
            <p:cNvSpPr/>
            <p:nvPr/>
          </p:nvSpPr>
          <p:spPr>
            <a:xfrm flipH="1" rot="16200000">
              <a:off x="6266160" y="-1120680"/>
              <a:ext cx="2256120" cy="2259000"/>
            </a:xfrm>
            <a:custGeom>
              <a:avLst/>
              <a:gdLst>
                <a:gd name="textAreaLeft" fmla="*/ -360 w 2256120"/>
                <a:gd name="textAreaRight" fmla="*/ 225612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饼形 55"/>
            <p:cNvSpPr/>
            <p:nvPr/>
          </p:nvSpPr>
          <p:spPr>
            <a:xfrm flipH="1" rot="16200000">
              <a:off x="6518160" y="-875160"/>
              <a:ext cx="1767600" cy="1770120"/>
            </a:xfrm>
            <a:custGeom>
              <a:avLst/>
              <a:gdLst>
                <a:gd name="textAreaLeft" fmla="*/ 360 w 1767600"/>
                <a:gd name="textAreaRight" fmla="*/ 176832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饼形 56"/>
            <p:cNvSpPr/>
            <p:nvPr/>
          </p:nvSpPr>
          <p:spPr>
            <a:xfrm flipH="1" rot="16200000">
              <a:off x="6663240" y="-721080"/>
              <a:ext cx="1456920" cy="1458720"/>
            </a:xfrm>
            <a:custGeom>
              <a:avLst/>
              <a:gdLst>
                <a:gd name="textAreaLeft" fmla="*/ -360 w 1456920"/>
                <a:gd name="textAreaRight" fmla="*/ 145692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360" y="5095440"/>
            <a:ext cx="3522600" cy="3522600"/>
            <a:chOff x="-360" y="5095440"/>
            <a:chExt cx="3522600" cy="3522600"/>
          </a:xfrm>
        </p:grpSpPr>
        <p:sp>
          <p:nvSpPr>
            <p:cNvPr id="135" name="饼形 60"/>
            <p:cNvSpPr/>
            <p:nvPr/>
          </p:nvSpPr>
          <p:spPr>
            <a:xfrm flipV="1" rot="16200000">
              <a:off x="-360" y="509508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饼形 61"/>
            <p:cNvSpPr/>
            <p:nvPr/>
          </p:nvSpPr>
          <p:spPr>
            <a:xfrm flipV="1" rot="16200000">
              <a:off x="367920" y="54712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饼形 62"/>
            <p:cNvSpPr/>
            <p:nvPr/>
          </p:nvSpPr>
          <p:spPr>
            <a:xfrm flipV="1" rot="16200000">
              <a:off x="618480" y="572184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饼形 63"/>
            <p:cNvSpPr/>
            <p:nvPr/>
          </p:nvSpPr>
          <p:spPr>
            <a:xfrm flipV="1" rot="16200000">
              <a:off x="855360" y="59648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饼形 64"/>
            <p:cNvSpPr/>
            <p:nvPr/>
          </p:nvSpPr>
          <p:spPr>
            <a:xfrm flipV="1" rot="16200000">
              <a:off x="102240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Box 50"/>
          <p:cNvSpPr/>
          <p:nvPr/>
        </p:nvSpPr>
        <p:spPr>
          <a:xfrm>
            <a:off x="3635640" y="2997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点击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360" y="-1755720"/>
            <a:ext cx="3522600" cy="3517920"/>
            <a:chOff x="-360" y="-1755720"/>
            <a:chExt cx="3522600" cy="3517920"/>
          </a:xfrm>
        </p:grpSpPr>
        <p:sp>
          <p:nvSpPr>
            <p:cNvPr id="142" name="饼形 45"/>
            <p:cNvSpPr/>
            <p:nvPr/>
          </p:nvSpPr>
          <p:spPr>
            <a:xfrm rot="5400000">
              <a:off x="1800" y="-1757880"/>
              <a:ext cx="3517920" cy="3522600"/>
            </a:xfrm>
            <a:custGeom>
              <a:avLst/>
              <a:gdLst>
                <a:gd name="textAreaLeft" fmla="*/ 0 w 3517920"/>
                <a:gd name="textAreaRight" fmla="*/ 351828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饼形 46"/>
            <p:cNvSpPr/>
            <p:nvPr/>
          </p:nvSpPr>
          <p:spPr>
            <a:xfrm rot="5400000">
              <a:off x="369360" y="-1381680"/>
              <a:ext cx="2766600" cy="277020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饼形 47"/>
            <p:cNvSpPr/>
            <p:nvPr/>
          </p:nvSpPr>
          <p:spPr>
            <a:xfrm rot="5400000">
              <a:off x="619560" y="-1121040"/>
              <a:ext cx="2256120" cy="2259000"/>
            </a:xfrm>
            <a:custGeom>
              <a:avLst/>
              <a:gdLst>
                <a:gd name="textAreaLeft" fmla="*/ 0 w 2256120"/>
                <a:gd name="textAreaRight" fmla="*/ 225648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饼形 48"/>
            <p:cNvSpPr/>
            <p:nvPr/>
          </p:nvSpPr>
          <p:spPr>
            <a:xfrm rot="5400000">
              <a:off x="856440" y="-875160"/>
              <a:ext cx="1767600" cy="17701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饼形 49"/>
            <p:cNvSpPr/>
            <p:nvPr/>
          </p:nvSpPr>
          <p:spPr>
            <a:xfrm rot="5400000">
              <a:off x="1023120" y="-721080"/>
              <a:ext cx="1456920" cy="145872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381440" y="-360"/>
            <a:ext cx="3522600" cy="3522600"/>
            <a:chOff x="7381440" y="-360"/>
            <a:chExt cx="3522600" cy="3522600"/>
          </a:xfrm>
        </p:grpSpPr>
        <p:sp>
          <p:nvSpPr>
            <p:cNvPr id="148" name="饼形 11"/>
            <p:cNvSpPr/>
            <p:nvPr/>
          </p:nvSpPr>
          <p:spPr>
            <a:xfrm rot="10800000">
              <a:off x="7381440" y="-3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饼形 9"/>
            <p:cNvSpPr/>
            <p:nvPr/>
          </p:nvSpPr>
          <p:spPr>
            <a:xfrm rot="10800000">
              <a:off x="7757640" y="36756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饼形 8"/>
            <p:cNvSpPr/>
            <p:nvPr/>
          </p:nvSpPr>
          <p:spPr>
            <a:xfrm rot="10800000">
              <a:off x="8008200" y="61848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饼形 7"/>
            <p:cNvSpPr/>
            <p:nvPr/>
          </p:nvSpPr>
          <p:spPr>
            <a:xfrm rot="10800000">
              <a:off x="8251200" y="85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饼形 6"/>
            <p:cNvSpPr/>
            <p:nvPr/>
          </p:nvSpPr>
          <p:spPr>
            <a:xfrm rot="10800000">
              <a:off x="8408880" y="1022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-1756440" y="-360"/>
            <a:ext cx="3516120" cy="3522600"/>
            <a:chOff x="-1756440" y="-360"/>
            <a:chExt cx="3516120" cy="3522600"/>
          </a:xfrm>
        </p:grpSpPr>
        <p:sp>
          <p:nvSpPr>
            <p:cNvPr id="154" name="饼形 16"/>
            <p:cNvSpPr/>
            <p:nvPr/>
          </p:nvSpPr>
          <p:spPr>
            <a:xfrm flipH="1" rot="10800000">
              <a:off x="-1756800" y="-36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饼形 17"/>
            <p:cNvSpPr/>
            <p:nvPr/>
          </p:nvSpPr>
          <p:spPr>
            <a:xfrm flipH="1" rot="10800000">
              <a:off x="-1380960" y="36792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饼形 18"/>
            <p:cNvSpPr/>
            <p:nvPr/>
          </p:nvSpPr>
          <p:spPr>
            <a:xfrm flipH="1" rot="10800000">
              <a:off x="-1119960" y="61848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饼形 19"/>
            <p:cNvSpPr/>
            <p:nvPr/>
          </p:nvSpPr>
          <p:spPr>
            <a:xfrm flipH="1" rot="10800000">
              <a:off x="-874440" y="85536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饼形 20"/>
            <p:cNvSpPr/>
            <p:nvPr/>
          </p:nvSpPr>
          <p:spPr>
            <a:xfrm flipH="1" rot="10800000">
              <a:off x="-721800" y="102240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381440" y="3334680"/>
            <a:ext cx="3522600" cy="3522600"/>
            <a:chOff x="7381440" y="3334680"/>
            <a:chExt cx="3522600" cy="3522600"/>
          </a:xfrm>
        </p:grpSpPr>
        <p:sp>
          <p:nvSpPr>
            <p:cNvPr id="160" name="饼形 24"/>
            <p:cNvSpPr/>
            <p:nvPr/>
          </p:nvSpPr>
          <p:spPr>
            <a:xfrm flipV="1" rot="10800000">
              <a:off x="7381440" y="33343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饼形 25"/>
            <p:cNvSpPr/>
            <p:nvPr/>
          </p:nvSpPr>
          <p:spPr>
            <a:xfrm flipV="1" rot="10800000">
              <a:off x="7757640" y="3718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饼形 26"/>
            <p:cNvSpPr/>
            <p:nvPr/>
          </p:nvSpPr>
          <p:spPr>
            <a:xfrm flipV="1" rot="10800000">
              <a:off x="8008200" y="397872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饼形 27"/>
            <p:cNvSpPr/>
            <p:nvPr/>
          </p:nvSpPr>
          <p:spPr>
            <a:xfrm flipV="1" rot="10800000">
              <a:off x="8251200" y="42310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饼形 28"/>
            <p:cNvSpPr/>
            <p:nvPr/>
          </p:nvSpPr>
          <p:spPr>
            <a:xfrm flipV="1" rot="10800000">
              <a:off x="8408880" y="43765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-1756440" y="3334680"/>
            <a:ext cx="3516120" cy="3522600"/>
            <a:chOff x="-1756440" y="3334680"/>
            <a:chExt cx="3516120" cy="3522600"/>
          </a:xfrm>
        </p:grpSpPr>
        <p:sp>
          <p:nvSpPr>
            <p:cNvPr id="166" name="饼形 31"/>
            <p:cNvSpPr/>
            <p:nvPr/>
          </p:nvSpPr>
          <p:spPr>
            <a:xfrm flipH="1" flipV="1" rot="10800000">
              <a:off x="-1756800" y="333432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饼形 32"/>
            <p:cNvSpPr/>
            <p:nvPr/>
          </p:nvSpPr>
          <p:spPr>
            <a:xfrm flipH="1" flipV="1" rot="10800000">
              <a:off x="-1380960" y="371844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饼形 33"/>
            <p:cNvSpPr/>
            <p:nvPr/>
          </p:nvSpPr>
          <p:spPr>
            <a:xfrm flipH="1" flipV="1" rot="10800000">
              <a:off x="-1119960" y="397872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饼形 34"/>
            <p:cNvSpPr/>
            <p:nvPr/>
          </p:nvSpPr>
          <p:spPr>
            <a:xfrm flipH="1" flipV="1" rot="10800000">
              <a:off x="-874440" y="423108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饼形 35"/>
            <p:cNvSpPr/>
            <p:nvPr/>
          </p:nvSpPr>
          <p:spPr>
            <a:xfrm flipH="1" flipV="1" rot="10800000">
              <a:off x="-721800" y="437652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620680" y="5096160"/>
            <a:ext cx="3522600" cy="3522600"/>
            <a:chOff x="5620680" y="5096160"/>
            <a:chExt cx="3522600" cy="3522600"/>
          </a:xfrm>
        </p:grpSpPr>
        <p:sp>
          <p:nvSpPr>
            <p:cNvPr id="172" name="饼形 38"/>
            <p:cNvSpPr/>
            <p:nvPr/>
          </p:nvSpPr>
          <p:spPr>
            <a:xfrm flipH="1" flipV="1" rot="5400000">
              <a:off x="5620320" y="5095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饼形 39"/>
            <p:cNvSpPr/>
            <p:nvPr/>
          </p:nvSpPr>
          <p:spPr>
            <a:xfrm flipH="1" flipV="1" rot="5400000">
              <a:off x="6004440" y="54720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饼形 40"/>
            <p:cNvSpPr/>
            <p:nvPr/>
          </p:nvSpPr>
          <p:spPr>
            <a:xfrm flipH="1" flipV="1" rot="5400000">
              <a:off x="6264720" y="572292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饼形 41"/>
            <p:cNvSpPr/>
            <p:nvPr/>
          </p:nvSpPr>
          <p:spPr>
            <a:xfrm flipH="1" flipV="1" rot="5400000">
              <a:off x="6517080" y="5965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饼形 42"/>
            <p:cNvSpPr/>
            <p:nvPr/>
          </p:nvSpPr>
          <p:spPr>
            <a:xfrm flipH="1" flipV="1" rot="5400000">
              <a:off x="666252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620680" y="-1755720"/>
            <a:ext cx="3522600" cy="3517920"/>
            <a:chOff x="5620680" y="-1755720"/>
            <a:chExt cx="3522600" cy="3517920"/>
          </a:xfrm>
        </p:grpSpPr>
        <p:sp>
          <p:nvSpPr>
            <p:cNvPr id="178" name="饼形 52"/>
            <p:cNvSpPr/>
            <p:nvPr/>
          </p:nvSpPr>
          <p:spPr>
            <a:xfrm flipH="1" rot="16200000">
              <a:off x="5622480" y="-1757880"/>
              <a:ext cx="3517920" cy="3522600"/>
            </a:xfrm>
            <a:custGeom>
              <a:avLst/>
              <a:gdLst>
                <a:gd name="textAreaLeft" fmla="*/ 360 w 3517920"/>
                <a:gd name="textAreaRight" fmla="*/ 351864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饼形 53"/>
            <p:cNvSpPr/>
            <p:nvPr/>
          </p:nvSpPr>
          <p:spPr>
            <a:xfrm flipH="1" rot="16200000">
              <a:off x="6006240" y="-1381320"/>
              <a:ext cx="2766600" cy="2770200"/>
            </a:xfrm>
            <a:custGeom>
              <a:avLst/>
              <a:gdLst>
                <a:gd name="textAreaLeft" fmla="*/ -360 w 2766600"/>
                <a:gd name="textAreaRight" fmla="*/ 276660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饼形 54"/>
            <p:cNvSpPr/>
            <p:nvPr/>
          </p:nvSpPr>
          <p:spPr>
            <a:xfrm flipH="1" rot="16200000">
              <a:off x="6266160" y="-1120680"/>
              <a:ext cx="2256120" cy="2259000"/>
            </a:xfrm>
            <a:custGeom>
              <a:avLst/>
              <a:gdLst>
                <a:gd name="textAreaLeft" fmla="*/ -360 w 2256120"/>
                <a:gd name="textAreaRight" fmla="*/ 225612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饼形 55"/>
            <p:cNvSpPr/>
            <p:nvPr/>
          </p:nvSpPr>
          <p:spPr>
            <a:xfrm flipH="1" rot="16200000">
              <a:off x="6518160" y="-875160"/>
              <a:ext cx="1767600" cy="1770120"/>
            </a:xfrm>
            <a:custGeom>
              <a:avLst/>
              <a:gdLst>
                <a:gd name="textAreaLeft" fmla="*/ 360 w 1767600"/>
                <a:gd name="textAreaRight" fmla="*/ 176832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饼形 56"/>
            <p:cNvSpPr/>
            <p:nvPr/>
          </p:nvSpPr>
          <p:spPr>
            <a:xfrm flipH="1" rot="16200000">
              <a:off x="6663240" y="-721080"/>
              <a:ext cx="1456920" cy="1458720"/>
            </a:xfrm>
            <a:custGeom>
              <a:avLst/>
              <a:gdLst>
                <a:gd name="textAreaLeft" fmla="*/ -360 w 1456920"/>
                <a:gd name="textAreaRight" fmla="*/ 145692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-360" y="5095440"/>
            <a:ext cx="3522600" cy="3522600"/>
            <a:chOff x="-360" y="5095440"/>
            <a:chExt cx="3522600" cy="3522600"/>
          </a:xfrm>
        </p:grpSpPr>
        <p:sp>
          <p:nvSpPr>
            <p:cNvPr id="184" name="饼形 60"/>
            <p:cNvSpPr/>
            <p:nvPr/>
          </p:nvSpPr>
          <p:spPr>
            <a:xfrm flipV="1" rot="16200000">
              <a:off x="-360" y="509508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饼形 61"/>
            <p:cNvSpPr/>
            <p:nvPr/>
          </p:nvSpPr>
          <p:spPr>
            <a:xfrm flipV="1" rot="16200000">
              <a:off x="367920" y="54712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饼形 62"/>
            <p:cNvSpPr/>
            <p:nvPr/>
          </p:nvSpPr>
          <p:spPr>
            <a:xfrm flipV="1" rot="16200000">
              <a:off x="618480" y="572184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饼形 63"/>
            <p:cNvSpPr/>
            <p:nvPr/>
          </p:nvSpPr>
          <p:spPr>
            <a:xfrm flipV="1" rot="16200000">
              <a:off x="855360" y="59648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饼形 64"/>
            <p:cNvSpPr/>
            <p:nvPr/>
          </p:nvSpPr>
          <p:spPr>
            <a:xfrm flipV="1" rot="16200000">
              <a:off x="102240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43080" y="1928880"/>
            <a:ext cx="1263600" cy="1263600"/>
            <a:chOff x="2143080" y="1928880"/>
            <a:chExt cx="1263600" cy="1263600"/>
          </a:xfrm>
        </p:grpSpPr>
        <p:sp>
          <p:nvSpPr>
            <p:cNvPr id="190" name="饼形 57"/>
            <p:cNvSpPr/>
            <p:nvPr/>
          </p:nvSpPr>
          <p:spPr>
            <a:xfrm rot="10800000">
              <a:off x="2143080" y="1928880"/>
              <a:ext cx="1263600" cy="12636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饼形 58"/>
            <p:cNvSpPr/>
            <p:nvPr/>
          </p:nvSpPr>
          <p:spPr>
            <a:xfrm rot="10800000">
              <a:off x="2278800" y="2060640"/>
              <a:ext cx="993960" cy="9939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饼形 59"/>
            <p:cNvSpPr/>
            <p:nvPr/>
          </p:nvSpPr>
          <p:spPr>
            <a:xfrm rot="10800000">
              <a:off x="2368800" y="2150640"/>
              <a:ext cx="810360" cy="810360"/>
            </a:xfrm>
            <a:custGeom>
              <a:avLst/>
              <a:gdLst>
                <a:gd name="textAreaLeft" fmla="*/ 0 w 810360"/>
                <a:gd name="textAreaRight" fmla="*/ 810720 w 810360"/>
                <a:gd name="textAreaTop" fmla="*/ 0 h 810360"/>
                <a:gd name="textAreaBottom" fmla="*/ 810720 h 810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饼形 65"/>
            <p:cNvSpPr/>
            <p:nvPr/>
          </p:nvSpPr>
          <p:spPr>
            <a:xfrm rot="10800000">
              <a:off x="2455200" y="2235600"/>
              <a:ext cx="635040" cy="63504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饼形 66"/>
            <p:cNvSpPr/>
            <p:nvPr/>
          </p:nvSpPr>
          <p:spPr>
            <a:xfrm rot="10800000">
              <a:off x="2511360" y="2295360"/>
              <a:ext cx="523440" cy="52344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矩形 67"/>
          <p:cNvSpPr/>
          <p:nvPr/>
        </p:nvSpPr>
        <p:spPr>
          <a:xfrm>
            <a:off x="2857680" y="1928880"/>
            <a:ext cx="3429000" cy="64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143080" y="2857680"/>
            <a:ext cx="1279440" cy="1279440"/>
            <a:chOff x="2143080" y="2857680"/>
            <a:chExt cx="1279440" cy="1279440"/>
          </a:xfrm>
        </p:grpSpPr>
        <p:sp>
          <p:nvSpPr>
            <p:cNvPr id="197" name="饼形 82"/>
            <p:cNvSpPr/>
            <p:nvPr/>
          </p:nvSpPr>
          <p:spPr>
            <a:xfrm rot="10800000">
              <a:off x="2143080" y="2857680"/>
              <a:ext cx="1279440" cy="1279440"/>
            </a:xfrm>
            <a:custGeom>
              <a:avLst/>
              <a:gdLst>
                <a:gd name="textAreaLeft" fmla="*/ 0 w 1279440"/>
                <a:gd name="textAreaRight" fmla="*/ 1279800 w 127944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饼形 83"/>
            <p:cNvSpPr/>
            <p:nvPr/>
          </p:nvSpPr>
          <p:spPr>
            <a:xfrm rot="10800000">
              <a:off x="2279160" y="2990880"/>
              <a:ext cx="1006200" cy="100620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饼形 84"/>
            <p:cNvSpPr/>
            <p:nvPr/>
          </p:nvSpPr>
          <p:spPr>
            <a:xfrm rot="10800000">
              <a:off x="2370240" y="3081960"/>
              <a:ext cx="820440" cy="820440"/>
            </a:xfrm>
            <a:custGeom>
              <a:avLst/>
              <a:gdLst>
                <a:gd name="textAreaLeft" fmla="*/ 0 w 820440"/>
                <a:gd name="textAreaRight" fmla="*/ 820800 w 82044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饼形 85"/>
            <p:cNvSpPr/>
            <p:nvPr/>
          </p:nvSpPr>
          <p:spPr>
            <a:xfrm rot="10800000">
              <a:off x="2458800" y="3168360"/>
              <a:ext cx="642960" cy="6429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饼形 86"/>
            <p:cNvSpPr/>
            <p:nvPr/>
          </p:nvSpPr>
          <p:spPr>
            <a:xfrm rot="10800000">
              <a:off x="2516040" y="3228840"/>
              <a:ext cx="529920" cy="5299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矩形 87"/>
          <p:cNvSpPr/>
          <p:nvPr/>
        </p:nvSpPr>
        <p:spPr>
          <a:xfrm>
            <a:off x="2857680" y="2863800"/>
            <a:ext cx="3429000" cy="642960"/>
          </a:xfrm>
          <a:prstGeom prst="rect">
            <a:avLst/>
          </a:prstGeom>
          <a:solidFill>
            <a:srgbClr val="8fcf01">
              <a:alpha val="20000"/>
            </a:srgbClr>
          </a:solidFill>
          <a:ln w="25560">
            <a:solidFill>
              <a:srgbClr val="00b05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43080" y="3786120"/>
            <a:ext cx="1316160" cy="1316160"/>
            <a:chOff x="2143080" y="3786120"/>
            <a:chExt cx="1316160" cy="1316160"/>
          </a:xfrm>
        </p:grpSpPr>
        <p:sp>
          <p:nvSpPr>
            <p:cNvPr id="204" name="饼形 95"/>
            <p:cNvSpPr/>
            <p:nvPr/>
          </p:nvSpPr>
          <p:spPr>
            <a:xfrm rot="10800000">
              <a:off x="2143080" y="3786120"/>
              <a:ext cx="1316160" cy="1316160"/>
            </a:xfrm>
            <a:custGeom>
              <a:avLst/>
              <a:gdLst>
                <a:gd name="textAreaLeft" fmla="*/ 0 w 1316160"/>
                <a:gd name="textAreaRight" fmla="*/ 1316520 w 131616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饼形 96"/>
            <p:cNvSpPr/>
            <p:nvPr/>
          </p:nvSpPr>
          <p:spPr>
            <a:xfrm rot="10800000">
              <a:off x="2283120" y="3924720"/>
              <a:ext cx="1035000" cy="10350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饼形 97"/>
            <p:cNvSpPr/>
            <p:nvPr/>
          </p:nvSpPr>
          <p:spPr>
            <a:xfrm rot="10800000">
              <a:off x="2376720" y="4017960"/>
              <a:ext cx="844200" cy="84420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844200"/>
                <a:gd name="textAreaBottom" fmla="*/ 844560 h 8442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饼形 98"/>
            <p:cNvSpPr/>
            <p:nvPr/>
          </p:nvSpPr>
          <p:spPr>
            <a:xfrm rot="10800000">
              <a:off x="2467800" y="4106520"/>
              <a:ext cx="661320" cy="66132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61320"/>
                <a:gd name="textAreaBottom" fmla="*/ 661680 h 6613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饼形 99"/>
            <p:cNvSpPr/>
            <p:nvPr/>
          </p:nvSpPr>
          <p:spPr>
            <a:xfrm rot="10800000">
              <a:off x="2526840" y="4168080"/>
              <a:ext cx="545040" cy="545040"/>
            </a:xfrm>
            <a:custGeom>
              <a:avLst/>
              <a:gdLst>
                <a:gd name="textAreaLeft" fmla="*/ 0 w 545040"/>
                <a:gd name="textAreaRight" fmla="*/ 545400 w 545040"/>
                <a:gd name="textAreaTop" fmla="*/ 0 h 545040"/>
                <a:gd name="textAreaBottom" fmla="*/ 545400 h 54504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矩形 100"/>
          <p:cNvSpPr/>
          <p:nvPr/>
        </p:nvSpPr>
        <p:spPr>
          <a:xfrm>
            <a:off x="2857680" y="3786120"/>
            <a:ext cx="3429000" cy="642960"/>
          </a:xfrm>
          <a:prstGeom prst="rect">
            <a:avLst/>
          </a:prstGeom>
          <a:solidFill>
            <a:srgbClr val="0070c0">
              <a:alpha val="20000"/>
            </a:srgbClr>
          </a:solidFill>
          <a:ln w="25560">
            <a:solidFill>
              <a:srgbClr val="00b0f0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圆角矩形 107"/>
          <p:cNvSpPr/>
          <p:nvPr/>
        </p:nvSpPr>
        <p:spPr>
          <a:xfrm>
            <a:off x="1714680" y="1857240"/>
            <a:ext cx="5643360" cy="3857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-360" y="-1755720"/>
            <a:ext cx="3522600" cy="3517920"/>
            <a:chOff x="-360" y="-1755720"/>
            <a:chExt cx="3522600" cy="3517920"/>
          </a:xfrm>
        </p:grpSpPr>
        <p:sp>
          <p:nvSpPr>
            <p:cNvPr id="212" name="饼形 45"/>
            <p:cNvSpPr/>
            <p:nvPr/>
          </p:nvSpPr>
          <p:spPr>
            <a:xfrm rot="5400000">
              <a:off x="1800" y="-1757880"/>
              <a:ext cx="3517920" cy="3522600"/>
            </a:xfrm>
            <a:custGeom>
              <a:avLst/>
              <a:gdLst>
                <a:gd name="textAreaLeft" fmla="*/ 0 w 3517920"/>
                <a:gd name="textAreaRight" fmla="*/ 351828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饼形 46"/>
            <p:cNvSpPr/>
            <p:nvPr/>
          </p:nvSpPr>
          <p:spPr>
            <a:xfrm rot="5400000">
              <a:off x="369360" y="-1381680"/>
              <a:ext cx="2766600" cy="277020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饼形 47"/>
            <p:cNvSpPr/>
            <p:nvPr/>
          </p:nvSpPr>
          <p:spPr>
            <a:xfrm rot="5400000">
              <a:off x="619560" y="-1121040"/>
              <a:ext cx="2256120" cy="2259000"/>
            </a:xfrm>
            <a:custGeom>
              <a:avLst/>
              <a:gdLst>
                <a:gd name="textAreaLeft" fmla="*/ 0 w 2256120"/>
                <a:gd name="textAreaRight" fmla="*/ 225648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饼形 48"/>
            <p:cNvSpPr/>
            <p:nvPr/>
          </p:nvSpPr>
          <p:spPr>
            <a:xfrm rot="5400000">
              <a:off x="856440" y="-875160"/>
              <a:ext cx="1767600" cy="17701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饼形 49"/>
            <p:cNvSpPr/>
            <p:nvPr/>
          </p:nvSpPr>
          <p:spPr>
            <a:xfrm rot="5400000">
              <a:off x="1023120" y="-721080"/>
              <a:ext cx="1456920" cy="145872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381440" y="-360"/>
            <a:ext cx="3522600" cy="3522600"/>
            <a:chOff x="7381440" y="-360"/>
            <a:chExt cx="3522600" cy="3522600"/>
          </a:xfrm>
        </p:grpSpPr>
        <p:sp>
          <p:nvSpPr>
            <p:cNvPr id="218" name="饼形 11"/>
            <p:cNvSpPr/>
            <p:nvPr/>
          </p:nvSpPr>
          <p:spPr>
            <a:xfrm rot="10800000">
              <a:off x="7381440" y="-3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饼形 9"/>
            <p:cNvSpPr/>
            <p:nvPr/>
          </p:nvSpPr>
          <p:spPr>
            <a:xfrm rot="10800000">
              <a:off x="7757640" y="36756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饼形 8"/>
            <p:cNvSpPr/>
            <p:nvPr/>
          </p:nvSpPr>
          <p:spPr>
            <a:xfrm rot="10800000">
              <a:off x="8008200" y="61848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饼形 7"/>
            <p:cNvSpPr/>
            <p:nvPr/>
          </p:nvSpPr>
          <p:spPr>
            <a:xfrm rot="10800000">
              <a:off x="8251200" y="85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饼形 6"/>
            <p:cNvSpPr/>
            <p:nvPr/>
          </p:nvSpPr>
          <p:spPr>
            <a:xfrm rot="10800000">
              <a:off x="8408880" y="1022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-1756440" y="-360"/>
            <a:ext cx="3516120" cy="3522600"/>
            <a:chOff x="-1756440" y="-360"/>
            <a:chExt cx="3516120" cy="3522600"/>
          </a:xfrm>
        </p:grpSpPr>
        <p:sp>
          <p:nvSpPr>
            <p:cNvPr id="224" name="饼形 16"/>
            <p:cNvSpPr/>
            <p:nvPr/>
          </p:nvSpPr>
          <p:spPr>
            <a:xfrm flipH="1" rot="10800000">
              <a:off x="-1756800" y="-36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饼形 17"/>
            <p:cNvSpPr/>
            <p:nvPr/>
          </p:nvSpPr>
          <p:spPr>
            <a:xfrm flipH="1" rot="10800000">
              <a:off x="-1380960" y="36792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饼形 18"/>
            <p:cNvSpPr/>
            <p:nvPr/>
          </p:nvSpPr>
          <p:spPr>
            <a:xfrm flipH="1" rot="10800000">
              <a:off x="-1119960" y="61848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饼形 19"/>
            <p:cNvSpPr/>
            <p:nvPr/>
          </p:nvSpPr>
          <p:spPr>
            <a:xfrm flipH="1" rot="10800000">
              <a:off x="-874440" y="85536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饼形 20"/>
            <p:cNvSpPr/>
            <p:nvPr/>
          </p:nvSpPr>
          <p:spPr>
            <a:xfrm flipH="1" rot="10800000">
              <a:off x="-721800" y="102240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381440" y="3334680"/>
            <a:ext cx="3522600" cy="3522600"/>
            <a:chOff x="7381440" y="3334680"/>
            <a:chExt cx="3522600" cy="3522600"/>
          </a:xfrm>
        </p:grpSpPr>
        <p:sp>
          <p:nvSpPr>
            <p:cNvPr id="230" name="饼形 24"/>
            <p:cNvSpPr/>
            <p:nvPr/>
          </p:nvSpPr>
          <p:spPr>
            <a:xfrm flipV="1" rot="10800000">
              <a:off x="7381440" y="33343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饼形 25"/>
            <p:cNvSpPr/>
            <p:nvPr/>
          </p:nvSpPr>
          <p:spPr>
            <a:xfrm flipV="1" rot="10800000">
              <a:off x="7757640" y="3718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饼形 26"/>
            <p:cNvSpPr/>
            <p:nvPr/>
          </p:nvSpPr>
          <p:spPr>
            <a:xfrm flipV="1" rot="10800000">
              <a:off x="8008200" y="397872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饼形 27"/>
            <p:cNvSpPr/>
            <p:nvPr/>
          </p:nvSpPr>
          <p:spPr>
            <a:xfrm flipV="1" rot="10800000">
              <a:off x="8251200" y="42310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饼形 28"/>
            <p:cNvSpPr/>
            <p:nvPr/>
          </p:nvSpPr>
          <p:spPr>
            <a:xfrm flipV="1" rot="10800000">
              <a:off x="8408880" y="43765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1756440" y="3334680"/>
            <a:ext cx="3516120" cy="3522600"/>
            <a:chOff x="-1756440" y="3334680"/>
            <a:chExt cx="3516120" cy="3522600"/>
          </a:xfrm>
        </p:grpSpPr>
        <p:sp>
          <p:nvSpPr>
            <p:cNvPr id="236" name="饼形 31"/>
            <p:cNvSpPr/>
            <p:nvPr/>
          </p:nvSpPr>
          <p:spPr>
            <a:xfrm flipH="1" flipV="1" rot="10800000">
              <a:off x="-1756800" y="333432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饼形 32"/>
            <p:cNvSpPr/>
            <p:nvPr/>
          </p:nvSpPr>
          <p:spPr>
            <a:xfrm flipH="1" flipV="1" rot="10800000">
              <a:off x="-1380960" y="371844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饼形 33"/>
            <p:cNvSpPr/>
            <p:nvPr/>
          </p:nvSpPr>
          <p:spPr>
            <a:xfrm flipH="1" flipV="1" rot="10800000">
              <a:off x="-1119960" y="397872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饼形 34"/>
            <p:cNvSpPr/>
            <p:nvPr/>
          </p:nvSpPr>
          <p:spPr>
            <a:xfrm flipH="1" flipV="1" rot="10800000">
              <a:off x="-874440" y="423108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饼形 35"/>
            <p:cNvSpPr/>
            <p:nvPr/>
          </p:nvSpPr>
          <p:spPr>
            <a:xfrm flipH="1" flipV="1" rot="10800000">
              <a:off x="-721800" y="437652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620680" y="5096160"/>
            <a:ext cx="3522600" cy="3522600"/>
            <a:chOff x="5620680" y="5096160"/>
            <a:chExt cx="3522600" cy="3522600"/>
          </a:xfrm>
        </p:grpSpPr>
        <p:sp>
          <p:nvSpPr>
            <p:cNvPr id="242" name="饼形 38"/>
            <p:cNvSpPr/>
            <p:nvPr/>
          </p:nvSpPr>
          <p:spPr>
            <a:xfrm flipH="1" flipV="1" rot="5400000">
              <a:off x="5620320" y="5095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饼形 39"/>
            <p:cNvSpPr/>
            <p:nvPr/>
          </p:nvSpPr>
          <p:spPr>
            <a:xfrm flipH="1" flipV="1" rot="5400000">
              <a:off x="6004440" y="54720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饼形 40"/>
            <p:cNvSpPr/>
            <p:nvPr/>
          </p:nvSpPr>
          <p:spPr>
            <a:xfrm flipH="1" flipV="1" rot="5400000">
              <a:off x="6264720" y="572292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饼形 41"/>
            <p:cNvSpPr/>
            <p:nvPr/>
          </p:nvSpPr>
          <p:spPr>
            <a:xfrm flipH="1" flipV="1" rot="5400000">
              <a:off x="6517080" y="5965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饼形 42"/>
            <p:cNvSpPr/>
            <p:nvPr/>
          </p:nvSpPr>
          <p:spPr>
            <a:xfrm flipH="1" flipV="1" rot="5400000">
              <a:off x="666252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620680" y="-1755720"/>
            <a:ext cx="3522600" cy="3517920"/>
            <a:chOff x="5620680" y="-1755720"/>
            <a:chExt cx="3522600" cy="3517920"/>
          </a:xfrm>
        </p:grpSpPr>
        <p:sp>
          <p:nvSpPr>
            <p:cNvPr id="248" name="饼形 52"/>
            <p:cNvSpPr/>
            <p:nvPr/>
          </p:nvSpPr>
          <p:spPr>
            <a:xfrm flipH="1" rot="16200000">
              <a:off x="5622480" y="-1757880"/>
              <a:ext cx="3517920" cy="3522600"/>
            </a:xfrm>
            <a:custGeom>
              <a:avLst/>
              <a:gdLst>
                <a:gd name="textAreaLeft" fmla="*/ 360 w 3517920"/>
                <a:gd name="textAreaRight" fmla="*/ 351864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饼形 53"/>
            <p:cNvSpPr/>
            <p:nvPr/>
          </p:nvSpPr>
          <p:spPr>
            <a:xfrm flipH="1" rot="16200000">
              <a:off x="6006240" y="-1381320"/>
              <a:ext cx="2766600" cy="2770200"/>
            </a:xfrm>
            <a:custGeom>
              <a:avLst/>
              <a:gdLst>
                <a:gd name="textAreaLeft" fmla="*/ -360 w 2766600"/>
                <a:gd name="textAreaRight" fmla="*/ 276660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饼形 54"/>
            <p:cNvSpPr/>
            <p:nvPr/>
          </p:nvSpPr>
          <p:spPr>
            <a:xfrm flipH="1" rot="16200000">
              <a:off x="6266160" y="-1120680"/>
              <a:ext cx="2256120" cy="2259000"/>
            </a:xfrm>
            <a:custGeom>
              <a:avLst/>
              <a:gdLst>
                <a:gd name="textAreaLeft" fmla="*/ -360 w 2256120"/>
                <a:gd name="textAreaRight" fmla="*/ 225612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饼形 55"/>
            <p:cNvSpPr/>
            <p:nvPr/>
          </p:nvSpPr>
          <p:spPr>
            <a:xfrm flipH="1" rot="16200000">
              <a:off x="6518160" y="-875160"/>
              <a:ext cx="1767600" cy="1770120"/>
            </a:xfrm>
            <a:custGeom>
              <a:avLst/>
              <a:gdLst>
                <a:gd name="textAreaLeft" fmla="*/ 360 w 1767600"/>
                <a:gd name="textAreaRight" fmla="*/ 176832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饼形 56"/>
            <p:cNvSpPr/>
            <p:nvPr/>
          </p:nvSpPr>
          <p:spPr>
            <a:xfrm flipH="1" rot="16200000">
              <a:off x="6663240" y="-721080"/>
              <a:ext cx="1456920" cy="1458720"/>
            </a:xfrm>
            <a:custGeom>
              <a:avLst/>
              <a:gdLst>
                <a:gd name="textAreaLeft" fmla="*/ -360 w 1456920"/>
                <a:gd name="textAreaRight" fmla="*/ 145692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-360" y="5095440"/>
            <a:ext cx="3522600" cy="3522600"/>
            <a:chOff x="-360" y="5095440"/>
            <a:chExt cx="3522600" cy="3522600"/>
          </a:xfrm>
        </p:grpSpPr>
        <p:sp>
          <p:nvSpPr>
            <p:cNvPr id="254" name="饼形 60"/>
            <p:cNvSpPr/>
            <p:nvPr/>
          </p:nvSpPr>
          <p:spPr>
            <a:xfrm flipV="1" rot="16200000">
              <a:off x="-360" y="509508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饼形 61"/>
            <p:cNvSpPr/>
            <p:nvPr/>
          </p:nvSpPr>
          <p:spPr>
            <a:xfrm flipV="1" rot="16200000">
              <a:off x="367920" y="54712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饼形 62"/>
            <p:cNvSpPr/>
            <p:nvPr/>
          </p:nvSpPr>
          <p:spPr>
            <a:xfrm flipV="1" rot="16200000">
              <a:off x="618480" y="572184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饼形 63"/>
            <p:cNvSpPr/>
            <p:nvPr/>
          </p:nvSpPr>
          <p:spPr>
            <a:xfrm flipV="1" rot="16200000">
              <a:off x="855360" y="59648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饼形 64"/>
            <p:cNvSpPr/>
            <p:nvPr/>
          </p:nvSpPr>
          <p:spPr>
            <a:xfrm flipV="1" rot="16200000">
              <a:off x="102240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260" name="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261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>
                  <a:gd name="textAreaLeft" fmla="*/ 0 w 1328760"/>
                  <a:gd name="textAreaRight" fmla="*/ 1328760 w 1328760"/>
                  <a:gd name="textAreaTop" fmla="*/ 0 h 1327320"/>
                  <a:gd name="textAreaBottom" fmla="*/ 1327680 h 132732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饼形 72"/>
              <p:cNvSpPr/>
              <p:nvPr/>
            </p:nvSpPr>
            <p:spPr>
              <a:xfrm rot="12161400">
                <a:off x="3991680" y="1560960"/>
                <a:ext cx="1045080" cy="104400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44000"/>
                  <a:gd name="textAreaBottom" fmla="*/ 1044360 h 104400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饼形 73"/>
              <p:cNvSpPr/>
              <p:nvPr/>
            </p:nvSpPr>
            <p:spPr>
              <a:xfrm rot="12161400">
                <a:off x="4087080" y="1654920"/>
                <a:ext cx="852120" cy="851400"/>
              </a:xfrm>
              <a:custGeom>
                <a:avLst/>
                <a:gdLst>
                  <a:gd name="textAreaLeft" fmla="*/ 0 w 852120"/>
                  <a:gd name="textAreaRight" fmla="*/ 852480 w 852120"/>
                  <a:gd name="textAreaTop" fmla="*/ 0 h 851400"/>
                  <a:gd name="textAreaBottom" fmla="*/ 851760 h 85140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饼形 74"/>
              <p:cNvSpPr/>
              <p:nvPr/>
            </p:nvSpPr>
            <p:spPr>
              <a:xfrm rot="12161400">
                <a:off x="4179960" y="1743840"/>
                <a:ext cx="667800" cy="667080"/>
              </a:xfrm>
              <a:custGeom>
                <a:avLst/>
                <a:gdLst>
                  <a:gd name="textAreaLeft" fmla="*/ 0 w 667800"/>
                  <a:gd name="textAreaRight" fmla="*/ 668160 w 667800"/>
                  <a:gd name="textAreaTop" fmla="*/ 0 h 667080"/>
                  <a:gd name="textAreaBottom" fmla="*/ 667440 h 6670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饼形 75"/>
              <p:cNvSpPr/>
              <p:nvPr/>
            </p:nvSpPr>
            <p:spPr>
              <a:xfrm rot="12161400">
                <a:off x="4237560" y="1806840"/>
                <a:ext cx="550440" cy="54972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267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>
                  <a:gd name="textAreaLeft" fmla="*/ 0 w 1328760"/>
                  <a:gd name="textAreaRight" fmla="*/ 1328760 w 1328760"/>
                  <a:gd name="textAreaTop" fmla="*/ 0 h 1327320"/>
                  <a:gd name="textAreaBottom" fmla="*/ 1327680 h 132732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饼形 78"/>
              <p:cNvSpPr/>
              <p:nvPr/>
            </p:nvSpPr>
            <p:spPr>
              <a:xfrm flipH="1" rot="12160800">
                <a:off x="3990960" y="1560600"/>
                <a:ext cx="1045080" cy="1044000"/>
              </a:xfrm>
              <a:custGeom>
                <a:avLst/>
                <a:gdLst>
                  <a:gd name="textAreaLeft" fmla="*/ -360 w 1045080"/>
                  <a:gd name="textAreaRight" fmla="*/ 1045080 w 1045080"/>
                  <a:gd name="textAreaTop" fmla="*/ 0 h 1044000"/>
                  <a:gd name="textAreaBottom" fmla="*/ 1044360 h 104400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饼形 79"/>
              <p:cNvSpPr/>
              <p:nvPr/>
            </p:nvSpPr>
            <p:spPr>
              <a:xfrm flipH="1" rot="12160800">
                <a:off x="4089960" y="1655280"/>
                <a:ext cx="852120" cy="851400"/>
              </a:xfrm>
              <a:custGeom>
                <a:avLst/>
                <a:gdLst>
                  <a:gd name="textAreaLeft" fmla="*/ -360 w 852120"/>
                  <a:gd name="textAreaRight" fmla="*/ 852120 w 852120"/>
                  <a:gd name="textAreaTop" fmla="*/ 0 h 851400"/>
                  <a:gd name="textAreaBottom" fmla="*/ 851760 h 85140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饼形 80"/>
              <p:cNvSpPr/>
              <p:nvPr/>
            </p:nvSpPr>
            <p:spPr>
              <a:xfrm flipH="1" rot="12160800">
                <a:off x="4183920" y="1745280"/>
                <a:ext cx="667800" cy="667080"/>
              </a:xfrm>
              <a:custGeom>
                <a:avLst/>
                <a:gdLst>
                  <a:gd name="textAreaLeft" fmla="*/ -360 w 667800"/>
                  <a:gd name="textAreaRight" fmla="*/ 667800 w 667800"/>
                  <a:gd name="textAreaTop" fmla="*/ 0 h 667080"/>
                  <a:gd name="textAreaBottom" fmla="*/ 667440 h 6670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饼形 81"/>
              <p:cNvSpPr/>
              <p:nvPr/>
            </p:nvSpPr>
            <p:spPr>
              <a:xfrm flipH="1" rot="12160800">
                <a:off x="4240440" y="1807200"/>
                <a:ext cx="550440" cy="549720"/>
              </a:xfrm>
              <a:custGeom>
                <a:avLst/>
                <a:gdLst>
                  <a:gd name="textAreaLeft" fmla="*/ -360 w 550440"/>
                  <a:gd name="textAreaRight" fmla="*/ 550440 w 55044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273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>
                  <a:gd name="textAreaLeft" fmla="*/ 0 w 1327320"/>
                  <a:gd name="textAreaRight" fmla="*/ 1327680 w 1327320"/>
                  <a:gd name="textAreaTop" fmla="*/ 0 h 1328760"/>
                  <a:gd name="textAreaBottom" fmla="*/ 1328760 h 1328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饼形 102"/>
              <p:cNvSpPr/>
              <p:nvPr/>
            </p:nvSpPr>
            <p:spPr>
              <a:xfrm flipV="1" rot="17560800">
                <a:off x="3988080" y="1558440"/>
                <a:ext cx="1044000" cy="1045080"/>
              </a:xfrm>
              <a:custGeom>
                <a:avLst/>
                <a:gdLst>
                  <a:gd name="textAreaLeft" fmla="*/ 0 w 1044000"/>
                  <a:gd name="textAreaRight" fmla="*/ 1044360 w 1044000"/>
                  <a:gd name="textAreaTop" fmla="*/ -360 h 1045080"/>
                  <a:gd name="textAreaBottom" fmla="*/ 1045080 h 10450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饼形 103"/>
              <p:cNvSpPr/>
              <p:nvPr/>
            </p:nvSpPr>
            <p:spPr>
              <a:xfrm flipV="1" rot="17560800">
                <a:off x="4083120" y="1651680"/>
                <a:ext cx="851400" cy="852120"/>
              </a:xfrm>
              <a:custGeom>
                <a:avLst/>
                <a:gdLst>
                  <a:gd name="textAreaLeft" fmla="*/ 0 w 851400"/>
                  <a:gd name="textAreaRight" fmla="*/ 851760 w 851400"/>
                  <a:gd name="textAreaTop" fmla="*/ -360 h 852120"/>
                  <a:gd name="textAreaBottom" fmla="*/ 852120 h 8521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饼形 104"/>
              <p:cNvSpPr/>
              <p:nvPr/>
            </p:nvSpPr>
            <p:spPr>
              <a:xfrm flipV="1" rot="17560800">
                <a:off x="4172760" y="1742040"/>
                <a:ext cx="667080" cy="6678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-360 h 667800"/>
                  <a:gd name="textAreaBottom" fmla="*/ 667800 h 6678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饼形 105"/>
              <p:cNvSpPr/>
              <p:nvPr/>
            </p:nvSpPr>
            <p:spPr>
              <a:xfrm flipV="1" rot="17560800">
                <a:off x="4235040" y="1802880"/>
                <a:ext cx="549720" cy="550440"/>
              </a:xfrm>
              <a:custGeom>
                <a:avLst/>
                <a:gdLst>
                  <a:gd name="textAreaLeft" fmla="*/ 0 w 549720"/>
                  <a:gd name="textAreaRight" fmla="*/ 550080 w 54972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107"/>
          <p:cNvSpPr/>
          <p:nvPr/>
        </p:nvSpPr>
        <p:spPr>
          <a:xfrm>
            <a:off x="1714680" y="1857240"/>
            <a:ext cx="5643360" cy="3857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360" y="-1755720"/>
            <a:ext cx="3522600" cy="3517920"/>
            <a:chOff x="-360" y="-1755720"/>
            <a:chExt cx="3522600" cy="3517920"/>
          </a:xfrm>
        </p:grpSpPr>
        <p:sp>
          <p:nvSpPr>
            <p:cNvPr id="280" name="饼形 45"/>
            <p:cNvSpPr/>
            <p:nvPr/>
          </p:nvSpPr>
          <p:spPr>
            <a:xfrm rot="5400000">
              <a:off x="1800" y="-1757880"/>
              <a:ext cx="3517920" cy="3522600"/>
            </a:xfrm>
            <a:custGeom>
              <a:avLst/>
              <a:gdLst>
                <a:gd name="textAreaLeft" fmla="*/ 0 w 3517920"/>
                <a:gd name="textAreaRight" fmla="*/ 351828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饼形 46"/>
            <p:cNvSpPr/>
            <p:nvPr/>
          </p:nvSpPr>
          <p:spPr>
            <a:xfrm rot="5400000">
              <a:off x="369360" y="-1381680"/>
              <a:ext cx="2766600" cy="277020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饼形 47"/>
            <p:cNvSpPr/>
            <p:nvPr/>
          </p:nvSpPr>
          <p:spPr>
            <a:xfrm rot="5400000">
              <a:off x="619560" y="-1121040"/>
              <a:ext cx="2256120" cy="2259000"/>
            </a:xfrm>
            <a:custGeom>
              <a:avLst/>
              <a:gdLst>
                <a:gd name="textAreaLeft" fmla="*/ 0 w 2256120"/>
                <a:gd name="textAreaRight" fmla="*/ 225648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饼形 48"/>
            <p:cNvSpPr/>
            <p:nvPr/>
          </p:nvSpPr>
          <p:spPr>
            <a:xfrm rot="5400000">
              <a:off x="856440" y="-875160"/>
              <a:ext cx="1767600" cy="17701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饼形 49"/>
            <p:cNvSpPr/>
            <p:nvPr/>
          </p:nvSpPr>
          <p:spPr>
            <a:xfrm rot="5400000">
              <a:off x="1023120" y="-721080"/>
              <a:ext cx="1456920" cy="145872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381440" y="-360"/>
            <a:ext cx="3522600" cy="3522600"/>
            <a:chOff x="7381440" y="-360"/>
            <a:chExt cx="3522600" cy="3522600"/>
          </a:xfrm>
        </p:grpSpPr>
        <p:sp>
          <p:nvSpPr>
            <p:cNvPr id="286" name="饼形 11"/>
            <p:cNvSpPr/>
            <p:nvPr/>
          </p:nvSpPr>
          <p:spPr>
            <a:xfrm rot="10800000">
              <a:off x="7381440" y="-3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饼形 9"/>
            <p:cNvSpPr/>
            <p:nvPr/>
          </p:nvSpPr>
          <p:spPr>
            <a:xfrm rot="10800000">
              <a:off x="7757640" y="36756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饼形 8"/>
            <p:cNvSpPr/>
            <p:nvPr/>
          </p:nvSpPr>
          <p:spPr>
            <a:xfrm rot="10800000">
              <a:off x="8008200" y="61848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饼形 7"/>
            <p:cNvSpPr/>
            <p:nvPr/>
          </p:nvSpPr>
          <p:spPr>
            <a:xfrm rot="10800000">
              <a:off x="8251200" y="85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饼形 6"/>
            <p:cNvSpPr/>
            <p:nvPr/>
          </p:nvSpPr>
          <p:spPr>
            <a:xfrm rot="10800000">
              <a:off x="8408880" y="1022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-1756440" y="-360"/>
            <a:ext cx="3516120" cy="3522600"/>
            <a:chOff x="-1756440" y="-360"/>
            <a:chExt cx="3516120" cy="3522600"/>
          </a:xfrm>
        </p:grpSpPr>
        <p:sp>
          <p:nvSpPr>
            <p:cNvPr id="292" name="饼形 16"/>
            <p:cNvSpPr/>
            <p:nvPr/>
          </p:nvSpPr>
          <p:spPr>
            <a:xfrm flipH="1" rot="10800000">
              <a:off x="-1756800" y="-36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饼形 17"/>
            <p:cNvSpPr/>
            <p:nvPr/>
          </p:nvSpPr>
          <p:spPr>
            <a:xfrm flipH="1" rot="10800000">
              <a:off x="-1380960" y="36792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饼形 18"/>
            <p:cNvSpPr/>
            <p:nvPr/>
          </p:nvSpPr>
          <p:spPr>
            <a:xfrm flipH="1" rot="10800000">
              <a:off x="-1119960" y="61848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饼形 19"/>
            <p:cNvSpPr/>
            <p:nvPr/>
          </p:nvSpPr>
          <p:spPr>
            <a:xfrm flipH="1" rot="10800000">
              <a:off x="-874440" y="85536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饼形 20"/>
            <p:cNvSpPr/>
            <p:nvPr/>
          </p:nvSpPr>
          <p:spPr>
            <a:xfrm flipH="1" rot="10800000">
              <a:off x="-721800" y="102240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381440" y="3334680"/>
            <a:ext cx="3522600" cy="3522600"/>
            <a:chOff x="7381440" y="3334680"/>
            <a:chExt cx="3522600" cy="3522600"/>
          </a:xfrm>
        </p:grpSpPr>
        <p:sp>
          <p:nvSpPr>
            <p:cNvPr id="298" name="饼形 24"/>
            <p:cNvSpPr/>
            <p:nvPr/>
          </p:nvSpPr>
          <p:spPr>
            <a:xfrm flipV="1" rot="10800000">
              <a:off x="7381440" y="333432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饼形 25"/>
            <p:cNvSpPr/>
            <p:nvPr/>
          </p:nvSpPr>
          <p:spPr>
            <a:xfrm flipV="1" rot="10800000">
              <a:off x="7757640" y="371844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饼形 26"/>
            <p:cNvSpPr/>
            <p:nvPr/>
          </p:nvSpPr>
          <p:spPr>
            <a:xfrm flipV="1" rot="10800000">
              <a:off x="8008200" y="397872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饼形 27"/>
            <p:cNvSpPr/>
            <p:nvPr/>
          </p:nvSpPr>
          <p:spPr>
            <a:xfrm flipV="1" rot="10800000">
              <a:off x="8251200" y="42310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饼形 28"/>
            <p:cNvSpPr/>
            <p:nvPr/>
          </p:nvSpPr>
          <p:spPr>
            <a:xfrm flipV="1" rot="10800000">
              <a:off x="8408880" y="43765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-1756440" y="3334680"/>
            <a:ext cx="3516120" cy="3522600"/>
            <a:chOff x="-1756440" y="3334680"/>
            <a:chExt cx="3516120" cy="3522600"/>
          </a:xfrm>
        </p:grpSpPr>
        <p:sp>
          <p:nvSpPr>
            <p:cNvPr id="304" name="饼形 31"/>
            <p:cNvSpPr/>
            <p:nvPr/>
          </p:nvSpPr>
          <p:spPr>
            <a:xfrm flipH="1" flipV="1" rot="10800000">
              <a:off x="-1756800" y="3334320"/>
              <a:ext cx="3516120" cy="3522600"/>
            </a:xfrm>
            <a:custGeom>
              <a:avLst/>
              <a:gdLst>
                <a:gd name="textAreaLeft" fmla="*/ -360 w 3516120"/>
                <a:gd name="textAreaRight" fmla="*/ 3516120 w 351612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饼形 32"/>
            <p:cNvSpPr/>
            <p:nvPr/>
          </p:nvSpPr>
          <p:spPr>
            <a:xfrm flipH="1" flipV="1" rot="10800000">
              <a:off x="-1380960" y="3718440"/>
              <a:ext cx="2765160" cy="27702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饼形 33"/>
            <p:cNvSpPr/>
            <p:nvPr/>
          </p:nvSpPr>
          <p:spPr>
            <a:xfrm flipH="1" flipV="1" rot="10800000">
              <a:off x="-1119960" y="3978720"/>
              <a:ext cx="2255040" cy="2259000"/>
            </a:xfrm>
            <a:custGeom>
              <a:avLst/>
              <a:gdLst>
                <a:gd name="textAreaLeft" fmla="*/ 360 w 2255040"/>
                <a:gd name="textAreaRight" fmla="*/ 2255760 w 225504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饼形 34"/>
            <p:cNvSpPr/>
            <p:nvPr/>
          </p:nvSpPr>
          <p:spPr>
            <a:xfrm flipH="1" flipV="1" rot="10800000">
              <a:off x="-874440" y="4231080"/>
              <a:ext cx="1766880" cy="1770120"/>
            </a:xfrm>
            <a:custGeom>
              <a:avLst/>
              <a:gdLst>
                <a:gd name="textAreaLeft" fmla="*/ 360 w 1766880"/>
                <a:gd name="textAreaRight" fmla="*/ 1767600 w 176688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饼形 35"/>
            <p:cNvSpPr/>
            <p:nvPr/>
          </p:nvSpPr>
          <p:spPr>
            <a:xfrm flipH="1" flipV="1" rot="10800000">
              <a:off x="-721800" y="4376520"/>
              <a:ext cx="1456200" cy="1458720"/>
            </a:xfrm>
            <a:custGeom>
              <a:avLst/>
              <a:gdLst>
                <a:gd name="textAreaLeft" fmla="*/ -360 w 1456200"/>
                <a:gd name="textAreaRight" fmla="*/ 1456200 w 145620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20680" y="5096160"/>
            <a:ext cx="3522600" cy="3522600"/>
            <a:chOff x="5620680" y="5096160"/>
            <a:chExt cx="3522600" cy="3522600"/>
          </a:xfrm>
        </p:grpSpPr>
        <p:sp>
          <p:nvSpPr>
            <p:cNvPr id="310" name="饼形 38"/>
            <p:cNvSpPr/>
            <p:nvPr/>
          </p:nvSpPr>
          <p:spPr>
            <a:xfrm flipH="1" flipV="1" rot="5400000">
              <a:off x="5620320" y="509580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饼形 39"/>
            <p:cNvSpPr/>
            <p:nvPr/>
          </p:nvSpPr>
          <p:spPr>
            <a:xfrm flipH="1" flipV="1" rot="5400000">
              <a:off x="6004440" y="547200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饼形 40"/>
            <p:cNvSpPr/>
            <p:nvPr/>
          </p:nvSpPr>
          <p:spPr>
            <a:xfrm flipH="1" flipV="1" rot="5400000">
              <a:off x="6264720" y="572292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饼形 41"/>
            <p:cNvSpPr/>
            <p:nvPr/>
          </p:nvSpPr>
          <p:spPr>
            <a:xfrm flipH="1" flipV="1" rot="5400000">
              <a:off x="6517080" y="5965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饼形 42"/>
            <p:cNvSpPr/>
            <p:nvPr/>
          </p:nvSpPr>
          <p:spPr>
            <a:xfrm flipH="1" flipV="1" rot="5400000">
              <a:off x="666252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620680" y="-1755720"/>
            <a:ext cx="3522600" cy="3517920"/>
            <a:chOff x="5620680" y="-1755720"/>
            <a:chExt cx="3522600" cy="3517920"/>
          </a:xfrm>
        </p:grpSpPr>
        <p:sp>
          <p:nvSpPr>
            <p:cNvPr id="316" name="饼形 52"/>
            <p:cNvSpPr/>
            <p:nvPr/>
          </p:nvSpPr>
          <p:spPr>
            <a:xfrm flipH="1" rot="16200000">
              <a:off x="5622480" y="-1757880"/>
              <a:ext cx="3517920" cy="3522600"/>
            </a:xfrm>
            <a:custGeom>
              <a:avLst/>
              <a:gdLst>
                <a:gd name="textAreaLeft" fmla="*/ 360 w 3517920"/>
                <a:gd name="textAreaRight" fmla="*/ 3518640 w 351792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饼形 53"/>
            <p:cNvSpPr/>
            <p:nvPr/>
          </p:nvSpPr>
          <p:spPr>
            <a:xfrm flipH="1" rot="16200000">
              <a:off x="6006240" y="-1381320"/>
              <a:ext cx="2766600" cy="2770200"/>
            </a:xfrm>
            <a:custGeom>
              <a:avLst/>
              <a:gdLst>
                <a:gd name="textAreaLeft" fmla="*/ -360 w 2766600"/>
                <a:gd name="textAreaRight" fmla="*/ 2766600 w 27666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饼形 54"/>
            <p:cNvSpPr/>
            <p:nvPr/>
          </p:nvSpPr>
          <p:spPr>
            <a:xfrm flipH="1" rot="16200000">
              <a:off x="6266160" y="-1120680"/>
              <a:ext cx="2256120" cy="2259000"/>
            </a:xfrm>
            <a:custGeom>
              <a:avLst/>
              <a:gdLst>
                <a:gd name="textAreaLeft" fmla="*/ -360 w 2256120"/>
                <a:gd name="textAreaRight" fmla="*/ 2256120 w 225612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饼形 55"/>
            <p:cNvSpPr/>
            <p:nvPr/>
          </p:nvSpPr>
          <p:spPr>
            <a:xfrm flipH="1" rot="16200000">
              <a:off x="6518160" y="-875160"/>
              <a:ext cx="1767600" cy="1770120"/>
            </a:xfrm>
            <a:custGeom>
              <a:avLst/>
              <a:gdLst>
                <a:gd name="textAreaLeft" fmla="*/ 360 w 1767600"/>
                <a:gd name="textAreaRight" fmla="*/ 1768320 w 176760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饼形 56"/>
            <p:cNvSpPr/>
            <p:nvPr/>
          </p:nvSpPr>
          <p:spPr>
            <a:xfrm flipH="1" rot="16200000">
              <a:off x="6663240" y="-721080"/>
              <a:ext cx="1456920" cy="1458720"/>
            </a:xfrm>
            <a:custGeom>
              <a:avLst/>
              <a:gdLst>
                <a:gd name="textAreaLeft" fmla="*/ -360 w 1456920"/>
                <a:gd name="textAreaRight" fmla="*/ 1456920 w 145692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-360" y="5095440"/>
            <a:ext cx="3522600" cy="3522600"/>
            <a:chOff x="-360" y="5095440"/>
            <a:chExt cx="3522600" cy="3522600"/>
          </a:xfrm>
        </p:grpSpPr>
        <p:sp>
          <p:nvSpPr>
            <p:cNvPr id="322" name="饼形 60"/>
            <p:cNvSpPr/>
            <p:nvPr/>
          </p:nvSpPr>
          <p:spPr>
            <a:xfrm flipV="1" rot="16200000">
              <a:off x="-360" y="509508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饼形 61"/>
            <p:cNvSpPr/>
            <p:nvPr/>
          </p:nvSpPr>
          <p:spPr>
            <a:xfrm flipV="1" rot="16200000">
              <a:off x="367920" y="54712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饼形 62"/>
            <p:cNvSpPr/>
            <p:nvPr/>
          </p:nvSpPr>
          <p:spPr>
            <a:xfrm flipV="1" rot="16200000">
              <a:off x="618480" y="572184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饼形 63"/>
            <p:cNvSpPr/>
            <p:nvPr/>
          </p:nvSpPr>
          <p:spPr>
            <a:xfrm flipV="1" rot="16200000">
              <a:off x="855360" y="596484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饼形 64"/>
            <p:cNvSpPr/>
            <p:nvPr/>
          </p:nvSpPr>
          <p:spPr>
            <a:xfrm flipV="1" rot="16200000">
              <a:off x="1022400" y="61228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328" name="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329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>
                  <a:gd name="textAreaLeft" fmla="*/ 0 w 1328760"/>
                  <a:gd name="textAreaRight" fmla="*/ 1328760 w 1328760"/>
                  <a:gd name="textAreaTop" fmla="*/ 0 h 1327320"/>
                  <a:gd name="textAreaBottom" fmla="*/ 1327680 h 132732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饼形 72"/>
              <p:cNvSpPr/>
              <p:nvPr/>
            </p:nvSpPr>
            <p:spPr>
              <a:xfrm rot="12161400">
                <a:off x="3991680" y="1560960"/>
                <a:ext cx="1045080" cy="104400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44000"/>
                  <a:gd name="textAreaBottom" fmla="*/ 1044360 h 104400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饼形 73"/>
              <p:cNvSpPr/>
              <p:nvPr/>
            </p:nvSpPr>
            <p:spPr>
              <a:xfrm rot="12161400">
                <a:off x="4087080" y="1654920"/>
                <a:ext cx="852120" cy="851400"/>
              </a:xfrm>
              <a:custGeom>
                <a:avLst/>
                <a:gdLst>
                  <a:gd name="textAreaLeft" fmla="*/ 0 w 852120"/>
                  <a:gd name="textAreaRight" fmla="*/ 852480 w 852120"/>
                  <a:gd name="textAreaTop" fmla="*/ 0 h 851400"/>
                  <a:gd name="textAreaBottom" fmla="*/ 851760 h 85140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饼形 74"/>
              <p:cNvSpPr/>
              <p:nvPr/>
            </p:nvSpPr>
            <p:spPr>
              <a:xfrm rot="12161400">
                <a:off x="4179960" y="1743840"/>
                <a:ext cx="667800" cy="667080"/>
              </a:xfrm>
              <a:custGeom>
                <a:avLst/>
                <a:gdLst>
                  <a:gd name="textAreaLeft" fmla="*/ 0 w 667800"/>
                  <a:gd name="textAreaRight" fmla="*/ 668160 w 667800"/>
                  <a:gd name="textAreaTop" fmla="*/ 0 h 667080"/>
                  <a:gd name="textAreaBottom" fmla="*/ 667440 h 6670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饼形 75"/>
              <p:cNvSpPr/>
              <p:nvPr/>
            </p:nvSpPr>
            <p:spPr>
              <a:xfrm rot="12161400">
                <a:off x="4237560" y="1806840"/>
                <a:ext cx="550440" cy="54972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335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>
                  <a:gd name="textAreaLeft" fmla="*/ 0 w 1328760"/>
                  <a:gd name="textAreaRight" fmla="*/ 1328760 w 1328760"/>
                  <a:gd name="textAreaTop" fmla="*/ 0 h 1327320"/>
                  <a:gd name="textAreaBottom" fmla="*/ 1327680 h 132732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饼形 78"/>
              <p:cNvSpPr/>
              <p:nvPr/>
            </p:nvSpPr>
            <p:spPr>
              <a:xfrm flipH="1" rot="12160800">
                <a:off x="3990960" y="1560600"/>
                <a:ext cx="1045080" cy="1044000"/>
              </a:xfrm>
              <a:custGeom>
                <a:avLst/>
                <a:gdLst>
                  <a:gd name="textAreaLeft" fmla="*/ -360 w 1045080"/>
                  <a:gd name="textAreaRight" fmla="*/ 1045080 w 1045080"/>
                  <a:gd name="textAreaTop" fmla="*/ 0 h 1044000"/>
                  <a:gd name="textAreaBottom" fmla="*/ 1044360 h 104400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饼形 79"/>
              <p:cNvSpPr/>
              <p:nvPr/>
            </p:nvSpPr>
            <p:spPr>
              <a:xfrm flipH="1" rot="12160800">
                <a:off x="4089960" y="1655280"/>
                <a:ext cx="852120" cy="851400"/>
              </a:xfrm>
              <a:custGeom>
                <a:avLst/>
                <a:gdLst>
                  <a:gd name="textAreaLeft" fmla="*/ -360 w 852120"/>
                  <a:gd name="textAreaRight" fmla="*/ 852120 w 852120"/>
                  <a:gd name="textAreaTop" fmla="*/ 0 h 851400"/>
                  <a:gd name="textAreaBottom" fmla="*/ 851760 h 85140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饼形 80"/>
              <p:cNvSpPr/>
              <p:nvPr/>
            </p:nvSpPr>
            <p:spPr>
              <a:xfrm flipH="1" rot="12160800">
                <a:off x="4183920" y="1745280"/>
                <a:ext cx="667800" cy="667080"/>
              </a:xfrm>
              <a:custGeom>
                <a:avLst/>
                <a:gdLst>
                  <a:gd name="textAreaLeft" fmla="*/ -360 w 667800"/>
                  <a:gd name="textAreaRight" fmla="*/ 667800 w 667800"/>
                  <a:gd name="textAreaTop" fmla="*/ 0 h 667080"/>
                  <a:gd name="textAreaBottom" fmla="*/ 667440 h 6670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饼形 81"/>
              <p:cNvSpPr/>
              <p:nvPr/>
            </p:nvSpPr>
            <p:spPr>
              <a:xfrm flipH="1" rot="12160800">
                <a:off x="4240440" y="1807200"/>
                <a:ext cx="550440" cy="549720"/>
              </a:xfrm>
              <a:custGeom>
                <a:avLst/>
                <a:gdLst>
                  <a:gd name="textAreaLeft" fmla="*/ -360 w 550440"/>
                  <a:gd name="textAreaRight" fmla="*/ 550440 w 55044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341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>
                  <a:gd name="textAreaLeft" fmla="*/ 0 w 1327320"/>
                  <a:gd name="textAreaRight" fmla="*/ 1327680 w 1327320"/>
                  <a:gd name="textAreaTop" fmla="*/ 0 h 1328760"/>
                  <a:gd name="textAreaBottom" fmla="*/ 1328760 h 1328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饼形 102"/>
              <p:cNvSpPr/>
              <p:nvPr/>
            </p:nvSpPr>
            <p:spPr>
              <a:xfrm flipV="1" rot="17560800">
                <a:off x="3988080" y="1558440"/>
                <a:ext cx="1044000" cy="1045080"/>
              </a:xfrm>
              <a:custGeom>
                <a:avLst/>
                <a:gdLst>
                  <a:gd name="textAreaLeft" fmla="*/ 0 w 1044000"/>
                  <a:gd name="textAreaRight" fmla="*/ 1044360 w 1044000"/>
                  <a:gd name="textAreaTop" fmla="*/ -360 h 1045080"/>
                  <a:gd name="textAreaBottom" fmla="*/ 1045080 h 10450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饼形 103"/>
              <p:cNvSpPr/>
              <p:nvPr/>
            </p:nvSpPr>
            <p:spPr>
              <a:xfrm flipV="1" rot="17560800">
                <a:off x="4083120" y="1651680"/>
                <a:ext cx="851400" cy="852120"/>
              </a:xfrm>
              <a:custGeom>
                <a:avLst/>
                <a:gdLst>
                  <a:gd name="textAreaLeft" fmla="*/ 0 w 851400"/>
                  <a:gd name="textAreaRight" fmla="*/ 851760 w 851400"/>
                  <a:gd name="textAreaTop" fmla="*/ -360 h 852120"/>
                  <a:gd name="textAreaBottom" fmla="*/ 852120 h 8521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饼形 104"/>
              <p:cNvSpPr/>
              <p:nvPr/>
            </p:nvSpPr>
            <p:spPr>
              <a:xfrm flipV="1" rot="17560800">
                <a:off x="4172760" y="1742040"/>
                <a:ext cx="667080" cy="6678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-360 h 667800"/>
                  <a:gd name="textAreaBottom" fmla="*/ 667800 h 6678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饼形 105"/>
              <p:cNvSpPr/>
              <p:nvPr/>
            </p:nvSpPr>
            <p:spPr>
              <a:xfrm flipV="1" rot="17560800">
                <a:off x="4235040" y="1802880"/>
                <a:ext cx="549720" cy="550440"/>
              </a:xfrm>
              <a:custGeom>
                <a:avLst/>
                <a:gdLst>
                  <a:gd name="textAreaLeft" fmla="*/ 0 w 549720"/>
                  <a:gd name="textAreaRight" fmla="*/ 550080 w 54972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矩形 69"/>
          <p:cNvSpPr/>
          <p:nvPr/>
        </p:nvSpPr>
        <p:spPr>
          <a:xfrm>
            <a:off x="2143080" y="2643120"/>
            <a:ext cx="1571760" cy="2143080"/>
          </a:xfrm>
          <a:prstGeom prst="rect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矩形 70"/>
          <p:cNvSpPr/>
          <p:nvPr/>
        </p:nvSpPr>
        <p:spPr>
          <a:xfrm flipH="1">
            <a:off x="3714120" y="2643120"/>
            <a:ext cx="1571400" cy="2143080"/>
          </a:xfrm>
          <a:prstGeom prst="rect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矩形 76"/>
          <p:cNvSpPr/>
          <p:nvPr/>
        </p:nvSpPr>
        <p:spPr>
          <a:xfrm>
            <a:off x="5286240" y="2643120"/>
            <a:ext cx="1571760" cy="2143080"/>
          </a:xfrm>
          <a:prstGeom prst="rect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797120" y="2292120"/>
            <a:ext cx="674640" cy="676440"/>
            <a:chOff x="1797120" y="2292120"/>
            <a:chExt cx="674640" cy="676440"/>
          </a:xfrm>
        </p:grpSpPr>
        <p:grpSp>
          <p:nvGrpSpPr>
            <p:cNvPr id="350" name=""/>
            <p:cNvGrpSpPr/>
            <p:nvPr/>
          </p:nvGrpSpPr>
          <p:grpSpPr>
            <a:xfrm>
              <a:off x="1798560" y="2293920"/>
              <a:ext cx="673200" cy="674280"/>
              <a:chOff x="1798560" y="2293920"/>
              <a:chExt cx="673200" cy="674280"/>
            </a:xfrm>
          </p:grpSpPr>
          <p:sp>
            <p:nvSpPr>
              <p:cNvPr id="351" name="饼形 84"/>
              <p:cNvSpPr/>
              <p:nvPr/>
            </p:nvSpPr>
            <p:spPr>
              <a:xfrm rot="10800000">
                <a:off x="1798560" y="2293920"/>
                <a:ext cx="673200" cy="674280"/>
              </a:xfrm>
              <a:custGeom>
                <a:avLst/>
                <a:gdLst>
                  <a:gd name="textAreaLeft" fmla="*/ 0 w 673200"/>
                  <a:gd name="textAreaRight" fmla="*/ 673560 w 67320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饼形 85"/>
              <p:cNvSpPr/>
              <p:nvPr/>
            </p:nvSpPr>
            <p:spPr>
              <a:xfrm rot="10800000">
                <a:off x="1869840" y="2364120"/>
                <a:ext cx="529560" cy="53028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饼形 86"/>
              <p:cNvSpPr/>
              <p:nvPr/>
            </p:nvSpPr>
            <p:spPr>
              <a:xfrm rot="10800000">
                <a:off x="1918080" y="2412360"/>
                <a:ext cx="431640" cy="43236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饼形 87"/>
              <p:cNvSpPr/>
              <p:nvPr/>
            </p:nvSpPr>
            <p:spPr>
              <a:xfrm rot="10800000">
                <a:off x="1964880" y="2457720"/>
                <a:ext cx="338400" cy="338760"/>
              </a:xfrm>
              <a:custGeom>
                <a:avLst/>
                <a:gdLst>
                  <a:gd name="textAreaLeft" fmla="*/ 0 w 338400"/>
                  <a:gd name="textAreaRight" fmla="*/ 338760 w 33840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饼形 88"/>
              <p:cNvSpPr/>
              <p:nvPr/>
            </p:nvSpPr>
            <p:spPr>
              <a:xfrm rot="10800000">
                <a:off x="1994760" y="2489760"/>
                <a:ext cx="278640" cy="27936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1798560" y="2293560"/>
              <a:ext cx="673200" cy="674280"/>
              <a:chOff x="1798560" y="2293560"/>
              <a:chExt cx="673200" cy="674280"/>
            </a:xfrm>
          </p:grpSpPr>
          <p:sp>
            <p:nvSpPr>
              <p:cNvPr id="357" name="饼形 90"/>
              <p:cNvSpPr/>
              <p:nvPr/>
            </p:nvSpPr>
            <p:spPr>
              <a:xfrm flipH="1" rot="10800000">
                <a:off x="1798560" y="2293560"/>
                <a:ext cx="673200" cy="674280"/>
              </a:xfrm>
              <a:custGeom>
                <a:avLst/>
                <a:gdLst>
                  <a:gd name="textAreaLeft" fmla="*/ 360 w 673200"/>
                  <a:gd name="textAreaRight" fmla="*/ 673920 w 67320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饼形 91"/>
              <p:cNvSpPr/>
              <p:nvPr/>
            </p:nvSpPr>
            <p:spPr>
              <a:xfrm flipH="1" rot="10800000">
                <a:off x="1869120" y="2363760"/>
                <a:ext cx="529560" cy="530280"/>
              </a:xfrm>
              <a:custGeom>
                <a:avLst/>
                <a:gdLst>
                  <a:gd name="textAreaLeft" fmla="*/ -360 w 529560"/>
                  <a:gd name="textAreaRight" fmla="*/ 529560 w 52956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饼形 92"/>
              <p:cNvSpPr/>
              <p:nvPr/>
            </p:nvSpPr>
            <p:spPr>
              <a:xfrm flipH="1" rot="10800000">
                <a:off x="1919160" y="2412000"/>
                <a:ext cx="431640" cy="432360"/>
              </a:xfrm>
              <a:custGeom>
                <a:avLst/>
                <a:gdLst>
                  <a:gd name="textAreaLeft" fmla="*/ -360 w 431640"/>
                  <a:gd name="textAreaRight" fmla="*/ 431640 w 43164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饼形 93"/>
              <p:cNvSpPr/>
              <p:nvPr/>
            </p:nvSpPr>
            <p:spPr>
              <a:xfrm flipH="1" rot="10800000">
                <a:off x="1967040" y="2457360"/>
                <a:ext cx="338400" cy="338760"/>
              </a:xfrm>
              <a:custGeom>
                <a:avLst/>
                <a:gdLst>
                  <a:gd name="textAreaLeft" fmla="*/ 360 w 338400"/>
                  <a:gd name="textAreaRight" fmla="*/ 339120 w 33840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饼形 94"/>
              <p:cNvSpPr/>
              <p:nvPr/>
            </p:nvSpPr>
            <p:spPr>
              <a:xfrm flipH="1" rot="10800000">
                <a:off x="1996560" y="2489400"/>
                <a:ext cx="278640" cy="279360"/>
              </a:xfrm>
              <a:custGeom>
                <a:avLst/>
                <a:gdLst>
                  <a:gd name="textAreaLeft" fmla="*/ 360 w 278640"/>
                  <a:gd name="textAreaRight" fmla="*/ 279360 w 278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797840" y="2293200"/>
              <a:ext cx="673200" cy="674280"/>
              <a:chOff x="1797840" y="2293200"/>
              <a:chExt cx="673200" cy="674280"/>
            </a:xfrm>
          </p:grpSpPr>
          <p:sp>
            <p:nvSpPr>
              <p:cNvPr id="363" name="饼形 96"/>
              <p:cNvSpPr/>
              <p:nvPr/>
            </p:nvSpPr>
            <p:spPr>
              <a:xfrm flipV="1" rot="10800000">
                <a:off x="1797840" y="2292840"/>
                <a:ext cx="673200" cy="674280"/>
              </a:xfrm>
              <a:custGeom>
                <a:avLst/>
                <a:gdLst>
                  <a:gd name="textAreaLeft" fmla="*/ 0 w 673200"/>
                  <a:gd name="textAreaRight" fmla="*/ 673560 w 673200"/>
                  <a:gd name="textAreaTop" fmla="*/ -360 h 674280"/>
                  <a:gd name="textAreaBottom" fmla="*/ 67428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饼形 97"/>
              <p:cNvSpPr/>
              <p:nvPr/>
            </p:nvSpPr>
            <p:spPr>
              <a:xfrm flipV="1" rot="10800000">
                <a:off x="1869120" y="2366280"/>
                <a:ext cx="529560" cy="53028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-360 h 530280"/>
                  <a:gd name="textAreaBottom" fmla="*/ 53028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饼形 98"/>
              <p:cNvSpPr/>
              <p:nvPr/>
            </p:nvSpPr>
            <p:spPr>
              <a:xfrm flipV="1" rot="10800000">
                <a:off x="1917360" y="2415960"/>
                <a:ext cx="431640" cy="43236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-360 h 432360"/>
                  <a:gd name="textAreaBottom" fmla="*/ 43236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饼形 99"/>
              <p:cNvSpPr/>
              <p:nvPr/>
            </p:nvSpPr>
            <p:spPr>
              <a:xfrm flipV="1" rot="10800000">
                <a:off x="1964160" y="2464560"/>
                <a:ext cx="338400" cy="338760"/>
              </a:xfrm>
              <a:custGeom>
                <a:avLst/>
                <a:gdLst>
                  <a:gd name="textAreaLeft" fmla="*/ 0 w 338400"/>
                  <a:gd name="textAreaRight" fmla="*/ 338760 w 338400"/>
                  <a:gd name="textAreaTop" fmla="*/ -360 h 338760"/>
                  <a:gd name="textAreaBottom" fmla="*/ 33876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饼形 100"/>
              <p:cNvSpPr/>
              <p:nvPr/>
            </p:nvSpPr>
            <p:spPr>
              <a:xfrm flipV="1" rot="10800000">
                <a:off x="1994040" y="2493360"/>
                <a:ext cx="278640" cy="27936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360 h 279360"/>
                  <a:gd name="textAreaBottom" fmla="*/ 28008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797120" y="2294280"/>
              <a:ext cx="673200" cy="674280"/>
              <a:chOff x="1797120" y="2294280"/>
              <a:chExt cx="673200" cy="674280"/>
            </a:xfrm>
          </p:grpSpPr>
          <p:sp>
            <p:nvSpPr>
              <p:cNvPr id="369" name="饼形 114"/>
              <p:cNvSpPr/>
              <p:nvPr/>
            </p:nvSpPr>
            <p:spPr>
              <a:xfrm flipH="1" flipV="1" rot="5400000">
                <a:off x="1796400" y="2294280"/>
                <a:ext cx="674280" cy="673200"/>
              </a:xfrm>
              <a:custGeom>
                <a:avLst/>
                <a:gdLst>
                  <a:gd name="textAreaLeft" fmla="*/ -360 w 674280"/>
                  <a:gd name="textAreaRight" fmla="*/ 674280 w 67428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饼形 115"/>
              <p:cNvSpPr/>
              <p:nvPr/>
            </p:nvSpPr>
            <p:spPr>
              <a:xfrm flipH="1" flipV="1" rot="5400000">
                <a:off x="1869120" y="2366280"/>
                <a:ext cx="530280" cy="529560"/>
              </a:xfrm>
              <a:custGeom>
                <a:avLst/>
                <a:gdLst>
                  <a:gd name="textAreaLeft" fmla="*/ -360 w 530280"/>
                  <a:gd name="textAreaRight" fmla="*/ 530280 w 530280"/>
                  <a:gd name="textAreaTop" fmla="*/ -360 h 529560"/>
                  <a:gd name="textAreaBottom" fmla="*/ 529560 h 52956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饼形 116"/>
              <p:cNvSpPr/>
              <p:nvPr/>
            </p:nvSpPr>
            <p:spPr>
              <a:xfrm flipH="1" flipV="1" rot="5400000">
                <a:off x="1918800" y="2414520"/>
                <a:ext cx="432360" cy="431640"/>
              </a:xfrm>
              <a:custGeom>
                <a:avLst/>
                <a:gdLst>
                  <a:gd name="textAreaLeft" fmla="*/ -360 w 432360"/>
                  <a:gd name="textAreaRight" fmla="*/ 432360 w 432360"/>
                  <a:gd name="textAreaTop" fmla="*/ -360 h 431640"/>
                  <a:gd name="textAreaBottom" fmla="*/ 431640 h 43164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饼形 117"/>
              <p:cNvSpPr/>
              <p:nvPr/>
            </p:nvSpPr>
            <p:spPr>
              <a:xfrm flipH="1" flipV="1" rot="5400000">
                <a:off x="1968120" y="2460600"/>
                <a:ext cx="338760" cy="338400"/>
              </a:xfrm>
              <a:custGeom>
                <a:avLst/>
                <a:gdLst>
                  <a:gd name="textAreaLeft" fmla="*/ -360 w 338760"/>
                  <a:gd name="textAreaRight" fmla="*/ 338760 w 338760"/>
                  <a:gd name="textAreaTop" fmla="*/ 360 h 338400"/>
                  <a:gd name="textAreaBottom" fmla="*/ 339120 h 3384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饼形 118"/>
              <p:cNvSpPr/>
              <p:nvPr/>
            </p:nvSpPr>
            <p:spPr>
              <a:xfrm flipH="1" flipV="1" rot="5400000">
                <a:off x="1995840" y="2490480"/>
                <a:ext cx="279360" cy="278640"/>
              </a:xfrm>
              <a:custGeom>
                <a:avLst/>
                <a:gdLst>
                  <a:gd name="textAreaLeft" fmla="*/ 360 w 279360"/>
                  <a:gd name="textAreaRight" fmla="*/ 280080 w 279360"/>
                  <a:gd name="textAreaTop" fmla="*/ 360 h 278640"/>
                  <a:gd name="textAreaBottom" fmla="*/ 279360 h 2786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797840" y="2293920"/>
              <a:ext cx="673200" cy="674280"/>
              <a:chOff x="1797840" y="2293920"/>
              <a:chExt cx="673200" cy="674280"/>
            </a:xfrm>
          </p:grpSpPr>
          <p:sp>
            <p:nvSpPr>
              <p:cNvPr id="375" name="饼形 120"/>
              <p:cNvSpPr/>
              <p:nvPr/>
            </p:nvSpPr>
            <p:spPr>
              <a:xfrm rot="5400000">
                <a:off x="1797120" y="2294280"/>
                <a:ext cx="674280" cy="67320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73200"/>
                  <a:gd name="textAreaBottom" fmla="*/ 673560 h 67320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饼形 121"/>
              <p:cNvSpPr/>
              <p:nvPr/>
            </p:nvSpPr>
            <p:spPr>
              <a:xfrm rot="5400000">
                <a:off x="1867320" y="2366280"/>
                <a:ext cx="530280" cy="5295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饼形 122"/>
              <p:cNvSpPr/>
              <p:nvPr/>
            </p:nvSpPr>
            <p:spPr>
              <a:xfrm rot="5400000">
                <a:off x="1915200" y="2415960"/>
                <a:ext cx="432360" cy="431640"/>
              </a:xfrm>
              <a:custGeom>
                <a:avLst/>
                <a:gdLst>
                  <a:gd name="textAreaLeft" fmla="*/ 0 w 432360"/>
                  <a:gd name="textAreaRight" fmla="*/ 432720 w 432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饼形 123"/>
              <p:cNvSpPr/>
              <p:nvPr/>
            </p:nvSpPr>
            <p:spPr>
              <a:xfrm rot="5400000">
                <a:off x="1960920" y="2462760"/>
                <a:ext cx="338760" cy="33840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0 h 338400"/>
                  <a:gd name="textAreaBottom" fmla="*/ 338760 h 3384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饼形 124"/>
              <p:cNvSpPr/>
              <p:nvPr/>
            </p:nvSpPr>
            <p:spPr>
              <a:xfrm rot="5400000">
                <a:off x="1992960" y="2492640"/>
                <a:ext cx="279360" cy="27864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797840" y="2292120"/>
              <a:ext cx="673200" cy="674280"/>
              <a:chOff x="1797840" y="2292120"/>
              <a:chExt cx="673200" cy="674280"/>
            </a:xfrm>
          </p:grpSpPr>
          <p:sp>
            <p:nvSpPr>
              <p:cNvPr id="381" name="饼形 132"/>
              <p:cNvSpPr/>
              <p:nvPr/>
            </p:nvSpPr>
            <p:spPr>
              <a:xfrm flipV="1" rot="16200000">
                <a:off x="1797120" y="2292120"/>
                <a:ext cx="674280" cy="67320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饼形 133"/>
              <p:cNvSpPr/>
              <p:nvPr/>
            </p:nvSpPr>
            <p:spPr>
              <a:xfrm flipV="1" rot="16200000">
                <a:off x="1867320" y="2364120"/>
                <a:ext cx="530280" cy="5295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-360 h 529560"/>
                  <a:gd name="textAreaBottom" fmla="*/ 529560 h 52956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饼形 134"/>
              <p:cNvSpPr/>
              <p:nvPr/>
            </p:nvSpPr>
            <p:spPr>
              <a:xfrm flipV="1" rot="16200000">
                <a:off x="1915200" y="2412000"/>
                <a:ext cx="432360" cy="431640"/>
              </a:xfrm>
              <a:custGeom>
                <a:avLst/>
                <a:gdLst>
                  <a:gd name="textAreaLeft" fmla="*/ 0 w 432360"/>
                  <a:gd name="textAreaRight" fmla="*/ 432720 w 432360"/>
                  <a:gd name="textAreaTop" fmla="*/ -360 h 431640"/>
                  <a:gd name="textAreaBottom" fmla="*/ 431640 h 43164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饼形 135"/>
              <p:cNvSpPr/>
              <p:nvPr/>
            </p:nvSpPr>
            <p:spPr>
              <a:xfrm flipV="1" rot="16200000">
                <a:off x="1960920" y="2458080"/>
                <a:ext cx="338760" cy="33840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360 h 338400"/>
                  <a:gd name="textAreaBottom" fmla="*/ 339120 h 33840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饼形 136"/>
              <p:cNvSpPr/>
              <p:nvPr/>
            </p:nvSpPr>
            <p:spPr>
              <a:xfrm flipV="1" rot="16200000">
                <a:off x="1992960" y="2489400"/>
                <a:ext cx="279360" cy="27864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360 h 278640"/>
                  <a:gd name="textAreaBottom" fmla="*/ 279360 h 27864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6537240" y="2292120"/>
            <a:ext cx="673200" cy="676440"/>
            <a:chOff x="6537240" y="2292120"/>
            <a:chExt cx="673200" cy="676440"/>
          </a:xfrm>
        </p:grpSpPr>
        <p:grpSp>
          <p:nvGrpSpPr>
            <p:cNvPr id="387" name=""/>
            <p:cNvGrpSpPr/>
            <p:nvPr/>
          </p:nvGrpSpPr>
          <p:grpSpPr>
            <a:xfrm>
              <a:off x="6537240" y="2293920"/>
              <a:ext cx="671760" cy="674280"/>
              <a:chOff x="6537240" y="2293920"/>
              <a:chExt cx="671760" cy="674280"/>
            </a:xfrm>
          </p:grpSpPr>
          <p:sp>
            <p:nvSpPr>
              <p:cNvPr id="388" name="饼形 170"/>
              <p:cNvSpPr/>
              <p:nvPr/>
            </p:nvSpPr>
            <p:spPr>
              <a:xfrm flipH="1" rot="10800000">
                <a:off x="6537240" y="2293920"/>
                <a:ext cx="671760" cy="674280"/>
              </a:xfrm>
              <a:custGeom>
                <a:avLst/>
                <a:gdLst>
                  <a:gd name="textAreaLeft" fmla="*/ 360 w 671760"/>
                  <a:gd name="textAreaRight" fmla="*/ 672480 w 67176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饼形 171"/>
              <p:cNvSpPr/>
              <p:nvPr/>
            </p:nvSpPr>
            <p:spPr>
              <a:xfrm flipH="1" rot="10800000">
                <a:off x="6608880" y="2364120"/>
                <a:ext cx="528480" cy="530280"/>
              </a:xfrm>
              <a:custGeom>
                <a:avLst/>
                <a:gdLst>
                  <a:gd name="textAreaLeft" fmla="*/ 360 w 528480"/>
                  <a:gd name="textAreaRight" fmla="*/ 529200 w 52848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饼形 172"/>
              <p:cNvSpPr/>
              <p:nvPr/>
            </p:nvSpPr>
            <p:spPr>
              <a:xfrm flipH="1" rot="10800000">
                <a:off x="6658560" y="2412360"/>
                <a:ext cx="430920" cy="432360"/>
              </a:xfrm>
              <a:custGeom>
                <a:avLst/>
                <a:gdLst>
                  <a:gd name="textAreaLeft" fmla="*/ -360 w 430920"/>
                  <a:gd name="textAreaRight" fmla="*/ 430920 w 43092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饼形 173"/>
              <p:cNvSpPr/>
              <p:nvPr/>
            </p:nvSpPr>
            <p:spPr>
              <a:xfrm flipH="1" rot="10800000">
                <a:off x="6705360" y="2457720"/>
                <a:ext cx="337680" cy="338760"/>
              </a:xfrm>
              <a:custGeom>
                <a:avLst/>
                <a:gdLst>
                  <a:gd name="textAreaLeft" fmla="*/ 360 w 337680"/>
                  <a:gd name="textAreaRight" fmla="*/ 338400 w 33768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饼形 174"/>
              <p:cNvSpPr/>
              <p:nvPr/>
            </p:nvSpPr>
            <p:spPr>
              <a:xfrm flipH="1" rot="10800000">
                <a:off x="6734880" y="2489760"/>
                <a:ext cx="278280" cy="279360"/>
              </a:xfrm>
              <a:custGeom>
                <a:avLst/>
                <a:gdLst>
                  <a:gd name="textAreaLeft" fmla="*/ -360 w 278280"/>
                  <a:gd name="textAreaRight" fmla="*/ 278280 w 278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537240" y="2293560"/>
              <a:ext cx="671760" cy="674280"/>
              <a:chOff x="6537240" y="2293560"/>
              <a:chExt cx="671760" cy="674280"/>
            </a:xfrm>
          </p:grpSpPr>
          <p:sp>
            <p:nvSpPr>
              <p:cNvPr id="394" name="饼形 165"/>
              <p:cNvSpPr/>
              <p:nvPr/>
            </p:nvSpPr>
            <p:spPr>
              <a:xfrm rot="10800000">
                <a:off x="6537240" y="2293560"/>
                <a:ext cx="671760" cy="67428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饼形 166"/>
              <p:cNvSpPr/>
              <p:nvPr/>
            </p:nvSpPr>
            <p:spPr>
              <a:xfrm rot="10800000">
                <a:off x="6608880" y="2363760"/>
                <a:ext cx="528480" cy="53028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饼形 167"/>
              <p:cNvSpPr/>
              <p:nvPr/>
            </p:nvSpPr>
            <p:spPr>
              <a:xfrm rot="10800000">
                <a:off x="6657480" y="2412000"/>
                <a:ext cx="430920" cy="432360"/>
              </a:xfrm>
              <a:custGeom>
                <a:avLst/>
                <a:gdLst>
                  <a:gd name="textAreaLeft" fmla="*/ 0 w 430920"/>
                  <a:gd name="textAreaRight" fmla="*/ 431280 w 43092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饼形 168"/>
              <p:cNvSpPr/>
              <p:nvPr/>
            </p:nvSpPr>
            <p:spPr>
              <a:xfrm rot="10800000">
                <a:off x="6703200" y="2457360"/>
                <a:ext cx="337680" cy="33876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饼形 169"/>
              <p:cNvSpPr/>
              <p:nvPr/>
            </p:nvSpPr>
            <p:spPr>
              <a:xfrm rot="10800000">
                <a:off x="6733800" y="2489400"/>
                <a:ext cx="278280" cy="27936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537960" y="2293200"/>
              <a:ext cx="671760" cy="674280"/>
              <a:chOff x="6537960" y="2293200"/>
              <a:chExt cx="671760" cy="674280"/>
            </a:xfrm>
          </p:grpSpPr>
          <p:sp>
            <p:nvSpPr>
              <p:cNvPr id="400" name="饼形 160"/>
              <p:cNvSpPr/>
              <p:nvPr/>
            </p:nvSpPr>
            <p:spPr>
              <a:xfrm flipH="1" flipV="1" rot="10800000">
                <a:off x="6537960" y="2292840"/>
                <a:ext cx="671760" cy="674280"/>
              </a:xfrm>
              <a:custGeom>
                <a:avLst/>
                <a:gdLst>
                  <a:gd name="textAreaLeft" fmla="*/ 360 w 671760"/>
                  <a:gd name="textAreaRight" fmla="*/ 672480 w 671760"/>
                  <a:gd name="textAreaTop" fmla="*/ -360 h 674280"/>
                  <a:gd name="textAreaBottom" fmla="*/ 674280 h 67428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饼形 161"/>
              <p:cNvSpPr/>
              <p:nvPr/>
            </p:nvSpPr>
            <p:spPr>
              <a:xfrm flipH="1" flipV="1" rot="10800000">
                <a:off x="6609600" y="2366280"/>
                <a:ext cx="528480" cy="530280"/>
              </a:xfrm>
              <a:custGeom>
                <a:avLst/>
                <a:gdLst>
                  <a:gd name="textAreaLeft" fmla="*/ 360 w 528480"/>
                  <a:gd name="textAreaRight" fmla="*/ 529200 w 528480"/>
                  <a:gd name="textAreaTop" fmla="*/ -360 h 530280"/>
                  <a:gd name="textAreaBottom" fmla="*/ 530280 h 5302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67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饼形 162"/>
              <p:cNvSpPr/>
              <p:nvPr/>
            </p:nvSpPr>
            <p:spPr>
              <a:xfrm flipH="1" flipV="1" rot="10800000">
                <a:off x="6659280" y="2415960"/>
                <a:ext cx="430920" cy="432360"/>
              </a:xfrm>
              <a:custGeom>
                <a:avLst/>
                <a:gdLst>
                  <a:gd name="textAreaLeft" fmla="*/ -360 w 430920"/>
                  <a:gd name="textAreaRight" fmla="*/ 430920 w 430920"/>
                  <a:gd name="textAreaTop" fmla="*/ -360 h 432360"/>
                  <a:gd name="textAreaBottom" fmla="*/ 432360 h 43236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饼形 163"/>
              <p:cNvSpPr/>
              <p:nvPr/>
            </p:nvSpPr>
            <p:spPr>
              <a:xfrm flipH="1" flipV="1" rot="10800000">
                <a:off x="6706080" y="2464560"/>
                <a:ext cx="337680" cy="338760"/>
              </a:xfrm>
              <a:custGeom>
                <a:avLst/>
                <a:gdLst>
                  <a:gd name="textAreaLeft" fmla="*/ 360 w 337680"/>
                  <a:gd name="textAreaRight" fmla="*/ 338400 w 337680"/>
                  <a:gd name="textAreaTop" fmla="*/ -360 h 338760"/>
                  <a:gd name="textAreaBottom" fmla="*/ 338760 h 33876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饼形 164"/>
              <p:cNvSpPr/>
              <p:nvPr/>
            </p:nvSpPr>
            <p:spPr>
              <a:xfrm flipH="1" flipV="1" rot="10800000">
                <a:off x="6735600" y="2493360"/>
                <a:ext cx="278280" cy="279360"/>
              </a:xfrm>
              <a:custGeom>
                <a:avLst/>
                <a:gdLst>
                  <a:gd name="textAreaLeft" fmla="*/ -360 w 278280"/>
                  <a:gd name="textAreaRight" fmla="*/ 278280 w 278280"/>
                  <a:gd name="textAreaTop" fmla="*/ 360 h 279360"/>
                  <a:gd name="textAreaBottom" fmla="*/ 280080 h 27936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6538680" y="2294280"/>
              <a:ext cx="671760" cy="674280"/>
              <a:chOff x="6538680" y="2294280"/>
              <a:chExt cx="671760" cy="674280"/>
            </a:xfrm>
          </p:grpSpPr>
          <p:sp>
            <p:nvSpPr>
              <p:cNvPr id="406" name="饼形 155"/>
              <p:cNvSpPr/>
              <p:nvPr/>
            </p:nvSpPr>
            <p:spPr>
              <a:xfrm flipV="1" rot="16200000">
                <a:off x="6537240" y="2295000"/>
                <a:ext cx="674280" cy="6717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360 h 671760"/>
                  <a:gd name="textAreaBottom" fmla="*/ 672480 h 671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饼形 156"/>
              <p:cNvSpPr/>
              <p:nvPr/>
            </p:nvSpPr>
            <p:spPr>
              <a:xfrm flipV="1" rot="16200000">
                <a:off x="6607800" y="2366640"/>
                <a:ext cx="530280" cy="52848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360 h 528480"/>
                  <a:gd name="textAreaBottom" fmla="*/ 529200 h 5284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饼形 157"/>
              <p:cNvSpPr/>
              <p:nvPr/>
            </p:nvSpPr>
            <p:spPr>
              <a:xfrm flipV="1" rot="16200000">
                <a:off x="6656760" y="2414880"/>
                <a:ext cx="432360" cy="430920"/>
              </a:xfrm>
              <a:custGeom>
                <a:avLst/>
                <a:gdLst>
                  <a:gd name="textAreaLeft" fmla="*/ 0 w 432360"/>
                  <a:gd name="textAreaRight" fmla="*/ 432720 w 432360"/>
                  <a:gd name="textAreaTop" fmla="*/ -360 h 430920"/>
                  <a:gd name="textAreaBottom" fmla="*/ 430920 h 4309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饼形 158"/>
              <p:cNvSpPr/>
              <p:nvPr/>
            </p:nvSpPr>
            <p:spPr>
              <a:xfrm flipV="1" rot="16200000">
                <a:off x="6701040" y="2460960"/>
                <a:ext cx="338760" cy="33768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360 h 337680"/>
                  <a:gd name="textAreaBottom" fmla="*/ 338400 h 3376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饼形 159"/>
              <p:cNvSpPr/>
              <p:nvPr/>
            </p:nvSpPr>
            <p:spPr>
              <a:xfrm flipV="1" rot="16200000">
                <a:off x="6733800" y="2490480"/>
                <a:ext cx="279360" cy="27828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-360 h 278280"/>
                  <a:gd name="textAreaBottom" fmla="*/ 278280 h 27828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537960" y="2293920"/>
              <a:ext cx="671760" cy="674280"/>
              <a:chOff x="6537960" y="2293920"/>
              <a:chExt cx="671760" cy="674280"/>
            </a:xfrm>
          </p:grpSpPr>
          <p:sp>
            <p:nvSpPr>
              <p:cNvPr id="412" name="饼形 150"/>
              <p:cNvSpPr/>
              <p:nvPr/>
            </p:nvSpPr>
            <p:spPr>
              <a:xfrm flipH="1" rot="16200000">
                <a:off x="6536520" y="2295000"/>
                <a:ext cx="674280" cy="671760"/>
              </a:xfrm>
              <a:custGeom>
                <a:avLst/>
                <a:gdLst>
                  <a:gd name="textAreaLeft" fmla="*/ -360 w 674280"/>
                  <a:gd name="textAreaRight" fmla="*/ 674280 w 674280"/>
                  <a:gd name="textAreaTop" fmla="*/ 0 h 671760"/>
                  <a:gd name="textAreaBottom" fmla="*/ 672120 h 671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饼形 151"/>
              <p:cNvSpPr/>
              <p:nvPr/>
            </p:nvSpPr>
            <p:spPr>
              <a:xfrm flipH="1" rot="16200000">
                <a:off x="6609960" y="2366640"/>
                <a:ext cx="530280" cy="528480"/>
              </a:xfrm>
              <a:custGeom>
                <a:avLst/>
                <a:gdLst>
                  <a:gd name="textAreaLeft" fmla="*/ -360 w 530280"/>
                  <a:gd name="textAreaRight" fmla="*/ 530280 w 53028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饼形 152"/>
              <p:cNvSpPr/>
              <p:nvPr/>
            </p:nvSpPr>
            <p:spPr>
              <a:xfrm flipH="1" rot="16200000">
                <a:off x="6660000" y="2416320"/>
                <a:ext cx="432360" cy="430920"/>
              </a:xfrm>
              <a:custGeom>
                <a:avLst/>
                <a:gdLst>
                  <a:gd name="textAreaLeft" fmla="*/ -360 w 432360"/>
                  <a:gd name="textAreaRight" fmla="*/ 432360 w 43236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饼形 153"/>
              <p:cNvSpPr/>
              <p:nvPr/>
            </p:nvSpPr>
            <p:spPr>
              <a:xfrm flipH="1" rot="16200000">
                <a:off x="6708240" y="2463120"/>
                <a:ext cx="338760" cy="337680"/>
              </a:xfrm>
              <a:custGeom>
                <a:avLst/>
                <a:gdLst>
                  <a:gd name="textAreaLeft" fmla="*/ -360 w 338760"/>
                  <a:gd name="textAreaRight" fmla="*/ 338760 w 3387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饼形 154"/>
              <p:cNvSpPr/>
              <p:nvPr/>
            </p:nvSpPr>
            <p:spPr>
              <a:xfrm flipH="1" rot="16200000">
                <a:off x="6735960" y="2492640"/>
                <a:ext cx="279360" cy="278280"/>
              </a:xfrm>
              <a:custGeom>
                <a:avLst/>
                <a:gdLst>
                  <a:gd name="textAreaLeft" fmla="*/ 360 w 279360"/>
                  <a:gd name="textAreaRight" fmla="*/ 280080 w 27936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537960" y="2292120"/>
              <a:ext cx="671760" cy="674280"/>
              <a:chOff x="6537960" y="2292120"/>
              <a:chExt cx="671760" cy="674280"/>
            </a:xfrm>
          </p:grpSpPr>
          <p:sp>
            <p:nvSpPr>
              <p:cNvPr id="418" name="饼形 145"/>
              <p:cNvSpPr/>
              <p:nvPr/>
            </p:nvSpPr>
            <p:spPr>
              <a:xfrm flipH="1" flipV="1" rot="5400000">
                <a:off x="6536520" y="2292840"/>
                <a:ext cx="674280" cy="671760"/>
              </a:xfrm>
              <a:custGeom>
                <a:avLst/>
                <a:gdLst>
                  <a:gd name="textAreaLeft" fmla="*/ -360 w 674280"/>
                  <a:gd name="textAreaRight" fmla="*/ 674280 w 674280"/>
                  <a:gd name="textAreaTop" fmla="*/ 360 h 671760"/>
                  <a:gd name="textAreaBottom" fmla="*/ 672480 h 671760"/>
                </a:gdLst>
                <a:ahLst/>
                <a:rect l="textAreaLeft" t="textAreaTop" r="textAreaRight" b="textAreaBottom"/>
                <a:pathLst>
                  <a:path w="3522652" h="3522652">
                    <a:moveTo>
                      <a:pt x="3011984" y="3001536"/>
                    </a:moveTo>
                    <a:lnTo>
                      <a:pt x="3011985" y="3001537"/>
                    </a:lnTo>
                    <a:arcTo wR="1761326" hR="1761326" stAng="2685580" swAng="2727278"/>
                    <a:lnTo>
                      <a:pt x="1761326" y="1761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饼形 146"/>
              <p:cNvSpPr/>
              <p:nvPr/>
            </p:nvSpPr>
            <p:spPr>
              <a:xfrm flipH="1" flipV="1" rot="5400000">
                <a:off x="6609960" y="2364480"/>
                <a:ext cx="530280" cy="528480"/>
              </a:xfrm>
              <a:custGeom>
                <a:avLst/>
                <a:gdLst>
                  <a:gd name="textAreaLeft" fmla="*/ -360 w 530280"/>
                  <a:gd name="textAreaRight" fmla="*/ 530280 w 530280"/>
                  <a:gd name="textAreaTop" fmla="*/ 360 h 528480"/>
                  <a:gd name="textAreaBottom" fmla="*/ 529200 h 528480"/>
                </a:gdLst>
                <a:ahLst/>
                <a:rect l="textAreaLeft" t="textAreaTop" r="textAreaRight" b="textAreaBottom"/>
                <a:pathLst>
                  <a:path w="2770185" h="2770185">
                    <a:moveTo>
                      <a:pt x="2373560" y="2355356"/>
                    </a:moveTo>
                    <a:lnTo>
                      <a:pt x="2373560" y="2355356"/>
                    </a:lnTo>
                    <a:arcTo wR="1385092" hR="1385092" stAng="2668053" swAng="2742552"/>
                    <a:lnTo>
                      <a:pt x="1385092" y="1385092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饼形 147"/>
              <p:cNvSpPr/>
              <p:nvPr/>
            </p:nvSpPr>
            <p:spPr>
              <a:xfrm flipH="1" flipV="1" rot="5400000">
                <a:off x="6660000" y="2412360"/>
                <a:ext cx="432360" cy="430920"/>
              </a:xfrm>
              <a:custGeom>
                <a:avLst/>
                <a:gdLst>
                  <a:gd name="textAreaLeft" fmla="*/ -360 w 432360"/>
                  <a:gd name="textAreaRight" fmla="*/ 432360 w 432360"/>
                  <a:gd name="textAreaTop" fmla="*/ -360 h 430920"/>
                  <a:gd name="textAreaBottom" fmla="*/ 430920 h 430920"/>
                </a:gdLst>
                <a:ahLst/>
                <a:rect l="textAreaLeft" t="textAreaTop" r="textAreaRight" b="textAreaBottom"/>
                <a:pathLst>
                  <a:path w="2259012" h="2259012">
                    <a:moveTo>
                      <a:pt x="1935574" y="1920730"/>
                    </a:moveTo>
                    <a:lnTo>
                      <a:pt x="1935575" y="1920731"/>
                    </a:lnTo>
                    <a:arcTo wR="1129506" hR="1129506" stAng="2668053" swAng="2760298"/>
                    <a:lnTo>
                      <a:pt x="1129506" y="1129506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饼形 148"/>
              <p:cNvSpPr/>
              <p:nvPr/>
            </p:nvSpPr>
            <p:spPr>
              <a:xfrm flipH="1" flipV="1" rot="5400000">
                <a:off x="6708240" y="2458440"/>
                <a:ext cx="338760" cy="337680"/>
              </a:xfrm>
              <a:custGeom>
                <a:avLst/>
                <a:gdLst>
                  <a:gd name="textAreaLeft" fmla="*/ -360 w 338760"/>
                  <a:gd name="textAreaRight" fmla="*/ 338760 w 338760"/>
                  <a:gd name="textAreaTop" fmla="*/ 360 h 337680"/>
                  <a:gd name="textAreaBottom" fmla="*/ 338400 h 337680"/>
                </a:gdLst>
                <a:ahLst/>
                <a:rect l="textAreaLeft" t="textAreaTop" r="textAreaRight" b="textAreaBottom"/>
                <a:pathLst>
                  <a:path w="1770063" h="1770063">
                    <a:moveTo>
                      <a:pt x="1516631" y="1505000"/>
                    </a:moveTo>
                    <a:lnTo>
                      <a:pt x="1516632" y="1505001"/>
                    </a:lnTo>
                    <a:arcTo wR="885031" hR="885031" stAng="2668053" swAng="2778793"/>
                    <a:lnTo>
                      <a:pt x="885031" y="88503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饼形 149"/>
              <p:cNvSpPr/>
              <p:nvPr/>
            </p:nvSpPr>
            <p:spPr>
              <a:xfrm flipH="1" flipV="1" rot="5400000">
                <a:off x="6735960" y="2489400"/>
                <a:ext cx="279360" cy="278280"/>
              </a:xfrm>
              <a:custGeom>
                <a:avLst/>
                <a:gdLst>
                  <a:gd name="textAreaLeft" fmla="*/ 360 w 279360"/>
                  <a:gd name="textAreaRight" fmla="*/ 280080 w 279360"/>
                  <a:gd name="textAreaTop" fmla="*/ -360 h 278280"/>
                  <a:gd name="textAreaBottom" fmla="*/ 278280 h 278280"/>
                </a:gdLst>
                <a:ahLst/>
                <a:rect l="textAreaLeft" t="textAreaTop" r="textAreaRight" b="textAreaBottom"/>
                <a:pathLst>
                  <a:path w="1458916" h="1458916">
                    <a:moveTo>
                      <a:pt x="1246117" y="1244406"/>
                    </a:moveTo>
                    <a:lnTo>
                      <a:pt x="1246117" y="1244406"/>
                    </a:lnTo>
                    <a:arcTo wR="729458" hR="729458" stAng="2694298" swAng="2753015"/>
                    <a:lnTo>
                      <a:pt x="729458" y="729458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-360" y="142560"/>
            <a:ext cx="3522600" cy="3522600"/>
            <a:chOff x="-360" y="142560"/>
            <a:chExt cx="3522600" cy="3522600"/>
          </a:xfrm>
        </p:grpSpPr>
        <p:sp>
          <p:nvSpPr>
            <p:cNvPr id="425" name="饼形 11"/>
            <p:cNvSpPr/>
            <p:nvPr/>
          </p:nvSpPr>
          <p:spPr>
            <a:xfrm rot="10800000">
              <a:off x="-360" y="142560"/>
              <a:ext cx="3522600" cy="3522600"/>
            </a:xfrm>
            <a:custGeom>
              <a:avLst/>
              <a:gdLst>
                <a:gd name="textAreaLeft" fmla="*/ 0 w 3522600"/>
                <a:gd name="textAreaRight" fmla="*/ 352296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饼形 9"/>
            <p:cNvSpPr/>
            <p:nvPr/>
          </p:nvSpPr>
          <p:spPr>
            <a:xfrm rot="10800000">
              <a:off x="375840" y="510480"/>
              <a:ext cx="2770200" cy="2770200"/>
            </a:xfrm>
            <a:custGeom>
              <a:avLst/>
              <a:gdLst>
                <a:gd name="textAreaLeft" fmla="*/ 0 w 2770200"/>
                <a:gd name="textAreaRight" fmla="*/ 277056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饼形 8"/>
            <p:cNvSpPr/>
            <p:nvPr/>
          </p:nvSpPr>
          <p:spPr>
            <a:xfrm rot="10800000">
              <a:off x="626400" y="761400"/>
              <a:ext cx="2259000" cy="2259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饼形 7"/>
            <p:cNvSpPr/>
            <p:nvPr/>
          </p:nvSpPr>
          <p:spPr>
            <a:xfrm rot="10800000">
              <a:off x="869400" y="99828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饼形 6"/>
            <p:cNvSpPr/>
            <p:nvPr/>
          </p:nvSpPr>
          <p:spPr>
            <a:xfrm rot="10800000">
              <a:off x="1027080" y="11649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32560" y="714240"/>
            <a:ext cx="3522600" cy="3522960"/>
            <a:chOff x="232560" y="714240"/>
            <a:chExt cx="3522600" cy="3522960"/>
          </a:xfrm>
        </p:grpSpPr>
        <p:sp>
          <p:nvSpPr>
            <p:cNvPr id="431" name="饼形 16"/>
            <p:cNvSpPr/>
            <p:nvPr/>
          </p:nvSpPr>
          <p:spPr>
            <a:xfrm flipH="1" rot="10800000">
              <a:off x="232200" y="714240"/>
              <a:ext cx="3522600" cy="352296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0 h 3522960"/>
                <a:gd name="textAreaBottom" fmla="*/ 3523320 h 35229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饼形 17"/>
            <p:cNvSpPr/>
            <p:nvPr/>
          </p:nvSpPr>
          <p:spPr>
            <a:xfrm flipH="1" rot="10800000">
              <a:off x="608040" y="1082520"/>
              <a:ext cx="2770200" cy="277056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0 h 2770560"/>
                <a:gd name="textAreaBottom" fmla="*/ 2770920 h 27705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饼形 18"/>
            <p:cNvSpPr/>
            <p:nvPr/>
          </p:nvSpPr>
          <p:spPr>
            <a:xfrm flipH="1" rot="10800000">
              <a:off x="868680" y="1333440"/>
              <a:ext cx="2259000" cy="225936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0 h 2259360"/>
                <a:gd name="textAreaBottom" fmla="*/ 2259720 h 2259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饼形 19"/>
            <p:cNvSpPr/>
            <p:nvPr/>
          </p:nvSpPr>
          <p:spPr>
            <a:xfrm flipH="1" rot="10800000">
              <a:off x="1114560" y="156960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饼形 20"/>
            <p:cNvSpPr/>
            <p:nvPr/>
          </p:nvSpPr>
          <p:spPr>
            <a:xfrm flipH="1" rot="10800000">
              <a:off x="1269360" y="1736280"/>
              <a:ext cx="1458720" cy="1459080"/>
            </a:xfrm>
            <a:custGeom>
              <a:avLst/>
              <a:gdLst>
                <a:gd name="textAreaLeft" fmla="*/ 0 w 1458720"/>
                <a:gd name="textAreaRight" fmla="*/ 1458720 w 145872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71280" y="1071000"/>
            <a:ext cx="3522960" cy="3522600"/>
            <a:chOff x="71280" y="1071000"/>
            <a:chExt cx="3522960" cy="3522600"/>
          </a:xfrm>
        </p:grpSpPr>
        <p:sp>
          <p:nvSpPr>
            <p:cNvPr id="437" name="饼形 24"/>
            <p:cNvSpPr/>
            <p:nvPr/>
          </p:nvSpPr>
          <p:spPr>
            <a:xfrm flipV="1" rot="10800000">
              <a:off x="71280" y="1070640"/>
              <a:ext cx="3522960" cy="3522600"/>
            </a:xfrm>
            <a:custGeom>
              <a:avLst/>
              <a:gdLst>
                <a:gd name="textAreaLeft" fmla="*/ 0 w 3522960"/>
                <a:gd name="textAreaRight" fmla="*/ 3523320 w 352296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饼形 25"/>
            <p:cNvSpPr/>
            <p:nvPr/>
          </p:nvSpPr>
          <p:spPr>
            <a:xfrm flipV="1" rot="10800000">
              <a:off x="447480" y="1454760"/>
              <a:ext cx="2770560" cy="2770200"/>
            </a:xfrm>
            <a:custGeom>
              <a:avLst/>
              <a:gdLst>
                <a:gd name="textAreaLeft" fmla="*/ 0 w 2770560"/>
                <a:gd name="textAreaRight" fmla="*/ 2770920 w 27705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67"/>
                  <a:lnTo>
                    <a:pt x="1385092" y="13850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饼形 26"/>
            <p:cNvSpPr/>
            <p:nvPr/>
          </p:nvSpPr>
          <p:spPr>
            <a:xfrm flipV="1" rot="10800000">
              <a:off x="698400" y="1715040"/>
              <a:ext cx="2259360" cy="2259000"/>
            </a:xfrm>
            <a:custGeom>
              <a:avLst/>
              <a:gdLst>
                <a:gd name="textAreaLeft" fmla="*/ 0 w 2259360"/>
                <a:gd name="textAreaRight" fmla="*/ 2259720 w 225936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饼形 27"/>
            <p:cNvSpPr/>
            <p:nvPr/>
          </p:nvSpPr>
          <p:spPr>
            <a:xfrm flipV="1" rot="10800000">
              <a:off x="940680" y="196740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饼形 28"/>
            <p:cNvSpPr/>
            <p:nvPr/>
          </p:nvSpPr>
          <p:spPr>
            <a:xfrm flipV="1" rot="10800000">
              <a:off x="1098000" y="2112840"/>
              <a:ext cx="1459080" cy="1458720"/>
            </a:xfrm>
            <a:custGeom>
              <a:avLst/>
              <a:gdLst>
                <a:gd name="textAreaLeft" fmla="*/ 0 w 1459080"/>
                <a:gd name="textAreaRight" fmla="*/ 1459440 w 145908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27880" y="714240"/>
            <a:ext cx="3522600" cy="3522960"/>
            <a:chOff x="227880" y="714240"/>
            <a:chExt cx="3522600" cy="3522960"/>
          </a:xfrm>
        </p:grpSpPr>
        <p:sp>
          <p:nvSpPr>
            <p:cNvPr id="443" name="饼形 31"/>
            <p:cNvSpPr/>
            <p:nvPr/>
          </p:nvSpPr>
          <p:spPr>
            <a:xfrm flipH="1" flipV="1" rot="10800000">
              <a:off x="227520" y="714240"/>
              <a:ext cx="3522600" cy="352296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360 h 3522960"/>
                <a:gd name="textAreaBottom" fmla="*/ 3523680 h 35229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饼形 32"/>
            <p:cNvSpPr/>
            <p:nvPr/>
          </p:nvSpPr>
          <p:spPr>
            <a:xfrm flipH="1" flipV="1" rot="10800000">
              <a:off x="603720" y="1098360"/>
              <a:ext cx="2770200" cy="277056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360 h 2770560"/>
                <a:gd name="textAreaBottom" fmla="*/ 2771280 h 27705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饼形 33"/>
            <p:cNvSpPr/>
            <p:nvPr/>
          </p:nvSpPr>
          <p:spPr>
            <a:xfrm flipH="1" flipV="1" rot="10800000">
              <a:off x="864000" y="1358640"/>
              <a:ext cx="2259000" cy="225936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360 h 2259360"/>
                <a:gd name="textAreaBottom" fmla="*/ 2260080 h 2259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饼形 34"/>
            <p:cNvSpPr/>
            <p:nvPr/>
          </p:nvSpPr>
          <p:spPr>
            <a:xfrm flipH="1" flipV="1" rot="10800000">
              <a:off x="1109880" y="16099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饼形 35"/>
            <p:cNvSpPr/>
            <p:nvPr/>
          </p:nvSpPr>
          <p:spPr>
            <a:xfrm flipH="1" flipV="1" rot="10800000">
              <a:off x="1265040" y="1754640"/>
              <a:ext cx="1458720" cy="1459080"/>
            </a:xfrm>
            <a:custGeom>
              <a:avLst/>
              <a:gdLst>
                <a:gd name="textAreaLeft" fmla="*/ 0 w 1458720"/>
                <a:gd name="textAreaRight" fmla="*/ 1458720 w 1458720"/>
                <a:gd name="textAreaTop" fmla="*/ -360 h 1459080"/>
                <a:gd name="textAreaBottom" fmla="*/ 1459080 h 145908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23200" y="714240"/>
            <a:ext cx="3522600" cy="3522960"/>
            <a:chOff x="223200" y="714240"/>
            <a:chExt cx="3522600" cy="3522960"/>
          </a:xfrm>
        </p:grpSpPr>
        <p:sp>
          <p:nvSpPr>
            <p:cNvPr id="449" name="饼形 38"/>
            <p:cNvSpPr/>
            <p:nvPr/>
          </p:nvSpPr>
          <p:spPr>
            <a:xfrm flipH="1" flipV="1" rot="5400000">
              <a:off x="222480" y="714240"/>
              <a:ext cx="3522960" cy="3522600"/>
            </a:xfrm>
            <a:custGeom>
              <a:avLst/>
              <a:gdLst>
                <a:gd name="textAreaLeft" fmla="*/ 360 w 3522960"/>
                <a:gd name="textAreaRight" fmla="*/ 3523680 w 352296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饼形 39"/>
            <p:cNvSpPr/>
            <p:nvPr/>
          </p:nvSpPr>
          <p:spPr>
            <a:xfrm flipH="1" flipV="1" rot="5400000">
              <a:off x="606600" y="1090440"/>
              <a:ext cx="2770560" cy="2770200"/>
            </a:xfrm>
            <a:custGeom>
              <a:avLst/>
              <a:gdLst>
                <a:gd name="textAreaLeft" fmla="*/ 360 w 2770560"/>
                <a:gd name="textAreaRight" fmla="*/ 2771280 w 27705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饼形 40"/>
            <p:cNvSpPr/>
            <p:nvPr/>
          </p:nvSpPr>
          <p:spPr>
            <a:xfrm flipH="1" flipV="1" rot="5400000">
              <a:off x="866880" y="1341360"/>
              <a:ext cx="2259360" cy="2259000"/>
            </a:xfrm>
            <a:custGeom>
              <a:avLst/>
              <a:gdLst>
                <a:gd name="textAreaLeft" fmla="*/ 360 w 2259360"/>
                <a:gd name="textAreaRight" fmla="*/ 2260080 w 225936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饼形 41"/>
            <p:cNvSpPr/>
            <p:nvPr/>
          </p:nvSpPr>
          <p:spPr>
            <a:xfrm flipH="1" flipV="1" rot="5400000">
              <a:off x="1119600" y="15847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饼形 42"/>
            <p:cNvSpPr/>
            <p:nvPr/>
          </p:nvSpPr>
          <p:spPr>
            <a:xfrm flipH="1" flipV="1" rot="5400000">
              <a:off x="1264680" y="1741680"/>
              <a:ext cx="1459080" cy="1458720"/>
            </a:xfrm>
            <a:custGeom>
              <a:avLst/>
              <a:gdLst>
                <a:gd name="textAreaLeft" fmla="*/ -360 w 1459080"/>
                <a:gd name="textAreaRight" fmla="*/ 1459080 w 145908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30040" y="714240"/>
            <a:ext cx="3522960" cy="3522960"/>
            <a:chOff x="230040" y="714240"/>
            <a:chExt cx="3522960" cy="3522960"/>
          </a:xfrm>
        </p:grpSpPr>
        <p:sp>
          <p:nvSpPr>
            <p:cNvPr id="455" name="饼形 45"/>
            <p:cNvSpPr/>
            <p:nvPr/>
          </p:nvSpPr>
          <p:spPr>
            <a:xfrm rot="5400000">
              <a:off x="230040" y="713880"/>
              <a:ext cx="3522960" cy="3522960"/>
            </a:xfrm>
            <a:custGeom>
              <a:avLst/>
              <a:gdLst>
                <a:gd name="textAreaLeft" fmla="*/ 0 w 3522960"/>
                <a:gd name="textAreaRight" fmla="*/ 3523320 w 3522960"/>
                <a:gd name="textAreaTop" fmla="*/ 0 h 3522960"/>
                <a:gd name="textAreaBottom" fmla="*/ 3523320 h 352296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饼形 46"/>
            <p:cNvSpPr/>
            <p:nvPr/>
          </p:nvSpPr>
          <p:spPr>
            <a:xfrm rot="5400000">
              <a:off x="597960" y="1090080"/>
              <a:ext cx="2770560" cy="2770560"/>
            </a:xfrm>
            <a:custGeom>
              <a:avLst/>
              <a:gdLst>
                <a:gd name="textAreaLeft" fmla="*/ 0 w 2770560"/>
                <a:gd name="textAreaRight" fmla="*/ 2770920 w 2770560"/>
                <a:gd name="textAreaTop" fmla="*/ 0 h 2770560"/>
                <a:gd name="textAreaBottom" fmla="*/ 2770920 h 277056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饼形 47"/>
            <p:cNvSpPr/>
            <p:nvPr/>
          </p:nvSpPr>
          <p:spPr>
            <a:xfrm rot="5400000">
              <a:off x="848880" y="1350360"/>
              <a:ext cx="2259360" cy="2259360"/>
            </a:xfrm>
            <a:custGeom>
              <a:avLst/>
              <a:gdLst>
                <a:gd name="textAreaLeft" fmla="*/ 0 w 2259360"/>
                <a:gd name="textAreaRight" fmla="*/ 2259720 w 2259360"/>
                <a:gd name="textAreaTop" fmla="*/ 0 h 2259360"/>
                <a:gd name="textAreaBottom" fmla="*/ 2259720 h 225936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饼形 48"/>
            <p:cNvSpPr/>
            <p:nvPr/>
          </p:nvSpPr>
          <p:spPr>
            <a:xfrm rot="5400000">
              <a:off x="1085400" y="15969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饼形 49"/>
            <p:cNvSpPr/>
            <p:nvPr/>
          </p:nvSpPr>
          <p:spPr>
            <a:xfrm rot="5400000">
              <a:off x="1251720" y="1751040"/>
              <a:ext cx="1459080" cy="1459080"/>
            </a:xfrm>
            <a:custGeom>
              <a:avLst/>
              <a:gdLst>
                <a:gd name="textAreaLeft" fmla="*/ 0 w 1459080"/>
                <a:gd name="textAreaRight" fmla="*/ 1459440 w 145908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70960" y="857160"/>
            <a:ext cx="3522600" cy="3522600"/>
            <a:chOff x="570960" y="857160"/>
            <a:chExt cx="3522600" cy="3522600"/>
          </a:xfrm>
        </p:grpSpPr>
        <p:sp>
          <p:nvSpPr>
            <p:cNvPr id="461" name="饼形 52"/>
            <p:cNvSpPr/>
            <p:nvPr/>
          </p:nvSpPr>
          <p:spPr>
            <a:xfrm flipH="1" rot="16200000">
              <a:off x="570600" y="857160"/>
              <a:ext cx="3522600" cy="3522600"/>
            </a:xfrm>
            <a:custGeom>
              <a:avLst/>
              <a:gdLst>
                <a:gd name="textAreaLeft" fmla="*/ -360 w 3522600"/>
                <a:gd name="textAreaRight" fmla="*/ 3522600 w 3522600"/>
                <a:gd name="textAreaTop" fmla="*/ 0 h 3522600"/>
                <a:gd name="textAreaBottom" fmla="*/ 352296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饼形 53"/>
            <p:cNvSpPr/>
            <p:nvPr/>
          </p:nvSpPr>
          <p:spPr>
            <a:xfrm flipH="1" rot="16200000">
              <a:off x="954720" y="1233360"/>
              <a:ext cx="2770200" cy="2770200"/>
            </a:xfrm>
            <a:custGeom>
              <a:avLst/>
              <a:gdLst>
                <a:gd name="textAreaLeft" fmla="*/ -360 w 2770200"/>
                <a:gd name="textAreaRight" fmla="*/ 2770200 w 277020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饼形 54"/>
            <p:cNvSpPr/>
            <p:nvPr/>
          </p:nvSpPr>
          <p:spPr>
            <a:xfrm flipH="1" rot="16200000">
              <a:off x="1215000" y="1493640"/>
              <a:ext cx="2259000" cy="2259000"/>
            </a:xfrm>
            <a:custGeom>
              <a:avLst/>
              <a:gdLst>
                <a:gd name="textAreaLeft" fmla="*/ -360 w 2259000"/>
                <a:gd name="textAreaRight" fmla="*/ 2259000 w 2259000"/>
                <a:gd name="textAreaTop" fmla="*/ 0 h 2259000"/>
                <a:gd name="textAreaBottom" fmla="*/ 225936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饼形 55"/>
            <p:cNvSpPr/>
            <p:nvPr/>
          </p:nvSpPr>
          <p:spPr>
            <a:xfrm flipH="1" rot="16200000">
              <a:off x="1467360" y="1739520"/>
              <a:ext cx="1770120" cy="1770120"/>
            </a:xfrm>
            <a:custGeom>
              <a:avLst/>
              <a:gdLst>
                <a:gd name="textAreaLeft" fmla="*/ -360 w 1770120"/>
                <a:gd name="textAreaRight" fmla="*/ 1770120 w 177012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饼形 56"/>
            <p:cNvSpPr/>
            <p:nvPr/>
          </p:nvSpPr>
          <p:spPr>
            <a:xfrm flipH="1" rot="16200000">
              <a:off x="1612800" y="18936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16" h="1458916">
                  <a:moveTo>
                    <a:pt x="1250209" y="1240268"/>
                  </a:moveTo>
                  <a:lnTo>
                    <a:pt x="1250209" y="1240268"/>
                  </a:lnTo>
                  <a:arcTo wR="729458" hR="729458" stAng="2666872" swAng="2780441"/>
                  <a:lnTo>
                    <a:pt x="729458" y="729458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28240" y="706320"/>
            <a:ext cx="3522600" cy="3522960"/>
            <a:chOff x="228240" y="706320"/>
            <a:chExt cx="3522600" cy="3522960"/>
          </a:xfrm>
        </p:grpSpPr>
        <p:sp>
          <p:nvSpPr>
            <p:cNvPr id="467" name="饼形 60"/>
            <p:cNvSpPr/>
            <p:nvPr/>
          </p:nvSpPr>
          <p:spPr>
            <a:xfrm flipV="1" rot="16200000">
              <a:off x="227880" y="706320"/>
              <a:ext cx="3522960" cy="3522600"/>
            </a:xfrm>
            <a:custGeom>
              <a:avLst/>
              <a:gdLst>
                <a:gd name="textAreaLeft" fmla="*/ 0 w 3522960"/>
                <a:gd name="textAreaRight" fmla="*/ 3523320 w 3522960"/>
                <a:gd name="textAreaTop" fmla="*/ -360 h 3522600"/>
                <a:gd name="textAreaBottom" fmla="*/ 3522600 h 3522600"/>
              </a:gdLst>
              <a:ahLst/>
              <a:rect l="textAreaLeft" t="textAreaTop" r="textAreaRight" b="textAreaBottom"/>
              <a:pathLst>
                <a:path w="3522652" h="3522652">
                  <a:moveTo>
                    <a:pt x="3011984" y="3001536"/>
                  </a:moveTo>
                  <a:lnTo>
                    <a:pt x="3011985" y="3001537"/>
                  </a:lnTo>
                  <a:arcTo wR="1761326" hR="1761326" stAng="2685580" swAng="2727278"/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饼形 61"/>
            <p:cNvSpPr/>
            <p:nvPr/>
          </p:nvSpPr>
          <p:spPr>
            <a:xfrm flipV="1" rot="16200000">
              <a:off x="596160" y="1082520"/>
              <a:ext cx="2770560" cy="2770200"/>
            </a:xfrm>
            <a:custGeom>
              <a:avLst/>
              <a:gdLst>
                <a:gd name="textAreaLeft" fmla="*/ 0 w 2770560"/>
                <a:gd name="textAreaRight" fmla="*/ 2770920 w 2770560"/>
                <a:gd name="textAreaTop" fmla="*/ -360 h 2770200"/>
                <a:gd name="textAreaBottom" fmla="*/ 2770200 h 2770200"/>
              </a:gdLst>
              <a:ahLst/>
              <a:rect l="textAreaLeft" t="textAreaTop" r="textAreaRight" b="textAreaBottom"/>
              <a:pathLst>
                <a:path w="2770185" h="2770185">
                  <a:moveTo>
                    <a:pt x="2373560" y="2355356"/>
                  </a:moveTo>
                  <a:lnTo>
                    <a:pt x="2373560" y="2355356"/>
                  </a:lnTo>
                  <a:arcTo wR="1385092" hR="1385092" stAng="2668053" swAng="2742552"/>
                  <a:lnTo>
                    <a:pt x="1385092" y="138509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饼形 62"/>
            <p:cNvSpPr/>
            <p:nvPr/>
          </p:nvSpPr>
          <p:spPr>
            <a:xfrm flipV="1" rot="16200000">
              <a:off x="846720" y="1333440"/>
              <a:ext cx="2259360" cy="2259000"/>
            </a:xfrm>
            <a:custGeom>
              <a:avLst/>
              <a:gdLst>
                <a:gd name="textAreaLeft" fmla="*/ 0 w 2259360"/>
                <a:gd name="textAreaRight" fmla="*/ 2259720 w 2259360"/>
                <a:gd name="textAreaTop" fmla="*/ -360 h 2259000"/>
                <a:gd name="textAreaBottom" fmla="*/ 2259000 h 2259000"/>
              </a:gdLst>
              <a:ahLst/>
              <a:rect l="textAreaLeft" t="textAreaTop" r="textAreaRight" b="textAreaBottom"/>
              <a:pathLst>
                <a:path w="2259012" h="2259012">
                  <a:moveTo>
                    <a:pt x="1935574" y="1920730"/>
                  </a:moveTo>
                  <a:lnTo>
                    <a:pt x="1935575" y="1920731"/>
                  </a:lnTo>
                  <a:arcTo wR="1129506" hR="1129506" stAng="2668053" swAng="2760298"/>
                  <a:lnTo>
                    <a:pt x="1129506" y="112950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饼形 63"/>
            <p:cNvSpPr/>
            <p:nvPr/>
          </p:nvSpPr>
          <p:spPr>
            <a:xfrm flipV="1" rot="16200000">
              <a:off x="1083960" y="1575360"/>
              <a:ext cx="1770120" cy="177012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-360 h 1770120"/>
                <a:gd name="textAreaBottom" fmla="*/ 1770120 h 1770120"/>
              </a:gdLst>
              <a:ahLst/>
              <a:rect l="textAreaLeft" t="textAreaTop" r="textAreaRight" b="textAreaBottom"/>
              <a:pathLst>
                <a:path w="1770063" h="1770063">
                  <a:moveTo>
                    <a:pt x="1516631" y="1505000"/>
                  </a:moveTo>
                  <a:lnTo>
                    <a:pt x="1516632" y="1505001"/>
                  </a:lnTo>
                  <a:arcTo wR="885031" hR="885031" stAng="2668053" swAng="2778793"/>
                  <a:lnTo>
                    <a:pt x="885031" y="885031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饼形 64"/>
            <p:cNvSpPr/>
            <p:nvPr/>
          </p:nvSpPr>
          <p:spPr>
            <a:xfrm flipV="1" rot="16200000">
              <a:off x="1250640" y="1732680"/>
              <a:ext cx="1459080" cy="1458720"/>
            </a:xfrm>
            <a:custGeom>
              <a:avLst/>
              <a:gdLst>
                <a:gd name="textAreaLeft" fmla="*/ 0 w 1459080"/>
                <a:gd name="textAreaRight" fmla="*/ 1459440 w 1459080"/>
                <a:gd name="textAreaTop" fmla="*/ 0 h 1458720"/>
                <a:gd name="textAreaBottom" fmla="*/ 1458720 h 1458720"/>
              </a:gdLst>
              <a:ahLst/>
              <a:rect l="textAreaLeft" t="textAreaTop" r="textAreaRight" b="textAreaBottom"/>
              <a:pathLst>
                <a:path w="1458916" h="1458916">
                  <a:moveTo>
                    <a:pt x="1246117" y="1244406"/>
                  </a:moveTo>
                  <a:lnTo>
                    <a:pt x="1246117" y="1244406"/>
                  </a:lnTo>
                  <a:arcTo wR="729458" hR="729458" stAng="2694298" swAng="2753015"/>
                  <a:lnTo>
                    <a:pt x="729458" y="729458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TextBox 50"/>
          <p:cNvSpPr/>
          <p:nvPr/>
        </p:nvSpPr>
        <p:spPr>
          <a:xfrm>
            <a:off x="4707360" y="300024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2BF-B161-4AB8-93D0-64E2C40C85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5:08:22Z</dcterms:created>
  <dc:creator>Administrator</dc:creator>
  <dc:description/>
  <dc:language>en-US</dc:language>
  <cp:lastModifiedBy>BJ-CH-William.wu</cp:lastModifiedBy>
  <dcterms:modified xsi:type="dcterms:W3CDTF">2015-06-13T07:46:1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