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1C9B-1B14-419D-9ED1-1A320CC6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1E1F-1B96-4D4C-AAE3-47BD8698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ABA9-9A96-4988-8B23-40C0B461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9293-C786-41EC-A1E3-540D6344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EABF-9FA9-429C-977D-CCB009BE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80FA-26B8-40D2-8605-D77CCEEE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FB33-3B3E-49AA-AA4A-35A1571B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A58B-1020-4843-A702-361BAD7F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D746-896C-4948-A05F-A6AF7F18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8587-F54B-4DAF-AA3D-CE9ABA67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282A-9D64-4280-95F8-47CA3888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2E92-CDF6-471C-89E9-01C9315D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5643-DA11-4668-AA67-DC893BC4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B739-A101-4202-9869-AAF6BEF2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E554-A9DE-40CA-A058-3DC6A38C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788A-C92E-4D5A-8467-BAD083DE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08FD-B808-4314-A2BA-91269C686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F941-5785-40FC-B5F7-D79E3752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9B97-822F-413F-9EFA-2FDA5B62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FEDD-9E72-47AB-9BDE-E780A1F9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1177-A09B-47AA-86FB-2F0F9526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0B9D-72FE-45B9-8922-610BAF38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8F3F-B824-4E09-B96E-81918509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68D5-5435-451A-9289-5B0F7582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EC57-513B-4049-B990-9B7E3779C69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222F-C9B5-4740-9E97-4F509C80EA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6530-8EA3-4FED-8A6F-1B8603513AA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7C1B-37D4-4E79-9AFD-B58198009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234666-1310240R91638.jpg"/>
          <p:cNvPicPr/>
          <p:nvPr/>
        </p:nvPicPr>
        <p:blipFill>
          <a:blip r:embed="rId1"/>
          <a:stretch/>
        </p:blipFill>
        <p:spPr>
          <a:xfrm>
            <a:off x="15238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5:0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