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92F-AF30-44C0-825F-F18C2EAD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BB3-F78C-46C3-829A-2D9BBEA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0CB-EFA6-4BBA-8BB3-920B3CB1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ACC-236A-4C68-9E65-4869054D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C48B-7018-441D-A3E8-CA5C17BF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BCA5-92CC-4FC8-98A7-7D77498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B04B-B739-438E-A9C2-6B9B20B8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C448-7521-4C4C-9133-3F80A365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CF8A-1AA2-4A40-8FCC-1FED0D45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6560" y="19512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B27E-ACFA-4909-A4B4-11A57673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022F-A7A9-4AC1-B1F9-44580BB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D7F-21E1-45AC-BF5A-55CEBA8F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05A7-BBC6-48D9-B768-A3080B46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6114-FE69-4303-B6D3-17156246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A60C-FAA0-45EE-9FCF-96A3EC4B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82EC-741E-4775-AA03-EA89CA37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1435-E919-4B80-9322-7A3911DD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CC8-40CA-4019-AB0C-7DE655A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7AD-3A56-41E6-9068-32E9B951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4B6-6FC5-4727-8C87-8D472A81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19512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22E-6B75-4E3F-B984-9E56DC3C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780-8806-48D3-8354-43F574E6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34E-A621-46C8-9527-A7A7427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1F3-6580-4C3F-905F-122150C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5DDB-1495-442D-996F-19A22FBE05A2}" type="slidenum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0920" y="3147480"/>
            <a:ext cx="5327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7066-DEF5-4BAB-8432-054699A9363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7392960" y="3751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专用模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" dur="300" fill="hold"/>
                                        <p:tgtEl>
                                          <p:spTgt spid="84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94"/>
          <p:cNvSpPr/>
          <p:nvPr/>
        </p:nvSpPr>
        <p:spPr>
          <a:xfrm>
            <a:off x="720720" y="804960"/>
            <a:ext cx="35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757080" y="1941480"/>
            <a:ext cx="7848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把新世纪的祝福和希望，悄悄地放在将融的雪被下，让它们，沿着春天的秧苗生长，送给你满年的丰硕与芬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"/>
          <p:cNvSpPr/>
          <p:nvPr/>
        </p:nvSpPr>
        <p:spPr>
          <a:xfrm>
            <a:off x="841320" y="1554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7229520" y="2782800"/>
            <a:ext cx="151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快乐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E:\工作夹\PPT模版\s1030元旦\原图片\元旦.png"/>
          <p:cNvPicPr/>
          <p:nvPr/>
        </p:nvPicPr>
        <p:blipFill>
          <a:blip r:embed="rId3"/>
          <a:stretch/>
        </p:blipFill>
        <p:spPr>
          <a:xfrm>
            <a:off x="7124760" y="3751200"/>
            <a:ext cx="1824120" cy="1422360"/>
          </a:xfrm>
          <a:prstGeom prst="rect">
            <a:avLst/>
          </a:prstGeom>
          <a:ln w="0">
            <a:noFill/>
          </a:ln>
        </p:spPr>
      </p:pic>
      <p:sp>
        <p:nvSpPr>
          <p:cNvPr id="91" name="直接连接符 9"/>
          <p:cNvSpPr/>
          <p:nvPr/>
        </p:nvSpPr>
        <p:spPr>
          <a:xfrm>
            <a:off x="841320" y="236052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841320" y="271620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11"/>
          <p:cNvSpPr/>
          <p:nvPr/>
        </p:nvSpPr>
        <p:spPr>
          <a:xfrm>
            <a:off x="841320" y="200484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367600" y="3597120"/>
            <a:ext cx="30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7254720" y="441468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3.3349990844727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1FB-D29A-4AEB-AF95-2B0DA3502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5:44:41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锐普PPT</cp:lastModifiedBy>
  <dcterms:modified xsi:type="dcterms:W3CDTF">2015-06-12T14:59:29Z</dcterms:modified>
  <cp:revision>2</cp:revision>
  <dc:subject/>
  <dc:title>2012年锐普元旦PPT模板——心愿小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