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775F-A2E0-4B0C-8E89-7709C3CB9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FEFE-BF55-41AB-AFCE-3F8EBCB9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6ADD-516D-4648-BB3F-043D75B98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254F-FA7A-4742-BEB8-51181C675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EBC9-46D3-43CA-9F75-521C5420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B756-5390-4249-85EF-E4E265A0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AAA6-6EAB-4CA2-9E20-BDAE3AE2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4E64-2C0A-45BE-BBC3-758C79F8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4F2E-F369-40D3-8F89-F85D0CE5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2CA6-3FE8-4F8B-B965-F74DE3BC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DC87-56A0-4E4B-84E1-A8084D97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EDA0-819C-434D-A2FC-79A4BEEB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2751-E17F-48A1-B927-00BCC6667FB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FCC3-8CB7-477C-8857-1E3A95DE17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rapidppt.com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000160" y="4889520"/>
            <a:ext cx="4991040" cy="1554120"/>
            <a:chOff x="2000160" y="4889520"/>
            <a:chExt cx="4991040" cy="1554120"/>
          </a:xfrm>
        </p:grpSpPr>
        <p:pic>
          <p:nvPicPr>
            <p:cNvPr id="42" name="椭圆 10" descr=""/>
            <p:cNvPicPr/>
            <p:nvPr/>
          </p:nvPicPr>
          <p:blipFill>
            <a:blip r:embed="rId1"/>
            <a:stretch/>
          </p:blipFill>
          <p:spPr>
            <a:xfrm>
              <a:off x="2000160" y="4889520"/>
              <a:ext cx="499104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10800000">
              <a:off x="2811240" y="5194080"/>
              <a:ext cx="32911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3514680" y="4292640"/>
            <a:ext cx="1851120" cy="1049400"/>
            <a:chOff x="3514680" y="4292640"/>
            <a:chExt cx="1851120" cy="1049400"/>
          </a:xfrm>
        </p:grpSpPr>
        <p:sp>
          <p:nvSpPr>
            <p:cNvPr id="45" name="椭圆 2"/>
            <p:cNvSpPr/>
            <p:nvPr/>
          </p:nvSpPr>
          <p:spPr>
            <a:xfrm>
              <a:off x="3514680" y="4417560"/>
              <a:ext cx="1851120" cy="924480"/>
            </a:xfrm>
            <a:custGeom>
              <a:avLst/>
              <a:gdLst/>
              <a:ahLst/>
              <a:rect l="l" t="t" r="r" b="b"/>
              <a:pathLst>
                <a:path w="2768819" h="989699">
                  <a:moveTo>
                    <a:pt x="0" y="0"/>
                  </a:moveTo>
                  <a:cubicBezTo>
                    <a:pt x="380260" y="70629"/>
                    <a:pt x="883212" y="152500"/>
                    <a:pt x="1365445" y="152500"/>
                  </a:cubicBezTo>
                  <a:cubicBezTo>
                    <a:pt x="1847678" y="152500"/>
                    <a:pt x="2284258" y="91012"/>
                    <a:pt x="2768819" y="0"/>
                  </a:cubicBezTo>
                  <a:cubicBezTo>
                    <a:pt x="2572779" y="576015"/>
                    <a:pt x="2026905" y="989699"/>
                    <a:pt x="1384409" y="989699"/>
                  </a:cubicBezTo>
                  <a:cubicBezTo>
                    <a:pt x="741914" y="989699"/>
                    <a:pt x="196039" y="576015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4764"/>
                </a:gs>
                <a:gs pos="100000">
                  <a:srgbClr val="00b8ff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椭圆 10"/>
            <p:cNvSpPr/>
            <p:nvPr/>
          </p:nvSpPr>
          <p:spPr>
            <a:xfrm>
              <a:off x="3514680" y="4292640"/>
              <a:ext cx="1851120" cy="268920"/>
            </a:xfrm>
            <a:custGeom>
              <a:avLst/>
              <a:gdLst/>
              <a:ahLst/>
              <a:rect l="l" t="t" r="r" b="b"/>
              <a:pathLst>
                <a:path w="1855751" h="322835">
                  <a:moveTo>
                    <a:pt x="0" y="153077"/>
                  </a:moveTo>
                  <a:cubicBezTo>
                    <a:pt x="33893" y="35645"/>
                    <a:pt x="585162" y="-781"/>
                    <a:pt x="894454" y="13"/>
                  </a:cubicBezTo>
                  <a:cubicBezTo>
                    <a:pt x="1203746" y="807"/>
                    <a:pt x="1842019" y="48699"/>
                    <a:pt x="1855751" y="157839"/>
                  </a:cubicBezTo>
                  <a:cubicBezTo>
                    <a:pt x="1812889" y="213003"/>
                    <a:pt x="1365462" y="333923"/>
                    <a:pt x="892361" y="322016"/>
                  </a:cubicBezTo>
                  <a:cubicBezTo>
                    <a:pt x="409709" y="322016"/>
                    <a:pt x="75442" y="209390"/>
                    <a:pt x="0" y="15307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4764"/>
                </a:gs>
                <a:gs pos="100000">
                  <a:srgbClr val="00b8ff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3441600" y="3257640"/>
            <a:ext cx="1997280" cy="1006560"/>
            <a:chOff x="3441600" y="3257640"/>
            <a:chExt cx="1997280" cy="1006560"/>
          </a:xfrm>
        </p:grpSpPr>
        <p:sp>
          <p:nvSpPr>
            <p:cNvPr id="48" name="椭圆 11"/>
            <p:cNvSpPr/>
            <p:nvPr/>
          </p:nvSpPr>
          <p:spPr>
            <a:xfrm>
              <a:off x="3441600" y="3398400"/>
              <a:ext cx="1997280" cy="865800"/>
            </a:xfrm>
            <a:custGeom>
              <a:avLst/>
              <a:gdLst/>
              <a:ahLst/>
              <a:rect l="l" t="t" r="r" b="b"/>
              <a:pathLst>
                <a:path w="2929388" h="928410">
                  <a:moveTo>
                    <a:pt x="38236" y="0"/>
                  </a:moveTo>
                  <a:lnTo>
                    <a:pt x="40502" y="249"/>
                  </a:lnTo>
                  <a:cubicBezTo>
                    <a:pt x="465536" y="105687"/>
                    <a:pt x="950252" y="164962"/>
                    <a:pt x="1464694" y="164962"/>
                  </a:cubicBezTo>
                  <a:cubicBezTo>
                    <a:pt x="1918892" y="164962"/>
                    <a:pt x="2349918" y="118757"/>
                    <a:pt x="2736593" y="32746"/>
                  </a:cubicBezTo>
                  <a:cubicBezTo>
                    <a:pt x="2788729" y="28638"/>
                    <a:pt x="2840843" y="21068"/>
                    <a:pt x="2892996" y="10365"/>
                  </a:cubicBezTo>
                  <a:cubicBezTo>
                    <a:pt x="2917427" y="112386"/>
                    <a:pt x="2929388" y="218843"/>
                    <a:pt x="2929388" y="328092"/>
                  </a:cubicBezTo>
                  <a:cubicBezTo>
                    <a:pt x="2929388" y="494525"/>
                    <a:pt x="2901629" y="654473"/>
                    <a:pt x="2849103" y="803087"/>
                  </a:cubicBezTo>
                  <a:cubicBezTo>
                    <a:pt x="2411952" y="866921"/>
                    <a:pt x="1927963" y="928410"/>
                    <a:pt x="1445730" y="928410"/>
                  </a:cubicBezTo>
                  <a:cubicBezTo>
                    <a:pt x="963497" y="928410"/>
                    <a:pt x="517436" y="866921"/>
                    <a:pt x="80285" y="803087"/>
                  </a:cubicBezTo>
                  <a:cubicBezTo>
                    <a:pt x="27759" y="654473"/>
                    <a:pt x="0" y="494525"/>
                    <a:pt x="0" y="328092"/>
                  </a:cubicBezTo>
                  <a:cubicBezTo>
                    <a:pt x="0" y="215192"/>
                    <a:pt x="12774" y="105274"/>
                    <a:pt x="3823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e7c06"/>
                </a:gs>
                <a:gs pos="100000">
                  <a:srgbClr val="bceb6f"/>
                </a:gs>
              </a:gsLst>
              <a:lin ang="3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椭圆 10"/>
            <p:cNvSpPr/>
            <p:nvPr/>
          </p:nvSpPr>
          <p:spPr>
            <a:xfrm>
              <a:off x="3470760" y="3257640"/>
              <a:ext cx="1939680" cy="295560"/>
            </a:xfrm>
            <a:custGeom>
              <a:avLst/>
              <a:gdLst/>
              <a:ahLst/>
              <a:rect l="l" t="t" r="r" b="b"/>
              <a:pathLst>
                <a:path w="1776882" h="335678">
                  <a:moveTo>
                    <a:pt x="0" y="160220"/>
                  </a:moveTo>
                  <a:cubicBezTo>
                    <a:pt x="4763" y="92001"/>
                    <a:pt x="577967" y="-992"/>
                    <a:pt x="874114" y="8"/>
                  </a:cubicBezTo>
                  <a:cubicBezTo>
                    <a:pt x="1170261" y="1008"/>
                    <a:pt x="1734020" y="72954"/>
                    <a:pt x="1776882" y="166219"/>
                  </a:cubicBezTo>
                  <a:cubicBezTo>
                    <a:pt x="1734020" y="221383"/>
                    <a:pt x="1321060" y="346793"/>
                    <a:pt x="847959" y="334886"/>
                  </a:cubicBezTo>
                  <a:cubicBezTo>
                    <a:pt x="365307" y="334886"/>
                    <a:pt x="35718" y="216533"/>
                    <a:pt x="0" y="160220"/>
                  </a:cubicBezTo>
                  <a:close/>
                </a:path>
              </a:pathLst>
            </a:custGeom>
            <a:gradFill rotWithShape="0">
              <a:gsLst>
                <a:gs pos="0">
                  <a:srgbClr val="0e7c06"/>
                </a:gs>
                <a:gs pos="100000">
                  <a:srgbClr val="bceb6f"/>
                </a:gs>
              </a:gsLst>
              <a:lin ang="4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484440" y="2376360"/>
            <a:ext cx="1906560" cy="868320"/>
            <a:chOff x="3484440" y="2376360"/>
            <a:chExt cx="1906560" cy="868320"/>
          </a:xfrm>
        </p:grpSpPr>
        <p:sp>
          <p:nvSpPr>
            <p:cNvPr id="51" name="椭圆 6"/>
            <p:cNvSpPr/>
            <p:nvPr/>
          </p:nvSpPr>
          <p:spPr>
            <a:xfrm>
              <a:off x="3484440" y="2486880"/>
              <a:ext cx="1906560" cy="757800"/>
            </a:xfrm>
            <a:custGeom>
              <a:avLst/>
              <a:gdLst/>
              <a:ahLst/>
              <a:rect l="l" t="t" r="r" b="b"/>
              <a:pathLst>
                <a:path w="2852836" h="812079">
                  <a:moveTo>
                    <a:pt x="334026" y="0"/>
                  </a:moveTo>
                  <a:cubicBezTo>
                    <a:pt x="629853" y="114341"/>
                    <a:pt x="1009624" y="182893"/>
                    <a:pt x="1423773" y="182893"/>
                  </a:cubicBezTo>
                  <a:cubicBezTo>
                    <a:pt x="1807753" y="182893"/>
                    <a:pt x="2162182" y="123965"/>
                    <a:pt x="2447320" y="23572"/>
                  </a:cubicBezTo>
                  <a:cubicBezTo>
                    <a:pt x="2470720" y="18147"/>
                    <a:pt x="2493390" y="11141"/>
                    <a:pt x="2514376" y="1055"/>
                  </a:cubicBezTo>
                  <a:cubicBezTo>
                    <a:pt x="2679522" y="179535"/>
                    <a:pt x="2797076" y="401441"/>
                    <a:pt x="2852836" y="646891"/>
                  </a:cubicBezTo>
                  <a:cubicBezTo>
                    <a:pt x="2427255" y="752598"/>
                    <a:pt x="1941751" y="812079"/>
                    <a:pt x="1426418" y="812079"/>
                  </a:cubicBezTo>
                  <a:cubicBezTo>
                    <a:pt x="911085" y="812079"/>
                    <a:pt x="425581" y="752598"/>
                    <a:pt x="0" y="646891"/>
                  </a:cubicBezTo>
                  <a:cubicBezTo>
                    <a:pt x="55592" y="402182"/>
                    <a:pt x="172605" y="180875"/>
                    <a:pt x="33402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73401"/>
                </a:gs>
                <a:gs pos="100000">
                  <a:srgbClr val="fece02"/>
                </a:gs>
              </a:gsLst>
              <a:lin ang="3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10"/>
            <p:cNvSpPr/>
            <p:nvPr/>
          </p:nvSpPr>
          <p:spPr>
            <a:xfrm>
              <a:off x="3711960" y="2376360"/>
              <a:ext cx="1449720" cy="281520"/>
            </a:xfrm>
            <a:custGeom>
              <a:avLst/>
              <a:gdLst/>
              <a:ahLst/>
              <a:rect l="l" t="t" r="r" b="b"/>
              <a:pathLst>
                <a:path w="1747836" h="338503">
                  <a:moveTo>
                    <a:pt x="0" y="133220"/>
                  </a:moveTo>
                  <a:cubicBezTo>
                    <a:pt x="4763" y="65001"/>
                    <a:pt x="379360" y="0"/>
                    <a:pt x="862012" y="0"/>
                  </a:cubicBezTo>
                  <a:cubicBezTo>
                    <a:pt x="1344664" y="0"/>
                    <a:pt x="1704974" y="39955"/>
                    <a:pt x="1747836" y="133220"/>
                  </a:cubicBezTo>
                  <a:cubicBezTo>
                    <a:pt x="1704974" y="188384"/>
                    <a:pt x="1306538" y="349785"/>
                    <a:pt x="833437" y="337878"/>
                  </a:cubicBezTo>
                  <a:cubicBezTo>
                    <a:pt x="350785" y="337878"/>
                    <a:pt x="35718" y="189533"/>
                    <a:pt x="0" y="133220"/>
                  </a:cubicBezTo>
                  <a:close/>
                </a:path>
              </a:pathLst>
            </a:custGeom>
            <a:gradFill rotWithShape="0">
              <a:gsLst>
                <a:gs pos="0">
                  <a:srgbClr val="a73401"/>
                </a:gs>
                <a:gs pos="100000">
                  <a:srgbClr val="fece02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784680" y="1808280"/>
            <a:ext cx="1305000" cy="631800"/>
            <a:chOff x="3784680" y="1808280"/>
            <a:chExt cx="1305000" cy="631800"/>
          </a:xfrm>
        </p:grpSpPr>
        <p:sp>
          <p:nvSpPr>
            <p:cNvPr id="54" name="椭圆 4"/>
            <p:cNvSpPr/>
            <p:nvPr/>
          </p:nvSpPr>
          <p:spPr>
            <a:xfrm>
              <a:off x="3784680" y="1808280"/>
              <a:ext cx="1305000" cy="631800"/>
            </a:xfrm>
            <a:custGeom>
              <a:avLst/>
              <a:gdLst/>
              <a:ahLst/>
              <a:rect l="l" t="t" r="r" b="b"/>
              <a:pathLst>
                <a:path w="2054038" h="677149">
                  <a:moveTo>
                    <a:pt x="1027019" y="476"/>
                  </a:moveTo>
                  <a:cubicBezTo>
                    <a:pt x="1493997" y="-11131"/>
                    <a:pt x="1853323" y="190395"/>
                    <a:pt x="2054038" y="492958"/>
                  </a:cubicBezTo>
                  <a:cubicBezTo>
                    <a:pt x="1757656" y="608038"/>
                    <a:pt x="1442853" y="677149"/>
                    <a:pt x="1027019" y="677149"/>
                  </a:cubicBezTo>
                  <a:cubicBezTo>
                    <a:pt x="611185" y="677149"/>
                    <a:pt x="296382" y="601244"/>
                    <a:pt x="0" y="486164"/>
                  </a:cubicBezTo>
                  <a:cubicBezTo>
                    <a:pt x="210197" y="190396"/>
                    <a:pt x="684679" y="-656"/>
                    <a:pt x="1027019" y="476"/>
                  </a:cubicBezTo>
                  <a:close/>
                </a:path>
              </a:pathLst>
            </a:custGeom>
            <a:gradFill rotWithShape="0">
              <a:gsLst>
                <a:gs pos="0">
                  <a:srgbClr val="be1247"/>
                </a:gs>
                <a:gs pos="100000">
                  <a:srgbClr val="fa9496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4194000" y="1859760"/>
              <a:ext cx="682560" cy="481680"/>
              <a:chOff x="4194000" y="1859760"/>
              <a:chExt cx="682560" cy="481680"/>
            </a:xfrm>
          </p:grpSpPr>
          <p:pic>
            <p:nvPicPr>
              <p:cNvPr id="56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194000" y="1859760"/>
                <a:ext cx="68256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76600">
                <a:off x="4294800" y="1935000"/>
                <a:ext cx="479520" cy="33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" name="直接连接符 16"/>
          <p:cNvSpPr/>
          <p:nvPr/>
        </p:nvSpPr>
        <p:spPr>
          <a:xfrm>
            <a:off x="4944960" y="2146320"/>
            <a:ext cx="2276640" cy="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1"/>
          <p:cNvSpPr/>
          <p:nvPr/>
        </p:nvSpPr>
        <p:spPr>
          <a:xfrm flipH="1">
            <a:off x="6234120" y="166212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18"/>
          <p:cNvSpPr/>
          <p:nvPr/>
        </p:nvSpPr>
        <p:spPr>
          <a:xfrm>
            <a:off x="5284800" y="3963960"/>
            <a:ext cx="2000160" cy="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1"/>
          <p:cNvSpPr/>
          <p:nvPr/>
        </p:nvSpPr>
        <p:spPr>
          <a:xfrm flipH="1">
            <a:off x="6234120" y="347976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20"/>
          <p:cNvSpPr/>
          <p:nvPr/>
        </p:nvSpPr>
        <p:spPr>
          <a:xfrm>
            <a:off x="4995720" y="5014800"/>
            <a:ext cx="2225880" cy="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1"/>
          <p:cNvSpPr/>
          <p:nvPr/>
        </p:nvSpPr>
        <p:spPr>
          <a:xfrm flipH="1">
            <a:off x="6234120" y="453060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22"/>
          <p:cNvSpPr/>
          <p:nvPr/>
        </p:nvSpPr>
        <p:spPr>
          <a:xfrm>
            <a:off x="5162400" y="2921040"/>
            <a:ext cx="2082960" cy="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 flipH="1">
            <a:off x="6234120" y="243684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60440" y="1692360"/>
            <a:ext cx="2184480" cy="459000"/>
            <a:chOff x="460440" y="1692360"/>
            <a:chExt cx="2184480" cy="459000"/>
          </a:xfrm>
        </p:grpSpPr>
        <p:sp>
          <p:nvSpPr>
            <p:cNvPr id="67" name="TextBox 11"/>
            <p:cNvSpPr/>
            <p:nvPr/>
          </p:nvSpPr>
          <p:spPr>
            <a:xfrm flipH="1">
              <a:off x="460440" y="169236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11"/>
            <p:cNvSpPr/>
            <p:nvPr/>
          </p:nvSpPr>
          <p:spPr>
            <a:xfrm flipH="1">
              <a:off x="1498680" y="169236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矩形 27"/>
          <p:cNvSpPr/>
          <p:nvPr/>
        </p:nvSpPr>
        <p:spPr>
          <a:xfrm>
            <a:off x="507960" y="1630440"/>
            <a:ext cx="2136960" cy="36360"/>
          </a:xfrm>
          <a:prstGeom prst="rect">
            <a:avLst/>
          </a:prstGeom>
          <a:solidFill>
            <a:srgbClr val="be12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1"/>
          <p:cNvSpPr/>
          <p:nvPr/>
        </p:nvSpPr>
        <p:spPr>
          <a:xfrm flipH="1">
            <a:off x="449280" y="127620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1"/>
          <p:cNvSpPr/>
          <p:nvPr/>
        </p:nvSpPr>
        <p:spPr>
          <a:xfrm flipH="1">
            <a:off x="3854520" y="2021040"/>
            <a:ext cx="13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1"/>
          <p:cNvSpPr/>
          <p:nvPr/>
        </p:nvSpPr>
        <p:spPr>
          <a:xfrm flipH="1">
            <a:off x="3854520" y="2781360"/>
            <a:ext cx="13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1"/>
          <p:cNvSpPr/>
          <p:nvPr/>
        </p:nvSpPr>
        <p:spPr>
          <a:xfrm flipH="1">
            <a:off x="3854520" y="3780000"/>
            <a:ext cx="13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1"/>
          <p:cNvSpPr/>
          <p:nvPr/>
        </p:nvSpPr>
        <p:spPr>
          <a:xfrm flipH="1">
            <a:off x="3854520" y="4672080"/>
            <a:ext cx="13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3"/>
          <p:cNvSpPr/>
          <p:nvPr/>
        </p:nvSpPr>
        <p:spPr>
          <a:xfrm>
            <a:off x="5554800" y="26028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蛋形分层叠加并列关系</a:t>
            </a:r>
            <a:r>
              <a:rPr b="0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4">
            <a:hlinkClick r:id="rId3"/>
          </p:cNvPr>
          <p:cNvSpPr/>
          <p:nvPr/>
        </p:nvSpPr>
        <p:spPr>
          <a:xfrm>
            <a:off x="2700360" y="6308640"/>
            <a:ext cx="30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F858-62A6-46FF-BC12-0691265148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01:05:16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