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BFA-0E9D-44A3-B617-D487D6F7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507-F7A7-46DC-99F0-1AFB2D86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2EEA-F11E-454E-9A1B-33AE3012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465-6E37-4417-AC65-85A7C40C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788B-5605-4330-8360-3172A1CA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B139-AF9C-47FA-A079-DF8BF25C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22F5-8D94-4AE1-BBDB-90D50044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5655-20FE-48BE-A25C-4F12B33C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D0CB-4E86-4075-BB60-6B8B0269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4BEE-B911-4A28-BA1C-70DFB2CA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EF16-4D48-435F-A28C-6D2B56D7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520A-AAED-4EB6-80B5-DDA0AFD3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C0C6-F6AB-446C-999C-8D2520B5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C9B1-354A-48AF-B021-E3673EBC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6F56-FE2D-4BAE-A84B-D4F64E33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8993-8125-4DCA-AF4A-45431BA1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D6A1-8F98-42FA-ABC4-F11B672B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D59-73B0-4271-823D-A062E77B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0015-80E2-4F7B-AF47-D1CD3927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790-F0B4-4D53-81AB-60F408B1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A2D-08BB-4A0E-8444-0108649D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55A-FF7D-4BCA-82CB-6E42D706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5D9B-8A73-42FE-B18D-A2EF2759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9E5-1E2D-4427-B17C-BDA9E9F9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38BB-3D1B-4605-8AA5-9BE49E101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4920" y="4428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48AD-1981-4434-9919-905F32BC7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131920"/>
            <a:ext cx="77040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防震手册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09880" y="64501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4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消除恐惧心理，相信自己有坚定的生存毅力，相信一定可以脱离险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54080" y="1225440"/>
            <a:ext cx="703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art 3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互相救助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统计显示，大地震后半小时内救出的被埋人员生存率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请支持救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听被困人员的呼喊、呻吟、敲击声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54080" y="1268280"/>
            <a:ext cx="703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房屋结构，确定被困人员的位置，再行抢救，以防止意外伤亡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054080" y="1225440"/>
            <a:ext cx="7035840" cy="4724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409880" y="64501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抢救建筑物边沿瓦砾中的幸存者，及时抢救那些容易获救的幸存者，以扩大互救队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054080" y="1225440"/>
            <a:ext cx="703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4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援抢救队伍应当首先抢救那些容易获救的是医院、学校、旅社、招待所等人员密集的地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703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救援需讲究方法。首先应使头部暴露。迅速清除口鼻内尘土，防止窒息，再行抢救，不可用利器刨挖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16000" y="1225440"/>
            <a:ext cx="703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埋压废虚中时间较长的幸存者，首先应输送饮料，然后边挖边支撑，注意保护幸存者的眼睛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54080" y="1268280"/>
            <a:ext cx="703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颈椎和腰椎受伤的人，施救时切忌生拉硬抬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54080" y="1297080"/>
            <a:ext cx="7035840" cy="4724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409880" y="64501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那些一息尚存的危重伤员，应尽可能在现场进行救治，然后迅速送往医院和医疗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054080" y="1197000"/>
            <a:ext cx="7035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让我们携起手来</a:t>
            </a: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共同抵御地震！</a:t>
            </a: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60360" y="631044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art 1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个人避震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震来临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楼房中：迅速远离外墙及其门窗，可选择厨房、浴室、厕所、楼梯间等开间小而不易塌落的空间避震，千万不要外逃或从楼上跳下，也不能使用电梯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5240" y="1268280"/>
            <a:ext cx="7035840" cy="472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2EF-BC02-4B2B-BBA6-944A5808A0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户外：要避开高大建筑物，要远离高压线及石化、化学、煤气等有毒的工厂或设施。在过桥时应紧紧抓住桥栏杆，待主震发生后即向桥头移动，正在行驶的车辆应紧急刹车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7035840" cy="472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工作间：应迅速关掉电源闸、门开关、然后就近选择机器、设备、办公家俱或事先建立的“安全岛”内避震，并防止次生灾害的发生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035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公共场所：如车站、剧院、教室、商店、候车室、地铁等场所的人员、切忌乱逃，要保持冷静，就地择物（排椅、柜架等物）躲避，伏而待定，然后听从指挥，有序撤离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54080" y="1225440"/>
            <a:ext cx="703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5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有毒气的化工厂区域内要朝污染源的上风处跑，以免中毒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54080" y="1066680"/>
            <a:ext cx="7035840" cy="4724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409880" y="64501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art 2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如何自救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困住了怎么办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困时，保持头脑清醒，设法将手脚挣脱出来，消除压在身上的物体，尽快捂住口鼻，防止烟尘窒息，等待求援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42920" y="1297080"/>
            <a:ext cx="7035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想方设法支撑可能坠落的重物，若无力自救脱险时，应尽量减少体力消耗，等待救援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54080" y="1152360"/>
            <a:ext cx="703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避免大声呼救，用石块或铁具等敲击物体来外界联系，保存体力，延长生命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054080" y="1225440"/>
            <a:ext cx="703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09:31:42Z</dcterms:created>
  <dc:creator/>
  <dc:description/>
  <dc:language>en-US</dc:language>
  <cp:lastModifiedBy>z</cp:lastModifiedBy>
  <dcterms:modified xsi:type="dcterms:W3CDTF">2015-06-13T08:36:42Z</dcterms:modified>
  <cp:revision>1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