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833-0F01-4803-9475-CFE190EC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56D-5FA0-4A2F-A700-4E1EC24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AB6-26E8-499E-8B78-64E913B6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CEF-465B-41D9-ABD8-C2FC6B85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3E7C-E5CA-4D65-B5D0-AD3DE9D1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B0A-7B5F-4CB8-8316-60E80863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955E-9E94-4790-BDE5-6583D24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E1C5-E41D-48CE-9098-F89D881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07D0-773A-421F-9855-07FCD8C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F4D-0768-4307-95FF-CD197F6E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C598-4458-4015-9980-D190A0C6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139-E5BD-41AC-9AB1-107A9B68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E248-19D0-484D-B396-16693BD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691B-C0CD-4F24-8982-BEC8443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DE25-C2B9-4248-89FF-83CDEFC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AB0D-62DA-407E-A2E6-6528DC80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D380-238E-41AF-AE21-BD9BEE2E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8F0-0F2E-4CB8-A7BC-BC997BB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55A-2476-45A4-AFFC-4E7282CD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EB6-DA97-4DCB-89B8-E7D22742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2F9-B1CA-475C-9F60-EAC6B98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482-581A-48D2-B1F7-4851233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735-5A29-4B07-8FAE-70447093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FB2-DF37-41DB-BA85-B26C6891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9E91-6514-4F12-B351-6BFC69FF1E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D5F-4F58-429B-8DEA-54F3353570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9711-33E6-4303-8279-F0EDF0E91D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7A73-4645-414D-9355-E4500162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22320" y="3833640"/>
            <a:ext cx="5559480" cy="1628640"/>
            <a:chOff x="1822320" y="3833640"/>
            <a:chExt cx="5559480" cy="162864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822320" y="3833640"/>
              <a:ext cx="55594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17640" y="4151160"/>
              <a:ext cx="36925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273320" y="3554280"/>
            <a:ext cx="3527280" cy="1189080"/>
            <a:chOff x="1273320" y="3554280"/>
            <a:chExt cx="3527280" cy="1189080"/>
          </a:xfrm>
        </p:grpSpPr>
        <p:sp>
          <p:nvSpPr>
            <p:cNvPr id="86" name="Freeform 12"/>
            <p:cNvSpPr/>
            <p:nvPr/>
          </p:nvSpPr>
          <p:spPr>
            <a:xfrm>
              <a:off x="1273320" y="4086000"/>
              <a:ext cx="3527280" cy="641880"/>
            </a:xfrm>
            <a:custGeom>
              <a:avLst/>
              <a:gdLst/>
              <a:ahLst/>
              <a:rect l="l" t="t" r="r" b="b"/>
              <a:pathLst>
                <a:path w="10013" h="10091">
                  <a:moveTo>
                    <a:pt x="10013" y="4487"/>
                  </a:moveTo>
                  <a:lnTo>
                    <a:pt x="8648" y="7634"/>
                  </a:lnTo>
                  <a:cubicBezTo>
                    <a:pt x="8648" y="7634"/>
                    <a:pt x="6432" y="1047"/>
                    <a:pt x="3134" y="6553"/>
                  </a:cubicBezTo>
                  <a:cubicBezTo>
                    <a:pt x="3288" y="7306"/>
                    <a:pt x="3441" y="8061"/>
                    <a:pt x="3595" y="8814"/>
                  </a:cubicBezTo>
                  <a:cubicBezTo>
                    <a:pt x="14" y="10091"/>
                    <a:pt x="643" y="9828"/>
                    <a:pt x="14" y="10091"/>
                  </a:cubicBezTo>
                  <a:cubicBezTo>
                    <a:pt x="-25" y="10107"/>
                    <a:pt x="33" y="6434"/>
                    <a:pt x="33" y="6434"/>
                  </a:cubicBezTo>
                  <a:cubicBezTo>
                    <a:pt x="815" y="5817"/>
                    <a:pt x="567" y="3733"/>
                    <a:pt x="2230" y="3408"/>
                  </a:cubicBezTo>
                  <a:cubicBezTo>
                    <a:pt x="3893" y="3083"/>
                    <a:pt x="6113" y="-4751"/>
                    <a:pt x="10013" y="44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1277640" y="3554280"/>
              <a:ext cx="3522600" cy="944280"/>
            </a:xfrm>
            <a:custGeom>
              <a:avLst/>
              <a:gdLst/>
              <a:ahLst/>
              <a:rect l="l" t="t" r="r" b="b"/>
              <a:pathLst>
                <a:path w="1128" h="302">
                  <a:moveTo>
                    <a:pt x="1128" y="188"/>
                  </a:moveTo>
                  <a:cubicBezTo>
                    <a:pt x="974" y="252"/>
                    <a:pt x="974" y="252"/>
                    <a:pt x="974" y="252"/>
                  </a:cubicBezTo>
                  <a:cubicBezTo>
                    <a:pt x="974" y="252"/>
                    <a:pt x="724" y="118"/>
                    <a:pt x="352" y="230"/>
                  </a:cubicBezTo>
                  <a:cubicBezTo>
                    <a:pt x="404" y="276"/>
                    <a:pt x="404" y="276"/>
                    <a:pt x="404" y="276"/>
                  </a:cubicBezTo>
                  <a:cubicBezTo>
                    <a:pt x="0" y="302"/>
                    <a:pt x="0" y="302"/>
                    <a:pt x="0" y="302"/>
                  </a:cubicBezTo>
                  <a:cubicBezTo>
                    <a:pt x="200" y="128"/>
                    <a:pt x="200" y="128"/>
                    <a:pt x="200" y="128"/>
                  </a:cubicBezTo>
                  <a:cubicBezTo>
                    <a:pt x="250" y="166"/>
                    <a:pt x="250" y="166"/>
                    <a:pt x="250" y="166"/>
                  </a:cubicBezTo>
                  <a:cubicBezTo>
                    <a:pt x="250" y="166"/>
                    <a:pt x="688" y="0"/>
                    <a:pt x="1128" y="1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7"/>
            <p:cNvSpPr/>
            <p:nvPr/>
          </p:nvSpPr>
          <p:spPr>
            <a:xfrm>
              <a:off x="1277640" y="4417560"/>
              <a:ext cx="1252440" cy="325800"/>
            </a:xfrm>
            <a:custGeom>
              <a:avLst/>
              <a:gdLst/>
              <a:ahLst/>
              <a:rect l="l" t="t" r="r" b="b"/>
              <a:pathLst>
                <a:path w="1518249" h="391064">
                  <a:moveTo>
                    <a:pt x="1518249" y="0"/>
                  </a:moveTo>
                  <a:lnTo>
                    <a:pt x="1518249" y="276045"/>
                  </a:lnTo>
                  <a:lnTo>
                    <a:pt x="0" y="391064"/>
                  </a:lnTo>
                  <a:lnTo>
                    <a:pt x="0" y="97766"/>
                  </a:lnTo>
                  <a:lnTo>
                    <a:pt x="1518249" y="0"/>
                  </a:lnTo>
                  <a:close/>
                </a:path>
              </a:pathLst>
            </a:custGeom>
            <a:solidFill>
              <a:srgbClr val="ffc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8"/>
            <p:cNvSpPr/>
            <p:nvPr/>
          </p:nvSpPr>
          <p:spPr>
            <a:xfrm>
              <a:off x="4326120" y="4149360"/>
              <a:ext cx="464400" cy="416880"/>
            </a:xfrm>
            <a:custGeom>
              <a:avLst/>
              <a:gdLst/>
              <a:ahLst/>
              <a:rect l="l" t="t" r="r" b="b"/>
              <a:pathLst>
                <a:path w="557841" h="500332">
                  <a:moveTo>
                    <a:pt x="0" y="230038"/>
                  </a:moveTo>
                  <a:lnTo>
                    <a:pt x="0" y="500332"/>
                  </a:lnTo>
                  <a:lnTo>
                    <a:pt x="557841" y="276045"/>
                  </a:lnTo>
                  <a:lnTo>
                    <a:pt x="557841" y="0"/>
                  </a:lnTo>
                  <a:lnTo>
                    <a:pt x="0" y="230038"/>
                  </a:lnTo>
                  <a:close/>
                </a:path>
              </a:pathLst>
            </a:custGeom>
            <a:solidFill>
              <a:srgbClr val="c73e0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75160" y="4089240"/>
            <a:ext cx="3286080" cy="919440"/>
            <a:chOff x="4475160" y="4089240"/>
            <a:chExt cx="3286080" cy="919440"/>
          </a:xfrm>
        </p:grpSpPr>
        <p:sp>
          <p:nvSpPr>
            <p:cNvPr id="91" name="任意多边形 10"/>
            <p:cNvSpPr/>
            <p:nvPr/>
          </p:nvSpPr>
          <p:spPr>
            <a:xfrm>
              <a:off x="6604200" y="4159440"/>
              <a:ext cx="226440" cy="429120"/>
            </a:xfrm>
            <a:custGeom>
              <a:avLst/>
              <a:gdLst/>
              <a:ahLst/>
              <a:rect l="l" t="t" r="r" b="b"/>
              <a:pathLst>
                <a:path w="291830" h="476655">
                  <a:moveTo>
                    <a:pt x="0" y="0"/>
                  </a:moveTo>
                  <a:lnTo>
                    <a:pt x="9728" y="345332"/>
                  </a:lnTo>
                  <a:lnTo>
                    <a:pt x="291830" y="476655"/>
                  </a:lnTo>
                  <a:lnTo>
                    <a:pt x="282102" y="136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1247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4475160" y="4089240"/>
              <a:ext cx="3286080" cy="919440"/>
            </a:xfrm>
            <a:custGeom>
              <a:avLst/>
              <a:gdLst/>
              <a:ahLst/>
              <a:rect l="l" t="t" r="r" b="b"/>
              <a:pathLst>
                <a:path w="10000" h="10032">
                  <a:moveTo>
                    <a:pt x="0" y="3269"/>
                  </a:moveTo>
                  <a:cubicBezTo>
                    <a:pt x="1" y="6347"/>
                    <a:pt x="1" y="6368"/>
                    <a:pt x="10" y="6374"/>
                  </a:cubicBezTo>
                  <a:cubicBezTo>
                    <a:pt x="19" y="6381"/>
                    <a:pt x="1705" y="9655"/>
                    <a:pt x="3606" y="9987"/>
                  </a:cubicBezTo>
                  <a:cubicBezTo>
                    <a:pt x="5507" y="10319"/>
                    <a:pt x="7450" y="8778"/>
                    <a:pt x="8454" y="7378"/>
                  </a:cubicBezTo>
                  <a:cubicBezTo>
                    <a:pt x="8680" y="7760"/>
                    <a:pt x="9132" y="8588"/>
                    <a:pt x="9132" y="8524"/>
                  </a:cubicBezTo>
                  <a:cubicBezTo>
                    <a:pt x="9132" y="8504"/>
                    <a:pt x="9660" y="5206"/>
                    <a:pt x="9980" y="3064"/>
                  </a:cubicBezTo>
                  <a:cubicBezTo>
                    <a:pt x="9983" y="3045"/>
                    <a:pt x="10001" y="-50"/>
                    <a:pt x="10000" y="1"/>
                  </a:cubicBezTo>
                  <a:cubicBezTo>
                    <a:pt x="8822" y="1208"/>
                    <a:pt x="6951" y="2795"/>
                    <a:pt x="6467" y="3621"/>
                  </a:cubicBezTo>
                  <a:cubicBezTo>
                    <a:pt x="5983" y="4448"/>
                    <a:pt x="6885" y="4513"/>
                    <a:pt x="7093" y="4958"/>
                  </a:cubicBezTo>
                  <a:cubicBezTo>
                    <a:pt x="7093" y="4958"/>
                    <a:pt x="5628" y="6706"/>
                    <a:pt x="4447" y="6423"/>
                  </a:cubicBezTo>
                  <a:cubicBezTo>
                    <a:pt x="3264" y="6142"/>
                    <a:pt x="876" y="4988"/>
                    <a:pt x="0" y="32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4475160" y="4089240"/>
              <a:ext cx="3286080" cy="671040"/>
            </a:xfrm>
            <a:custGeom>
              <a:avLst/>
              <a:gdLst/>
              <a:ahLst/>
              <a:rect l="l" t="t" r="r" b="b"/>
              <a:pathLst>
                <a:path w="1128" h="230">
                  <a:moveTo>
                    <a:pt x="160" y="42"/>
                  </a:moveTo>
                  <a:cubicBezTo>
                    <a:pt x="0" y="104"/>
                    <a:pt x="0" y="104"/>
                    <a:pt x="0" y="104"/>
                  </a:cubicBezTo>
                  <a:cubicBezTo>
                    <a:pt x="0" y="104"/>
                    <a:pt x="152" y="218"/>
                    <a:pt x="410" y="224"/>
                  </a:cubicBezTo>
                  <a:cubicBezTo>
                    <a:pt x="668" y="230"/>
                    <a:pt x="840" y="186"/>
                    <a:pt x="952" y="142"/>
                  </a:cubicBezTo>
                  <a:cubicBezTo>
                    <a:pt x="1028" y="178"/>
                    <a:pt x="1028" y="178"/>
                    <a:pt x="1028" y="178"/>
                  </a:cubicBezTo>
                  <a:cubicBezTo>
                    <a:pt x="1128" y="0"/>
                    <a:pt x="1128" y="0"/>
                    <a:pt x="1128" y="0"/>
                  </a:cubicBezTo>
                  <a:cubicBezTo>
                    <a:pt x="730" y="24"/>
                    <a:pt x="730" y="24"/>
                    <a:pt x="730" y="24"/>
                  </a:cubicBezTo>
                  <a:cubicBezTo>
                    <a:pt x="800" y="66"/>
                    <a:pt x="800" y="66"/>
                    <a:pt x="800" y="66"/>
                  </a:cubicBezTo>
                  <a:cubicBezTo>
                    <a:pt x="800" y="66"/>
                    <a:pt x="688" y="117"/>
                    <a:pt x="504" y="112"/>
                  </a:cubicBezTo>
                  <a:cubicBezTo>
                    <a:pt x="320" y="108"/>
                    <a:pt x="258" y="96"/>
                    <a:pt x="1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3"/>
            <p:cNvSpPr/>
            <p:nvPr/>
          </p:nvSpPr>
          <p:spPr>
            <a:xfrm>
              <a:off x="7250400" y="4503600"/>
              <a:ext cx="226440" cy="370440"/>
            </a:xfrm>
            <a:custGeom>
              <a:avLst/>
              <a:gdLst/>
              <a:ahLst/>
              <a:rect l="l" t="t" r="r" b="b"/>
              <a:pathLst>
                <a:path w="291830" h="476655">
                  <a:moveTo>
                    <a:pt x="0" y="0"/>
                  </a:moveTo>
                  <a:lnTo>
                    <a:pt x="9728" y="345332"/>
                  </a:lnTo>
                  <a:lnTo>
                    <a:pt x="291830" y="476655"/>
                  </a:lnTo>
                  <a:lnTo>
                    <a:pt x="282102" y="136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1247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任意多边形 14"/>
          <p:cNvSpPr/>
          <p:nvPr/>
        </p:nvSpPr>
        <p:spPr>
          <a:xfrm>
            <a:off x="4021200" y="2100240"/>
            <a:ext cx="374760" cy="2075040"/>
          </a:xfrm>
          <a:custGeom>
            <a:avLst/>
            <a:gdLst/>
            <a:ahLst/>
            <a:rect l="l" t="t" r="r" b="b"/>
            <a:pathLst>
              <a:path w="374574" h="2291509">
                <a:moveTo>
                  <a:pt x="374574" y="2291509"/>
                </a:moveTo>
                <a:lnTo>
                  <a:pt x="374574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73e01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15"/>
          <p:cNvSpPr/>
          <p:nvPr/>
        </p:nvSpPr>
        <p:spPr>
          <a:xfrm flipH="1">
            <a:off x="4731480" y="2100240"/>
            <a:ext cx="428760" cy="2265480"/>
          </a:xfrm>
          <a:custGeom>
            <a:avLst/>
            <a:gdLst/>
            <a:ahLst/>
            <a:rect l="l" t="t" r="r" b="b"/>
            <a:pathLst>
              <a:path w="374574" h="2291509">
                <a:moveTo>
                  <a:pt x="374574" y="2291509"/>
                </a:moveTo>
                <a:lnTo>
                  <a:pt x="374574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88960" y="2157480"/>
            <a:ext cx="2184480" cy="459000"/>
            <a:chOff x="1488960" y="2157480"/>
            <a:chExt cx="2184480" cy="459000"/>
          </a:xfrm>
        </p:grpSpPr>
        <p:sp>
          <p:nvSpPr>
            <p:cNvPr id="98" name="TextBox 11"/>
            <p:cNvSpPr/>
            <p:nvPr/>
          </p:nvSpPr>
          <p:spPr>
            <a:xfrm flipH="1">
              <a:off x="148896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1"/>
            <p:cNvSpPr/>
            <p:nvPr/>
          </p:nvSpPr>
          <p:spPr>
            <a:xfrm flipH="1">
              <a:off x="252720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9"/>
          <p:cNvSpPr/>
          <p:nvPr/>
        </p:nvSpPr>
        <p:spPr>
          <a:xfrm>
            <a:off x="1535040" y="2095560"/>
            <a:ext cx="2138400" cy="4608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1535040" y="17413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672160" y="2157480"/>
            <a:ext cx="2184480" cy="459000"/>
            <a:chOff x="5672160" y="2157480"/>
            <a:chExt cx="2184480" cy="459000"/>
          </a:xfrm>
        </p:grpSpPr>
        <p:sp>
          <p:nvSpPr>
            <p:cNvPr id="103" name="TextBox 11"/>
            <p:cNvSpPr/>
            <p:nvPr/>
          </p:nvSpPr>
          <p:spPr>
            <a:xfrm flipH="1">
              <a:off x="567216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1"/>
            <p:cNvSpPr/>
            <p:nvPr/>
          </p:nvSpPr>
          <p:spPr>
            <a:xfrm flipH="1">
              <a:off x="671040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24"/>
          <p:cNvSpPr/>
          <p:nvPr/>
        </p:nvSpPr>
        <p:spPr>
          <a:xfrm>
            <a:off x="5718240" y="2095560"/>
            <a:ext cx="2138400" cy="4608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5718240" y="17413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 rot="20749200">
            <a:off x="1835640" y="39211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 rot="20858400">
            <a:off x="6244560" y="425916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5621760" y="25560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二元素反向移动对比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