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FF4-F4B5-4C96-8F5F-D7CCEE98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F7D-EECF-4515-9F11-D663BDA0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259-13FD-4B89-A4AF-6BBA5846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93E-B313-4FB7-AE76-BE21B60D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47F-3D7F-4342-902D-5559873E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E09-1FC4-40B1-AAD6-D3720BCA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CAD-C5EE-4E80-8362-1861FA23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528-1148-47BD-94B0-66085CE5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3CE-27B3-460B-BCC1-8281DF9F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E4B-AA4F-40D0-8821-E1FB3808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BDD-C93F-4493-BD99-C78737F6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CFB-9632-45E8-819B-C3A76BAC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2)\新建文件夹\b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197C-EBD8-4029-940E-3173EED87D25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9C0E-D135-4097-B0FA-6F236AD4097F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D:\SLIDEtoME\TP模板\新建文件夹 (2)\新建文件夹\b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45584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非常大气的精美商务</a:t>
            </a: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PPT</a:t>
            </a: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模板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224784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</a:rPr>
              <a:t>点击此处添加幻灯副标题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680" y="65023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:\SLIDEtoME\TP模板\新建文件夹 (2)\新建文件夹\b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95280" y="227664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A8E-2614-4A75-8FB2-68BD2BB052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28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524-878F-419D-981F-FFC6F2A3A2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9"/>
          <p:cNvSpPr/>
          <p:nvPr/>
        </p:nvSpPr>
        <p:spPr>
          <a:xfrm>
            <a:off x="1285920" y="3259080"/>
            <a:ext cx="34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</a:rPr>
              <a:t>www.1ppt.com/moban/</a:t>
            </a:r>
            <a:r>
              <a:rPr b="0" lang="en-US" sz="1600" spc="-1" strike="noStrike">
                <a:solidFill>
                  <a:srgbClr val="494429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51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52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6432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9C4-D2AB-49FD-911C-B0553EAB82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95280" y="1339920"/>
            <a:ext cx="8353080" cy="4610160"/>
            <a:chOff x="395280" y="1339920"/>
            <a:chExt cx="8353080" cy="4610160"/>
          </a:xfrm>
        </p:grpSpPr>
        <p:sp>
          <p:nvSpPr>
            <p:cNvPr id="57" name=""/>
            <p:cNvSpPr/>
            <p:nvPr/>
          </p:nvSpPr>
          <p:spPr>
            <a:xfrm rot="5400000">
              <a:off x="5239440" y="-150552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20920" y="144216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5280" y="133992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8480" y="137592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5239440" y="-73080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20920" y="221688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5280" y="211428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8480" y="215028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5239440" y="4356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20920" y="299160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288900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8480" y="292500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5239440" y="81792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0920" y="376596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366336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8480" y="369936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5239440" y="159264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0920" y="454068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5280" y="443808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8480" y="447408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5400000">
              <a:off x="5239440" y="236700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20920" y="531504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5280" y="521244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8480" y="524844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E96-3709-45C1-9E5B-4D3E01C2C3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906480" y="1339920"/>
            <a:ext cx="7332480" cy="4487760"/>
            <a:chOff x="906480" y="1339920"/>
            <a:chExt cx="7332480" cy="4487760"/>
          </a:xfrm>
        </p:grpSpPr>
        <p:sp>
          <p:nvSpPr>
            <p:cNvPr id="83" name=""/>
            <p:cNvSpPr/>
            <p:nvPr/>
          </p:nvSpPr>
          <p:spPr>
            <a:xfrm>
              <a:off x="90648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4500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65680" y="3156480"/>
              <a:ext cx="2149200" cy="267120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2671200"/>
                <a:gd name="textAreaBottom" fmla="*/ 2671560 h 26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0" y="4923"/>
                  </a:moveTo>
                  <a:arcTo wR="-10211" hR="-10211" stAng="-8691767" swAng="-14683745"/>
                  <a:lnTo>
                    <a:pt x="1409" y="16133"/>
                  </a:lnTo>
                  <a:arcTo wR="10800" hR="10800" stAng="9024489" swAng="14683745"/>
                  <a:lnTo>
                    <a:pt x="21840" y="18570"/>
                  </a:lnTo>
                  <a:lnTo>
                    <a:pt x="17668" y="19295"/>
                  </a:lnTo>
                  <a:lnTo>
                    <a:pt x="16942" y="151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5792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880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4376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2280" y="30772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86040" y="1339920"/>
              <a:ext cx="2408760" cy="29941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994120"/>
                <a:gd name="textAreaBottom" fmla="*/ 2994480 h 299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34" y="16620"/>
                  </a:moveTo>
                  <a:arcTo wR="-10274" hR="-10274" stAng="8729652" swAng="-6954142"/>
                  <a:lnTo>
                    <a:pt x="1409" y="5467"/>
                  </a:lnTo>
                  <a:arcTo wR="10800" hR="10800" stAng="-9024489" swAng="6954142"/>
                  <a:lnTo>
                    <a:pt x="21925" y="3152"/>
                  </a:lnTo>
                  <a:lnTo>
                    <a:pt x="21162" y="7273"/>
                  </a:lnTo>
                  <a:lnTo>
                    <a:pt x="17041" y="6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95200" y="213660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16440" y="216288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8104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1992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3284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5372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638360" y="6292800"/>
            <a:ext cx="625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73737"/>
                </a:solidFill>
                <a:uFillTx/>
                <a:latin typeface="Arial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http://www.eeppt.com/moban/shangwu/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96B-8084-4A9D-BDEE-EE972487FE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1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00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56440" y="65023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733-5426-436D-A0BA-9E0F883CA8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05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05440" cy="4753080"/>
          </a:xfrm>
          <a:prstGeom prst="rect">
            <a:avLst/>
          </a:prstGeom>
          <a:ln w="0">
            <a:noFill/>
          </a:ln>
        </p:spPr>
      </p:pic>
      <p:pic>
        <p:nvPicPr>
          <p:cNvPr id="106" name="内容占位符 6" descr=""/>
          <p:cNvPicPr/>
          <p:nvPr/>
        </p:nvPicPr>
        <p:blipFill>
          <a:blip r:embed="rId2"/>
          <a:stretch/>
        </p:blipFill>
        <p:spPr>
          <a:xfrm>
            <a:off x="4635360" y="1197000"/>
            <a:ext cx="4105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1CE-DA34-49B1-B158-EFCA32B39A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8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4753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34F-FDFF-4F38-AA67-122B55AC1B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12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26280" y="65023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E71-396A-4C9F-A1F4-D7AC472281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16" name="Freeform 65"/>
            <p:cNvSpPr/>
            <p:nvPr/>
          </p:nvSpPr>
          <p:spPr>
            <a:xfrm>
              <a:off x="676800" y="1631880"/>
              <a:ext cx="4841640" cy="186264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7" name="Freeform 66"/>
            <p:cNvSpPr/>
            <p:nvPr/>
          </p:nvSpPr>
          <p:spPr>
            <a:xfrm>
              <a:off x="4049640" y="2203920"/>
              <a:ext cx="558720" cy="570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8" name="Freeform 67"/>
            <p:cNvSpPr/>
            <p:nvPr/>
          </p:nvSpPr>
          <p:spPr>
            <a:xfrm>
              <a:off x="480960" y="2618280"/>
              <a:ext cx="1681200" cy="17629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9" name="Freeform 68"/>
            <p:cNvSpPr/>
            <p:nvPr/>
          </p:nvSpPr>
          <p:spPr>
            <a:xfrm>
              <a:off x="3627360" y="3769200"/>
              <a:ext cx="1011600" cy="6940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0" name="Freeform 69"/>
            <p:cNvSpPr/>
            <p:nvPr/>
          </p:nvSpPr>
          <p:spPr>
            <a:xfrm>
              <a:off x="5547600" y="1708920"/>
              <a:ext cx="3273840" cy="31597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1" name="Freeform 70"/>
            <p:cNvSpPr/>
            <p:nvPr/>
          </p:nvSpPr>
          <p:spPr>
            <a:xfrm>
              <a:off x="659520" y="2083320"/>
              <a:ext cx="299520" cy="2278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2" name="Freeform 71"/>
            <p:cNvSpPr/>
            <p:nvPr/>
          </p:nvSpPr>
          <p:spPr>
            <a:xfrm>
              <a:off x="1951200" y="3810600"/>
              <a:ext cx="187200" cy="327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3" name="Freeform 72"/>
            <p:cNvSpPr/>
            <p:nvPr/>
          </p:nvSpPr>
          <p:spPr>
            <a:xfrm>
              <a:off x="3203280" y="3378240"/>
              <a:ext cx="785160" cy="4096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4" name="Freeform 73"/>
            <p:cNvSpPr/>
            <p:nvPr/>
          </p:nvSpPr>
          <p:spPr>
            <a:xfrm>
              <a:off x="3547440" y="3351600"/>
              <a:ext cx="416880" cy="3171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5" name="Freeform 74"/>
            <p:cNvSpPr/>
            <p:nvPr/>
          </p:nvSpPr>
          <p:spPr>
            <a:xfrm>
              <a:off x="3957840" y="3463560"/>
              <a:ext cx="671400" cy="327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6" name="Freeform 75"/>
            <p:cNvSpPr/>
            <p:nvPr/>
          </p:nvSpPr>
          <p:spPr>
            <a:xfrm>
              <a:off x="3737880" y="3051720"/>
              <a:ext cx="238680" cy="3412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7" name="Freeform 76"/>
            <p:cNvSpPr/>
            <p:nvPr/>
          </p:nvSpPr>
          <p:spPr>
            <a:xfrm>
              <a:off x="4404240" y="4481280"/>
              <a:ext cx="112320" cy="1011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Freeform 77"/>
            <p:cNvSpPr/>
            <p:nvPr/>
          </p:nvSpPr>
          <p:spPr>
            <a:xfrm>
              <a:off x="4920480" y="4347360"/>
              <a:ext cx="318240" cy="3153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9" name="Freeform 78"/>
            <p:cNvSpPr/>
            <p:nvPr/>
          </p:nvSpPr>
          <p:spPr>
            <a:xfrm>
              <a:off x="7583040" y="2955240"/>
              <a:ext cx="456480" cy="1519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0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5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9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0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1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3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8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9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EE1D-2615-4525-9C4D-688736F770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05:28:00Z</dcterms:created>
  <dc:creator>lenovo</dc:creator>
  <dc:description>我爱PPT中文网</dc:description>
  <cp:keywords>XS-普屏 4：3;SC-深灰色;BG-浅色;DH-静态;XJ-二级</cp:keywords>
  <dc:language>en-US</dc:language>
  <cp:lastModifiedBy>lenovo</cp:lastModifiedBy>
  <dcterms:modified xsi:type="dcterms:W3CDTF">2015-06-13T11:56:29Z</dcterms:modified>
  <cp:revision>4</cp:revision>
  <dc:subject>TP-地产物业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