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B70-01FA-48B3-8A3C-DE73ABA3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5D1-9553-4FB0-BA72-A7D9D99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C8F-FFBD-4BEB-BBF1-C79D7E10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D1F-5448-4844-B796-08777E9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E20-670C-4C62-B372-A50E94A0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DD51-8EE4-48AC-954F-941E4F2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A292-7FDD-4F51-8284-D27169E5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559-57C7-47F1-8DB2-7A98DC2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B971-80AE-4B09-81B0-862294B3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357C-8195-49CE-AC6B-F1DC763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5F32-48F4-4601-BA7A-BF469D4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C0F-2321-441E-B3E5-B2B5884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FABC-A626-4B8E-948C-ED2D58C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CDE2-E1F6-49A9-BBA7-45454AC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C468-CC87-4AC0-879D-5A59528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AC43-369D-4F3B-9EF4-4C125A3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ADD3-5B86-4C19-8A7D-AA2CE1FF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965-7E56-4F08-B9A5-F828312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A1A-50E3-4DEC-BC25-755FACFB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BCA-0D44-4A1E-8D30-CD996092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E6D-0B95-492C-B005-792C0E04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E42-7BAB-4977-9435-BD63213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CEB-4A0F-4451-9068-7F95A50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A7D-5303-45B2-AC30-DF4112E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7F2-5C35-4339-9C89-AC5D86EC8F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3F01-5C63-42D5-8912-272F6230E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8354-8AE4-46CC-B56E-691A89B458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9323-F57D-4EE1-9FCF-E5F2001C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303640" y="2731680"/>
            <a:ext cx="4536360" cy="2121480"/>
            <a:chOff x="2303640" y="2731680"/>
            <a:chExt cx="4536360" cy="2121480"/>
          </a:xfrm>
        </p:grpSpPr>
        <p:sp>
          <p:nvSpPr>
            <p:cNvPr id="83" name="矩形 2"/>
            <p:cNvSpPr/>
            <p:nvPr/>
          </p:nvSpPr>
          <p:spPr>
            <a:xfrm>
              <a:off x="2303640" y="3351600"/>
              <a:ext cx="3418200" cy="1501560"/>
            </a:xfrm>
            <a:custGeom>
              <a:avLst/>
              <a:gdLst/>
              <a:ahLst/>
              <a:rect l="l" t="t" r="r" b="b"/>
              <a:pathLst>
                <a:path w="3960440" h="1739745">
                  <a:moveTo>
                    <a:pt x="1800200" y="0"/>
                  </a:moveTo>
                  <a:lnTo>
                    <a:pt x="3456384" y="0"/>
                  </a:lnTo>
                  <a:lnTo>
                    <a:pt x="3960440" y="0"/>
                  </a:lnTo>
                  <a:lnTo>
                    <a:pt x="3960440" y="504056"/>
                  </a:lnTo>
                  <a:lnTo>
                    <a:pt x="3960440" y="1025788"/>
                  </a:lnTo>
                  <a:lnTo>
                    <a:pt x="3960440" y="1152128"/>
                  </a:lnTo>
                  <a:lnTo>
                    <a:pt x="3960440" y="1517598"/>
                  </a:lnTo>
                  <a:lnTo>
                    <a:pt x="468052" y="1517598"/>
                  </a:lnTo>
                  <a:lnTo>
                    <a:pt x="468052" y="1739745"/>
                  </a:lnTo>
                  <a:lnTo>
                    <a:pt x="0" y="1271693"/>
                  </a:lnTo>
                  <a:lnTo>
                    <a:pt x="468052" y="803641"/>
                  </a:lnTo>
                  <a:lnTo>
                    <a:pt x="468052" y="1025788"/>
                  </a:lnTo>
                  <a:lnTo>
                    <a:pt x="3456384" y="1025788"/>
                  </a:lnTo>
                  <a:lnTo>
                    <a:pt x="3456384" y="504056"/>
                  </a:lnTo>
                  <a:lnTo>
                    <a:pt x="1800200" y="504056"/>
                  </a:lnTo>
                  <a:lnTo>
                    <a:pt x="1800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"/>
            <p:cNvSpPr/>
            <p:nvPr/>
          </p:nvSpPr>
          <p:spPr>
            <a:xfrm rot="10800000">
              <a:off x="3421800" y="2731320"/>
              <a:ext cx="3418200" cy="1501560"/>
            </a:xfrm>
            <a:custGeom>
              <a:avLst/>
              <a:gdLst/>
              <a:ahLst/>
              <a:rect l="l" t="t" r="r" b="b"/>
              <a:pathLst>
                <a:path w="3960440" h="1739745">
                  <a:moveTo>
                    <a:pt x="1800200" y="0"/>
                  </a:moveTo>
                  <a:lnTo>
                    <a:pt x="3456384" y="0"/>
                  </a:lnTo>
                  <a:lnTo>
                    <a:pt x="3960440" y="0"/>
                  </a:lnTo>
                  <a:lnTo>
                    <a:pt x="3960440" y="504056"/>
                  </a:lnTo>
                  <a:lnTo>
                    <a:pt x="3960440" y="1025788"/>
                  </a:lnTo>
                  <a:lnTo>
                    <a:pt x="3960440" y="1152128"/>
                  </a:lnTo>
                  <a:lnTo>
                    <a:pt x="3960440" y="1517598"/>
                  </a:lnTo>
                  <a:lnTo>
                    <a:pt x="468052" y="1517598"/>
                  </a:lnTo>
                  <a:lnTo>
                    <a:pt x="468052" y="1739745"/>
                  </a:lnTo>
                  <a:lnTo>
                    <a:pt x="0" y="1271693"/>
                  </a:lnTo>
                  <a:lnTo>
                    <a:pt x="468052" y="803641"/>
                  </a:lnTo>
                  <a:lnTo>
                    <a:pt x="468052" y="1025788"/>
                  </a:lnTo>
                  <a:lnTo>
                    <a:pt x="3456384" y="1025788"/>
                  </a:lnTo>
                  <a:lnTo>
                    <a:pt x="3456384" y="504056"/>
                  </a:lnTo>
                  <a:lnTo>
                    <a:pt x="1800200" y="504056"/>
                  </a:lnTo>
                  <a:lnTo>
                    <a:pt x="1800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0"/>
            </a:gradFill>
            <a:ln w="32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1"/>
          <p:cNvSpPr/>
          <p:nvPr/>
        </p:nvSpPr>
        <p:spPr>
          <a:xfrm flipH="1">
            <a:off x="4858560" y="298764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flipH="1">
            <a:off x="2710800" y="431496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8"/>
          <p:cNvSpPr/>
          <p:nvPr/>
        </p:nvSpPr>
        <p:spPr>
          <a:xfrm>
            <a:off x="2778120" y="2125800"/>
            <a:ext cx="808200" cy="950760"/>
          </a:xfrm>
          <a:custGeom>
            <a:avLst/>
            <a:gdLst/>
            <a:ahLst/>
            <a:rect l="l" t="t" r="r" b="b"/>
            <a:pathLst>
              <a:path w="807522" h="950026">
                <a:moveTo>
                  <a:pt x="807522" y="950026"/>
                </a:moveTo>
                <a:lnTo>
                  <a:pt x="39188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"/>
          <p:cNvSpPr/>
          <p:nvPr/>
        </p:nvSpPr>
        <p:spPr>
          <a:xfrm>
            <a:off x="2778120" y="1701720"/>
            <a:ext cx="0" cy="180036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 flipH="1">
            <a:off x="1631880" y="1716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 flipH="1">
            <a:off x="1631880" y="22017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2"/>
          <p:cNvSpPr/>
          <p:nvPr/>
        </p:nvSpPr>
        <p:spPr>
          <a:xfrm flipH="1" flipV="1">
            <a:off x="5535720" y="4576680"/>
            <a:ext cx="915840" cy="781200"/>
          </a:xfrm>
          <a:custGeom>
            <a:avLst/>
            <a:gdLst/>
            <a:ahLst/>
            <a:rect l="l" t="t" r="r" b="b"/>
            <a:pathLst>
              <a:path w="807522" h="950026">
                <a:moveTo>
                  <a:pt x="807522" y="950026"/>
                </a:moveTo>
                <a:lnTo>
                  <a:pt x="39188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6438960" y="3998880"/>
            <a:ext cx="0" cy="180036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 flipH="1">
            <a:off x="6438960" y="48909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>
            <a:off x="6438960" y="53769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二元素反向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>
            <a:hlinkClick r:id="rId1"/>
          </p:cNvPr>
          <p:cNvSpPr/>
          <p:nvPr/>
        </p:nvSpPr>
        <p:spPr>
          <a:xfrm>
            <a:off x="6948360" y="645336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