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ECF-99D3-41E6-9C35-A43A5209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DB8-80BE-4D90-B014-C540787C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784-33DD-44E0-AD9E-45B52665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37D-7996-4DDF-B6BC-5C35359F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9B0-B732-49D8-8BBC-2D966E77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165-1411-4B06-944A-DC866C02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EF9-5131-406F-93FE-DA462761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11E-575B-4DD0-8B3A-A40EC09C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2F3-8ABE-412F-AB72-734A7547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D29-3D68-4A74-9268-27EA69BB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3CC-741E-4D6E-ABBF-42B1ED2C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09B-C0B8-47AF-950F-A89210B2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C7B4-C7EF-4F73-AA10-62A207816E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E003-4A95-45DC-BC9B-281FC93F61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 flipH="1" rot="2712600">
            <a:off x="4520520" y="188424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99"/>
              </a:gs>
              <a:gs pos="100000">
                <a:srgbClr val="f1c986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459240" y="289404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50000">
                <a:srgbClr val="10101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 rot="18887400">
            <a:off x="2252520" y="187272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7c6e5"/>
              </a:gs>
              <a:gs pos="100000">
                <a:srgbClr val="a2d4d4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471840" y="2889360"/>
            <a:ext cx="2028960" cy="2028600"/>
          </a:xfrm>
          <a:prstGeom prst="diamond">
            <a:avLst/>
          </a:prstGeom>
          <a:solidFill>
            <a:srgbClr val="dee31d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flipH="1" flipV="1" rot="18887400">
            <a:off x="4505040" y="414576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2d4d4"/>
              </a:gs>
              <a:gs pos="100000">
                <a:srgbClr val="a7c6e5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694040" y="47656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703600" y="26416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694040" y="26416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 flipV="1" rot="2712600">
            <a:off x="2251440" y="413856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99"/>
              </a:gs>
              <a:gs pos="100000">
                <a:srgbClr val="f1c986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703600" y="47656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33520" y="21286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59c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477120" y="4791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7c6e5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77720" y="48718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477120" y="21240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173"/>
          <p:cNvPicPr/>
          <p:nvPr/>
        </p:nvPicPr>
        <p:blipFill>
          <a:blip r:embed="rId1"/>
          <a:stretch/>
        </p:blipFill>
        <p:spPr>
          <a:xfrm>
            <a:off x="3505320" y="2971800"/>
            <a:ext cx="1812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52480" y="2438280"/>
            <a:ext cx="5257080" cy="2895480"/>
            <a:chOff x="1752480" y="2438280"/>
            <a:chExt cx="5257080" cy="2895480"/>
          </a:xfrm>
        </p:grpSpPr>
        <p:sp>
          <p:nvSpPr>
            <p:cNvPr id="59" name="Freeform 4"/>
            <p:cNvSpPr/>
            <p:nvPr/>
          </p:nvSpPr>
          <p:spPr>
            <a:xfrm>
              <a:off x="2544840" y="392832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3380400" y="2438280"/>
              <a:ext cx="3619800" cy="1786680"/>
            </a:xfrm>
            <a:custGeom>
              <a:avLst/>
              <a:gdLst>
                <a:gd name="textAreaLeft" fmla="*/ 0 w 3619800"/>
                <a:gd name="textAreaRight" fmla="*/ 3620160 w 3619800"/>
                <a:gd name="textAreaTop" fmla="*/ 0 h 1786680"/>
                <a:gd name="textAreaBottom" fmla="*/ 1787040 h 178668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1752480" y="2834640"/>
              <a:ext cx="1977840" cy="201312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76520" y="2362320"/>
            <a:ext cx="5333400" cy="2818800"/>
            <a:chOff x="1676520" y="2362320"/>
            <a:chExt cx="5333400" cy="2818800"/>
          </a:xfrm>
        </p:grpSpPr>
        <p:sp>
          <p:nvSpPr>
            <p:cNvPr id="63" name="Freeform 8"/>
            <p:cNvSpPr/>
            <p:nvPr/>
          </p:nvSpPr>
          <p:spPr>
            <a:xfrm>
              <a:off x="2480400" y="3812760"/>
              <a:ext cx="4529520" cy="1368360"/>
            </a:xfrm>
            <a:custGeom>
              <a:avLst/>
              <a:gdLst>
                <a:gd name="textAreaLeft" fmla="*/ 0 w 4529520"/>
                <a:gd name="textAreaRight" fmla="*/ 4529880 w 4529520"/>
                <a:gd name="textAreaTop" fmla="*/ 0 h 1368360"/>
                <a:gd name="textAreaBottom" fmla="*/ 1368360 h 136836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a7c6e5"/>
                </a:gs>
                <a:gs pos="100000">
                  <a:srgbClr val="2c53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3327840" y="2362320"/>
              <a:ext cx="3672000" cy="1739520"/>
            </a:xfrm>
            <a:custGeom>
              <a:avLst/>
              <a:gdLst>
                <a:gd name="textAreaLeft" fmla="*/ 0 w 3672000"/>
                <a:gd name="textAreaRight" fmla="*/ 3672360 w 367200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1676520" y="2748240"/>
              <a:ext cx="2006280" cy="1959840"/>
            </a:xfrm>
            <a:custGeom>
              <a:avLst/>
              <a:gdLst>
                <a:gd name="textAreaLeft" fmla="*/ 0 w 2006280"/>
                <a:gd name="textAreaRight" fmla="*/ 2006640 w 2006280"/>
                <a:gd name="textAreaTop" fmla="*/ 0 h 1959840"/>
                <a:gd name="textAreaBottom" fmla="*/ 1960200 h 195984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96b1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1"/>
          <p:cNvSpPr/>
          <p:nvPr/>
        </p:nvSpPr>
        <p:spPr>
          <a:xfrm>
            <a:off x="6095880" y="17524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4495680" y="5334120"/>
            <a:ext cx="3048120" cy="853920"/>
          </a:xfrm>
          <a:noFill/>
          <a:ln w="9360">
            <a:solidFill>
              <a:srgbClr val="a7c6e5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304920" y="1676520"/>
            <a:ext cx="219204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circuler_1"/>
          <p:cNvPicPr/>
          <p:nvPr/>
        </p:nvPicPr>
        <p:blipFill>
          <a:blip r:embed="rId2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76" name="Oval 9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a7c6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circuler_1"/>
          <p:cNvPicPr/>
          <p:nvPr/>
        </p:nvPicPr>
        <p:blipFill>
          <a:blip r:embed="rId3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78" name="Oval 11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circuler_1"/>
          <p:cNvPicPr/>
          <p:nvPr/>
        </p:nvPicPr>
        <p:blipFill>
          <a:blip r:embed="rId4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80" name="Oval 13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a7c6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circuler_1"/>
          <p:cNvPicPr/>
          <p:nvPr/>
        </p:nvPicPr>
        <p:blipFill>
          <a:blip r:embed="rId5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82" name="Oval 15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85" name="Oval 18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9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0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rot="5400000">
              <a:off x="3033000" y="2318400"/>
              <a:ext cx="46800" cy="2685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V="1" rot="16200000">
              <a:off x="3036600" y="2112120"/>
              <a:ext cx="46800" cy="2685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360 h 268560"/>
                <a:gd name="textAreaBottom" fmla="*/ 269280 h 26856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93" name="Freeform 26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9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0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1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2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3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103" name="AutoShape 36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7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38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9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0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1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2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111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112" name="Freeform 45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>
                  <a:gd name="textAreaLeft" fmla="*/ 0 w 519120"/>
                  <a:gd name="textAreaRight" fmla="*/ 519480 w 51912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6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47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Freeform 48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49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2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98920" y="1785600"/>
            <a:ext cx="4013640" cy="4250880"/>
            <a:chOff x="2698920" y="1785600"/>
            <a:chExt cx="4013640" cy="4250880"/>
          </a:xfrm>
        </p:grpSpPr>
        <p:sp>
          <p:nvSpPr>
            <p:cNvPr id="122" name="Freeform 4"/>
            <p:cNvSpPr/>
            <p:nvPr/>
          </p:nvSpPr>
          <p:spPr>
            <a:xfrm>
              <a:off x="2706840" y="3122640"/>
              <a:ext cx="1447920" cy="195444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54440"/>
                <a:gd name="textAreaBottom" fmla="*/ 1954800 h 195444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 rot="7200000">
              <a:off x="4393440" y="2039040"/>
              <a:ext cx="1365120" cy="207180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2071800"/>
                <a:gd name="textAreaBottom" fmla="*/ 2072160 h 207180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a7c6e5"/>
                </a:gs>
                <a:gs pos="100000">
                  <a:srgbClr val="2c5353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734920" y="1785600"/>
              <a:ext cx="2482920" cy="2629800"/>
              <a:chOff x="2734920" y="1785600"/>
              <a:chExt cx="2482920" cy="2629800"/>
            </a:xfrm>
          </p:grpSpPr>
          <p:sp>
            <p:nvSpPr>
              <p:cNvPr id="125" name="AutoShape 7"/>
              <p:cNvSpPr/>
              <p:nvPr/>
            </p:nvSpPr>
            <p:spPr>
              <a:xfrm rot="12600000">
                <a:off x="2788920" y="349236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a7c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"/>
              <p:cNvSpPr/>
              <p:nvPr/>
            </p:nvSpPr>
            <p:spPr>
              <a:xfrm rot="7200000">
                <a:off x="3184200" y="2697120"/>
                <a:ext cx="1505160" cy="806400"/>
              </a:xfrm>
              <a:custGeom>
                <a:avLst/>
                <a:gdLst>
                  <a:gd name="textAreaLeft" fmla="*/ 0 w 1505160"/>
                  <a:gd name="textAreaRight" fmla="*/ 1505520 w 15051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a7c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9"/>
              <p:cNvSpPr/>
              <p:nvPr/>
            </p:nvSpPr>
            <p:spPr>
              <a:xfrm rot="7200000">
                <a:off x="4257360" y="1770120"/>
                <a:ext cx="622440" cy="1139760"/>
              </a:xfrm>
              <a:custGeom>
                <a:avLst/>
                <a:gdLst>
                  <a:gd name="textAreaLeft" fmla="*/ 0 w 622440"/>
                  <a:gd name="textAreaRight" fmla="*/ 622800 w 6224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a7c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Freeform 10"/>
            <p:cNvSpPr/>
            <p:nvPr/>
          </p:nvSpPr>
          <p:spPr>
            <a:xfrm rot="14400000">
              <a:off x="4507560" y="3891600"/>
              <a:ext cx="1365120" cy="207144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2071440"/>
                <a:gd name="textAreaBottom" fmla="*/ 2071800 h 207144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539960" y="2665800"/>
              <a:ext cx="2172600" cy="2758320"/>
              <a:chOff x="4539960" y="2665800"/>
              <a:chExt cx="2172600" cy="2758320"/>
            </a:xfrm>
          </p:grpSpPr>
          <p:sp>
            <p:nvSpPr>
              <p:cNvPr id="130" name="AutoShape 12"/>
              <p:cNvSpPr/>
              <p:nvPr/>
            </p:nvSpPr>
            <p:spPr>
              <a:xfrm rot="19800000">
                <a:off x="4594320" y="298476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3"/>
              <p:cNvSpPr/>
              <p:nvPr/>
            </p:nvSpPr>
            <p:spPr>
              <a:xfrm rot="14400000">
                <a:off x="4982400" y="3575160"/>
                <a:ext cx="1504800" cy="8046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804600"/>
                  <a:gd name="textAreaBottom" fmla="*/ 804960 h 8046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4"/>
              <p:cNvSpPr/>
              <p:nvPr/>
            </p:nvSpPr>
            <p:spPr>
              <a:xfrm rot="14400000">
                <a:off x="5807160" y="4331520"/>
                <a:ext cx="549000" cy="113976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34" name="Freeform 16"/>
              <p:cNvSpPr/>
              <p:nvPr/>
            </p:nvSpPr>
            <p:spPr>
              <a:xfrm>
                <a:off x="2698920" y="4327560"/>
                <a:ext cx="582120" cy="1102320"/>
              </a:xfrm>
              <a:custGeom>
                <a:avLst/>
                <a:gdLst>
                  <a:gd name="textAreaLeft" fmla="*/ 0 w 582120"/>
                  <a:gd name="textAreaRight" fmla="*/ 582480 w 582120"/>
                  <a:gd name="textAreaTop" fmla="*/ 0 h 1102320"/>
                  <a:gd name="textAreaBottom" fmla="*/ 1102680 h 110232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 rot="5400000">
                <a:off x="4177800" y="4707720"/>
                <a:ext cx="1388520" cy="64080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8"/>
              <p:cNvSpPr/>
              <p:nvPr/>
            </p:nvSpPr>
            <p:spPr>
              <a:xfrm>
                <a:off x="3223440" y="4650840"/>
                <a:ext cx="1598400" cy="779040"/>
              </a:xfrm>
              <a:custGeom>
                <a:avLst/>
                <a:gdLst>
                  <a:gd name="textAreaLeft" fmla="*/ 0 w 1598400"/>
                  <a:gd name="textAreaRight" fmla="*/ 1598760 w 159840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C0E-CD37-43B4-B942-806FCC36E2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47:1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