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2B7-C115-44EF-A9CD-82159D4E3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50C7-6DF0-4F69-8510-4B85B880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5D77-8090-451A-AE51-84228EC3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97CE-8719-4E45-B17E-F461D97E2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E08-E5E6-4E63-8576-A1C8D03E9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717E-38C3-4B74-BD0A-FC88D90F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E77-E1D8-4AF8-B4A2-F3ECD328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1E0-C1D0-46B1-B067-61792E2A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2990-C16A-4B79-925D-EB9D9066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1B8-8396-44D9-A49F-A6783C4C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80E-4FB6-4F43-A7C6-451CF28F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041-7852-4DD4-8861-1118A7EB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6FA2-FBA2-400A-8DFF-4620817B49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4F51-4FE7-48B6-85D3-BDC4A21CE4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表扬"/>
          <p:cNvPicPr/>
          <p:nvPr/>
        </p:nvPicPr>
        <p:blipFill>
          <a:blip r:embed="rId1"/>
          <a:stretch/>
        </p:blipFill>
        <p:spPr>
          <a:xfrm>
            <a:off x="1384200" y="1600200"/>
            <a:ext cx="637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巴掌"/>
          <p:cNvPicPr/>
          <p:nvPr/>
        </p:nvPicPr>
        <p:blipFill>
          <a:blip r:embed="rId1"/>
          <a:stretch/>
        </p:blipFill>
        <p:spPr>
          <a:xfrm>
            <a:off x="1384200" y="1600200"/>
            <a:ext cx="637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手二"/>
          <p:cNvPicPr/>
          <p:nvPr/>
        </p:nvPicPr>
        <p:blipFill>
          <a:blip r:embed="rId1"/>
          <a:stretch/>
        </p:blipFill>
        <p:spPr>
          <a:xfrm>
            <a:off x="1384200" y="1600200"/>
            <a:ext cx="637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手三"/>
          <p:cNvPicPr/>
          <p:nvPr/>
        </p:nvPicPr>
        <p:blipFill>
          <a:blip r:embed="rId1"/>
          <a:stretch/>
        </p:blipFill>
        <p:spPr>
          <a:xfrm>
            <a:off x="1384200" y="1600200"/>
            <a:ext cx="637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手四"/>
          <p:cNvPicPr/>
          <p:nvPr/>
        </p:nvPicPr>
        <p:blipFill>
          <a:blip r:embed="rId1"/>
          <a:stretch/>
        </p:blipFill>
        <p:spPr>
          <a:xfrm>
            <a:off x="1384200" y="1600200"/>
            <a:ext cx="6375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E3F8-9405-4DB4-A6C6-E07E33FBF7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a</cp:lastModifiedBy>
  <dcterms:modified xsi:type="dcterms:W3CDTF">2015-06-13T07:33:19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