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B81-244D-449B-8EC3-DD10F9E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718-D8DD-486C-B2A2-3087AF5F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AD0-640A-4F23-9C08-F0EC69B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5D4-DD13-4264-8C34-30EC191E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7E4-6F39-4CB8-9B82-67805529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AF46-22F2-47D1-993D-C608C99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9711-1624-42E4-AF91-1F1B6FCD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1AB-DE92-49AF-9F58-2ABC9BD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A580-72B5-4403-A7F1-563D2AD4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EDB-FB9B-4430-8927-36F6FFC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B16-1FBD-4BCA-8FCB-96EF2CF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415-773E-4D3F-AFD3-AA9D614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DCB-71CD-44C5-B7A8-12BE7D5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32D-EA35-4DB4-8BE8-9C5162E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E14-30B4-4A17-80E7-159276D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24FB-128D-4374-92D6-F57D28FD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88D-54A4-4012-8124-A10C44C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689-514F-4E65-8138-302D41A7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613-4B8D-4955-B150-2E84A1C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8FA-3C3D-4D04-AE73-F214D4F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63F-A535-4195-83A6-AF912E52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B40-F815-4166-AC62-EDC7C25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33C-59A4-47D3-B4CA-8EC4EAB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999-F2D3-48A8-9C62-D9D64C1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E1F-FE6A-4D73-A55E-3797C361F7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3CB-4842-4FEF-A041-050F936CA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9615-39F8-46C0-A7E5-CF6CBB50F7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3A27-D807-4C5C-940F-D7E993E9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0360" y="1197000"/>
          <a:ext cx="8350200" cy="3654360"/>
        </p:xfrm>
        <a:graphic>
          <a:graphicData uri="http://schemas.openxmlformats.org/drawingml/2006/table">
            <a:tbl>
              <a:tblPr/>
              <a:tblGrid>
                <a:gridCol w="1030320"/>
                <a:gridCol w="812880"/>
                <a:gridCol w="814320"/>
                <a:gridCol w="812880"/>
                <a:gridCol w="812520"/>
                <a:gridCol w="814680"/>
                <a:gridCol w="812520"/>
                <a:gridCol w="814680"/>
                <a:gridCol w="812520"/>
                <a:gridCol w="812880"/>
              </a:tblGrid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a7c6e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60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4" name="矩形​​ 6"/>
          <p:cNvSpPr/>
          <p:nvPr/>
        </p:nvSpPr>
        <p:spPr>
          <a:xfrm>
            <a:off x="1571760" y="2328840"/>
            <a:ext cx="21603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​​ 5"/>
          <p:cNvSpPr/>
          <p:nvPr/>
        </p:nvSpPr>
        <p:spPr>
          <a:xfrm>
            <a:off x="1463760" y="1825560"/>
            <a:ext cx="2376360" cy="46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​​ 7"/>
          <p:cNvSpPr/>
          <p:nvPr/>
        </p:nvSpPr>
        <p:spPr>
          <a:xfrm>
            <a:off x="2484360" y="2905200"/>
            <a:ext cx="215892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​​ 8"/>
          <p:cNvSpPr/>
          <p:nvPr/>
        </p:nvSpPr>
        <p:spPr>
          <a:xfrm>
            <a:off x="2268360" y="2473200"/>
            <a:ext cx="237492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​​ 11"/>
          <p:cNvSpPr/>
          <p:nvPr/>
        </p:nvSpPr>
        <p:spPr>
          <a:xfrm>
            <a:off x="4140360" y="3535200"/>
            <a:ext cx="2160360" cy="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​​ 12"/>
          <p:cNvSpPr/>
          <p:nvPr/>
        </p:nvSpPr>
        <p:spPr>
          <a:xfrm>
            <a:off x="3924360" y="3049560"/>
            <a:ext cx="237636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​​ 13"/>
          <p:cNvSpPr/>
          <p:nvPr/>
        </p:nvSpPr>
        <p:spPr>
          <a:xfrm>
            <a:off x="4859280" y="4156200"/>
            <a:ext cx="2160720" cy="4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​​ 14"/>
          <p:cNvSpPr/>
          <p:nvPr/>
        </p:nvSpPr>
        <p:spPr>
          <a:xfrm>
            <a:off x="4643280" y="3670200"/>
            <a:ext cx="237672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15"/>
          <p:cNvSpPr/>
          <p:nvPr/>
        </p:nvSpPr>
        <p:spPr>
          <a:xfrm>
            <a:off x="6372360" y="4730760"/>
            <a:ext cx="21603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​​ 16"/>
          <p:cNvSpPr/>
          <p:nvPr/>
        </p:nvSpPr>
        <p:spPr>
          <a:xfrm>
            <a:off x="6156360" y="4245120"/>
            <a:ext cx="237636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2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544500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甘特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699720" y="589752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  <a:ea typeface="宋体"/>
              </a:rPr>
              <a:t>Gantt 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http://www.iconpng.com/png/office2/event.png"/>
          <p:cNvPicPr/>
          <p:nvPr/>
        </p:nvPicPr>
        <p:blipFill>
          <a:blip r:embed="rId1"/>
          <a:stretch/>
        </p:blipFill>
        <p:spPr>
          <a:xfrm>
            <a:off x="7751880" y="523404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46D-8DE4-479D-86E1-D2245D7AE5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