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522-3293-49E1-994D-64B9901A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540-4423-458A-BEE8-0A0362D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139-67E4-4B35-9E9D-B36FDA38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C51-49BB-4630-8DDB-D32C6AD7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A5F-F39F-4B74-8E15-6660434A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A2A-1FB6-4206-9F9D-D9A485A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6FB-BD18-43E6-A518-6C1349F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14A-0C47-4545-A51E-680652C6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E14-6890-440B-A164-77E34E82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0EA-4DC8-4D7B-9CDE-530205E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1A4-09E9-479E-AD4E-7EE5F63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43D-16C4-4A81-954D-3795FB7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465-1C93-44AE-9F9F-5846AB645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.jpe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hyperlink" Target="http://www.eeppt.com/moban/jier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:\免费\教师节\1.png"/>
          <p:cNvPicPr/>
          <p:nvPr/>
        </p:nvPicPr>
        <p:blipFill>
          <a:blip r:embed="rId1"/>
          <a:stretch/>
        </p:blipFill>
        <p:spPr>
          <a:xfrm>
            <a:off x="-109440" y="-47520"/>
            <a:ext cx="9316800" cy="5821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rcRect l="0" t="50723" r="59970" b="0"/>
          <a:stretch/>
        </p:blipFill>
        <p:spPr>
          <a:xfrm>
            <a:off x="4716360" y="2116080"/>
            <a:ext cx="4883400" cy="37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I:\免费\教师节\4.png"/>
          <p:cNvPicPr/>
          <p:nvPr/>
        </p:nvPicPr>
        <p:blipFill>
          <a:blip r:embed="rId3"/>
          <a:stretch/>
        </p:blipFill>
        <p:spPr>
          <a:xfrm>
            <a:off x="-165240" y="-54000"/>
            <a:ext cx="9383760" cy="585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:\免费\教师节\101.png"/>
          <p:cNvPicPr/>
          <p:nvPr/>
        </p:nvPicPr>
        <p:blipFill>
          <a:blip r:embed="rId4"/>
          <a:srcRect l="10460" t="12903" r="7682" b="8239"/>
          <a:stretch/>
        </p:blipFill>
        <p:spPr>
          <a:xfrm>
            <a:off x="2332080" y="1733400"/>
            <a:ext cx="509400" cy="45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:\免费\教师节\101.png"/>
          <p:cNvPicPr/>
          <p:nvPr/>
        </p:nvPicPr>
        <p:blipFill>
          <a:blip r:embed="rId5"/>
          <a:srcRect l="10494" t="12927" r="7688" b="8268"/>
          <a:stretch/>
        </p:blipFill>
        <p:spPr>
          <a:xfrm rot="4792800">
            <a:off x="3024360" y="1368360"/>
            <a:ext cx="484200" cy="4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I:\免费\教师节\101.png"/>
          <p:cNvPicPr/>
          <p:nvPr/>
        </p:nvPicPr>
        <p:blipFill>
          <a:blip r:embed="rId6"/>
          <a:srcRect l="10423" t="12889" r="7740" b="8222"/>
          <a:stretch/>
        </p:blipFill>
        <p:spPr>
          <a:xfrm rot="4792800">
            <a:off x="1339560" y="3252600"/>
            <a:ext cx="284040" cy="2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60749E-006 C 0.02414 0.04771 0.04827 0.09542 0.05 0.15423 C 0.05174 0.21304 0.00903 0.24549 0.01025 0.35256 C 0.01146 0.45964 0.03421 0.62774 0.05695 0.79611 E">
                                      <p:cBhvr>
                                        <p:cTn id="19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66667E-006 2.27462E-006 C 0.02413 0.04771 0.04323 0.09625 0.05 0.15423 C 0.05677 0.2122 0.03976 0.24133 0.04097 0.3484 C 0.04219 0.45548 0.05365 0.70291 0.05695 0.79611 E">
                                      <p:cBhvr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1.34535E-006 C -0.00521 0.02774 -0.03264 0.10818 -0.0309 0.16699 C -0.02917 0.2258 -0.00434 0.24771 0.01024 0.35256 C 0.02483 0.45742 0.0342 0.62774 0.05694 0.79612 E">
                                      <p:cBhvr>
                                        <p:cTn id="33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758880" y="-644400"/>
            <a:ext cx="10665000" cy="7007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Administrator\桌面\图片19.jpg"/>
          <p:cNvPicPr/>
          <p:nvPr/>
        </p:nvPicPr>
        <p:blipFill>
          <a:blip r:embed="rId2"/>
          <a:stretch/>
        </p:blipFill>
        <p:spPr>
          <a:xfrm>
            <a:off x="6053040" y="1079640"/>
            <a:ext cx="3584520" cy="261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I:\免费\教师节\未标题-1.png"/>
          <p:cNvPicPr/>
          <p:nvPr/>
        </p:nvPicPr>
        <p:blipFill>
          <a:blip r:embed="rId3"/>
          <a:stretch/>
        </p:blipFill>
        <p:spPr>
          <a:xfrm>
            <a:off x="-717480" y="236520"/>
            <a:ext cx="3633840" cy="6280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681120" y="-595440"/>
            <a:ext cx="10665000" cy="7193160"/>
            <a:chOff x="-681120" y="-595440"/>
            <a:chExt cx="10665000" cy="7193160"/>
          </a:xfrm>
        </p:grpSpPr>
        <p:pic>
          <p:nvPicPr>
            <p:cNvPr id="51" name="Picture 4" descr="I:\免费\教师节\FJ-075.jpg"/>
            <p:cNvPicPr/>
            <p:nvPr/>
          </p:nvPicPr>
          <p:blipFill>
            <a:blip r:embed="rId4"/>
            <a:stretch/>
          </p:blipFill>
          <p:spPr>
            <a:xfrm>
              <a:off x="-681120" y="-594360"/>
              <a:ext cx="10665000" cy="70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I:\免费\教师节\FJ-075.jpg"/>
            <p:cNvPicPr/>
            <p:nvPr/>
          </p:nvPicPr>
          <p:blipFill>
            <a:blip r:embed="rId5"/>
            <a:stretch/>
          </p:blipFill>
          <p:spPr>
            <a:xfrm>
              <a:off x="-681120" y="-595440"/>
              <a:ext cx="10665000" cy="70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I:\免费\教师节\11.png"/>
            <p:cNvPicPr/>
            <p:nvPr/>
          </p:nvPicPr>
          <p:blipFill>
            <a:blip r:embed="rId6"/>
            <a:srcRect l="0" t="37535" r="-1587" b="0"/>
            <a:stretch/>
          </p:blipFill>
          <p:spPr>
            <a:xfrm>
              <a:off x="-173160" y="2643840"/>
              <a:ext cx="9642600" cy="395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I:\免费\教师节\SC035.png"/>
            <p:cNvPicPr/>
            <p:nvPr/>
          </p:nvPicPr>
          <p:blipFill>
            <a:blip r:embed="rId7"/>
            <a:srcRect l="0" t="0" r="64849" b="0"/>
            <a:stretch/>
          </p:blipFill>
          <p:spPr>
            <a:xfrm>
              <a:off x="155520" y="1068480"/>
              <a:ext cx="2804040" cy="53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I:\免费\教师节\3.png"/>
            <p:cNvPicPr/>
            <p:nvPr/>
          </p:nvPicPr>
          <p:blipFill>
            <a:blip r:embed="rId8"/>
            <a:srcRect l="66066" t="44710" r="23540" b="41686"/>
            <a:stretch/>
          </p:blipFill>
          <p:spPr>
            <a:xfrm>
              <a:off x="7062120" y="624600"/>
              <a:ext cx="1293840" cy="105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-76320" y="-291960"/>
            <a:ext cx="9420480" cy="6062400"/>
            <a:chOff x="-76320" y="-291960"/>
            <a:chExt cx="9420480" cy="6062400"/>
          </a:xfrm>
        </p:grpSpPr>
        <p:pic>
          <p:nvPicPr>
            <p:cNvPr id="57" name="Picture 2" descr="I:\免费\教师节\8.jpg"/>
            <p:cNvPicPr/>
            <p:nvPr/>
          </p:nvPicPr>
          <p:blipFill>
            <a:blip r:embed="rId9"/>
            <a:stretch/>
          </p:blipFill>
          <p:spPr>
            <a:xfrm flipH="1">
              <a:off x="-43560" y="-125640"/>
              <a:ext cx="9387720" cy="586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I:\免费\教师节\7.png"/>
            <p:cNvPicPr/>
            <p:nvPr/>
          </p:nvPicPr>
          <p:blipFill>
            <a:blip r:embed="rId10"/>
            <a:srcRect l="20341" t="0" r="0" b="0"/>
            <a:stretch/>
          </p:blipFill>
          <p:spPr>
            <a:xfrm>
              <a:off x="-76320" y="-291960"/>
              <a:ext cx="7729200" cy="60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I:\e\图片\200811417227600_2.png"/>
            <p:cNvPicPr/>
            <p:nvPr/>
          </p:nvPicPr>
          <p:blipFill>
            <a:blip r:embed="rId11"/>
            <a:srcRect l="27114" t="56241" r="29329" b="10487"/>
            <a:stretch/>
          </p:blipFill>
          <p:spPr>
            <a:xfrm>
              <a:off x="4437000" y="2759040"/>
              <a:ext cx="4492800" cy="24354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</p:pic>
      </p:grpSp>
      <p:pic>
        <p:nvPicPr>
          <p:cNvPr id="60" name="Picture 2" descr="I:\e\8.16\logocom新.png"/>
          <p:cNvPicPr/>
          <p:nvPr/>
        </p:nvPicPr>
        <p:blipFill>
          <a:blip r:embed="rId12"/>
          <a:stretch/>
        </p:blipFill>
        <p:spPr>
          <a:xfrm>
            <a:off x="44280" y="3240"/>
            <a:ext cx="1602000" cy="5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Administrator\桌面\图片18.jpg"/>
          <p:cNvPicPr/>
          <p:nvPr/>
        </p:nvPicPr>
        <p:blipFill>
          <a:blip r:embed="rId13"/>
          <a:stretch/>
        </p:blipFill>
        <p:spPr>
          <a:xfrm>
            <a:off x="3638520" y="-441360"/>
            <a:ext cx="4060800" cy="355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Administrator\桌面\5.jpg"/>
          <p:cNvPicPr/>
          <p:nvPr/>
        </p:nvPicPr>
        <p:blipFill>
          <a:blip r:embed="rId14"/>
          <a:stretch/>
        </p:blipFill>
        <p:spPr>
          <a:xfrm>
            <a:off x="2041560" y="96840"/>
            <a:ext cx="2987640" cy="24811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165240" y="-54000"/>
            <a:ext cx="9765000" cy="5927760"/>
            <a:chOff x="-165240" y="-54000"/>
            <a:chExt cx="9765000" cy="5927760"/>
          </a:xfrm>
        </p:grpSpPr>
        <p:grpSp>
          <p:nvGrpSpPr>
            <p:cNvPr id="64" name=""/>
            <p:cNvGrpSpPr/>
            <p:nvPr/>
          </p:nvGrpSpPr>
          <p:grpSpPr>
            <a:xfrm>
              <a:off x="-165240" y="-54000"/>
              <a:ext cx="9383760" cy="5856840"/>
              <a:chOff x="-165240" y="-54000"/>
              <a:chExt cx="9383760" cy="5856840"/>
            </a:xfrm>
          </p:grpSpPr>
          <p:pic>
            <p:nvPicPr>
              <p:cNvPr id="65" name="Picture 3" descr="I:\免费\教师节\1.png"/>
              <p:cNvPicPr/>
              <p:nvPr/>
            </p:nvPicPr>
            <p:blipFill>
              <a:blip r:embed="rId15"/>
              <a:stretch/>
            </p:blipFill>
            <p:spPr>
              <a:xfrm>
                <a:off x="-109800" y="-46800"/>
                <a:ext cx="9317520" cy="582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5" descr="I:\免费\教师节\4.png"/>
              <p:cNvPicPr/>
              <p:nvPr/>
            </p:nvPicPr>
            <p:blipFill>
              <a:blip r:embed="rId16"/>
              <a:stretch/>
            </p:blipFill>
            <p:spPr>
              <a:xfrm>
                <a:off x="-165240" y="-54000"/>
                <a:ext cx="9383760" cy="5856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Picture 6" descr=""/>
            <p:cNvPicPr/>
            <p:nvPr/>
          </p:nvPicPr>
          <p:blipFill>
            <a:blip r:embed="rId17"/>
            <a:srcRect l="0" t="50723" r="59970" b="0"/>
            <a:stretch/>
          </p:blipFill>
          <p:spPr>
            <a:xfrm>
              <a:off x="4717440" y="2117880"/>
              <a:ext cx="4882320" cy="37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200000">
                                      <p:cBhvr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77778E-006 -4.68793E-006 L 0.08854 -0.14008 E"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1199760"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07 0.00056 L -0.09358 -0.19583 E">
                                      <p:cBhvr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760">
                                      <p:cBhvr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5E-006 4.83208E-006 L 0.30973 -0.09798 E">
                                      <p:cBhvr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758880" y="-644400"/>
            <a:ext cx="10665000" cy="700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:\免费\教师节\未标题-1.png"/>
          <p:cNvPicPr/>
          <p:nvPr/>
        </p:nvPicPr>
        <p:blipFill>
          <a:blip r:embed="rId2"/>
          <a:stretch/>
        </p:blipFill>
        <p:spPr>
          <a:xfrm>
            <a:off x="-717480" y="236520"/>
            <a:ext cx="3633840" cy="6280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5"/>
          <p:cNvSpPr/>
          <p:nvPr/>
        </p:nvSpPr>
        <p:spPr>
          <a:xfrm>
            <a:off x="2987640" y="3975120"/>
            <a:ext cx="511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你是蜡烛，闪耀微弱的烛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你是园丁，流下辛勤的汗珠滴滴闪亮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老师你把我培养成人，让我为祖国发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46c0a"/>
                </a:solidFill>
                <a:latin typeface="微软雅黑"/>
                <a:ea typeface="微软雅黑"/>
              </a:rPr>
              <a:t>老师你教会我怎样做人，老师，辛苦了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istrator\桌面\图片19.jpg"/>
          <p:cNvPicPr/>
          <p:nvPr/>
        </p:nvPicPr>
        <p:blipFill>
          <a:blip r:embed="rId3"/>
          <a:stretch/>
        </p:blipFill>
        <p:spPr>
          <a:xfrm>
            <a:off x="6053040" y="1079640"/>
            <a:ext cx="3584520" cy="261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I:\免费\教师节\45.png"/>
          <p:cNvPicPr/>
          <p:nvPr/>
        </p:nvPicPr>
        <p:blipFill>
          <a:blip r:embed="rId4"/>
          <a:srcRect l="35392" t="45366" r="50391" b="40028"/>
          <a:stretch/>
        </p:blipFill>
        <p:spPr>
          <a:xfrm>
            <a:off x="2736720" y="3165480"/>
            <a:ext cx="1043280" cy="669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I:\免费\教师节\45.png"/>
          <p:cNvPicPr/>
          <p:nvPr/>
        </p:nvPicPr>
        <p:blipFill>
          <a:blip r:embed="rId5"/>
          <a:srcRect l="49478" t="45043" r="38002" b="42018"/>
          <a:stretch/>
        </p:blipFill>
        <p:spPr>
          <a:xfrm>
            <a:off x="3906720" y="3086280"/>
            <a:ext cx="1096920" cy="70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:\免费\教师节\45.png"/>
          <p:cNvPicPr/>
          <p:nvPr/>
        </p:nvPicPr>
        <p:blipFill>
          <a:blip r:embed="rId6"/>
          <a:srcRect l="68535" t="40691" r="17380" b="34270"/>
          <a:stretch/>
        </p:blipFill>
        <p:spPr>
          <a:xfrm>
            <a:off x="4691160" y="2425680"/>
            <a:ext cx="1825560" cy="202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I:\免费\教师节\45.png"/>
          <p:cNvPicPr/>
          <p:nvPr/>
        </p:nvPicPr>
        <p:blipFill>
          <a:blip r:embed="rId7"/>
          <a:srcRect l="85185" t="40691" r="5165" b="40425"/>
          <a:stretch/>
        </p:blipFill>
        <p:spPr>
          <a:xfrm>
            <a:off x="6102360" y="2925720"/>
            <a:ext cx="846000" cy="10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istrator\桌面\图片18.jpg"/>
          <p:cNvPicPr/>
          <p:nvPr/>
        </p:nvPicPr>
        <p:blipFill>
          <a:blip r:embed="rId8"/>
          <a:stretch/>
        </p:blipFill>
        <p:spPr>
          <a:xfrm>
            <a:off x="3638520" y="-441360"/>
            <a:ext cx="4060800" cy="355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Administrator\桌面\5.jpg"/>
          <p:cNvPicPr/>
          <p:nvPr/>
        </p:nvPicPr>
        <p:blipFill>
          <a:blip r:embed="rId9"/>
          <a:stretch/>
        </p:blipFill>
        <p:spPr>
          <a:xfrm>
            <a:off x="2041560" y="96840"/>
            <a:ext cx="2987640" cy="24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autoRev="1" nodeType="withEffect" fill="hold" presetClass="emph" presetID="6" repeatCount="3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3F4-B0AF-4576-A98C-9EB2E111BB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4:17:47Z</dcterms:created>
  <dc:creator>锐得PPT原创</dc:creator>
  <dc:description>更多资源免费下载：  http://bbs.ruideppt.com/ </dc:description>
  <dc:language>en-US</dc:language>
  <cp:lastModifiedBy>a</cp:lastModifiedBy>
  <dcterms:modified xsi:type="dcterms:W3CDTF">2015-06-13T11:46:06Z</dcterms:modified>
  <cp:revision>76</cp:revision>
  <dc:subject/>
  <dc:title>感念师恩PPT音乐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