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E79-D13A-41A7-9311-BEE02C18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30F-9C50-4A1A-8ABD-5148DAE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181-F371-41AF-8A55-BA11385B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8DD-BA41-4F22-89A8-47851B79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DEC-544D-4857-B0D0-9E01089F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6F9-9B39-4B59-BD1C-654BA4E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3B0-F7BF-4BA8-9EBE-7905BB3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F9A-D391-462A-BC8D-92EF062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344-08ED-4A54-9358-A9BF126C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A54-541F-49B6-8D64-3BA116C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526-2535-4CDB-8CB6-CAF89A8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C50-6616-436F-AD78-402AD42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144-4480-45F8-A586-43280916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38080" y="6445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71760" y="792000"/>
            <a:ext cx="53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于中医介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53080" y="1718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9880" y="3788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scultation and Olf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63800" y="25722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80200" y="2122920"/>
            <a:ext cx="41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se-taking and Palp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640" y="30830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谢谢观赏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46F-CF56-4BE5-83A6-4276065BF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14:32:58Z</dcterms:created>
  <dc:creator/>
  <dc:description/>
  <dc:language>en-US</dc:language>
  <cp:lastModifiedBy>jzxpc</cp:lastModifiedBy>
  <dcterms:modified xsi:type="dcterms:W3CDTF">2015-06-13T07:12:3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