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547-0A97-4131-9955-C12919D3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1AE-0DE3-4B18-B0B5-2B3A43D6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311-6674-4BAA-8D63-AD3C12A4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EDD-48A8-49C5-847D-19B51ABA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169-3081-4439-B8D6-C769904B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92F-164D-470D-9AA1-329B2E00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AD2-4875-4C57-A7B5-CD04E068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074-C7EC-460C-835D-C746A3A0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E03-DE7B-428B-BCC2-E0BDE31A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A4D-DDC4-4EB5-B0A7-3299F72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5D7-57CC-4A70-BFF8-4821891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92E-2E0E-4C4A-B585-A76CFA84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D9DC-A33B-40B2-8A8E-4832105DAC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8326440" y="255600"/>
            <a:ext cx="64152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65160" y="1959120"/>
            <a:ext cx="7553520" cy="2493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2"/>
          <a:stretch/>
        </p:blipFill>
        <p:spPr>
          <a:xfrm>
            <a:off x="8291520" y="189000"/>
            <a:ext cx="714240" cy="71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898720" y="4653000"/>
            <a:ext cx="309744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438280" y="2465280"/>
            <a:ext cx="4240440" cy="18018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"/>
          <p:cNvSpPr/>
          <p:nvPr/>
        </p:nvSpPr>
        <p:spPr>
          <a:xfrm>
            <a:off x="3553920" y="4481640"/>
            <a:ext cx="1868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FC4-259A-4B73-AF2F-89018FFB19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77920" y="268200"/>
            <a:ext cx="1852560" cy="749520"/>
          </a:xfrm>
          <a:prstGeom prst="rect">
            <a:avLst/>
          </a:prstGeom>
          <a:ln w="0">
            <a:noFill/>
          </a:ln>
        </p:spPr>
      </p:pic>
      <p:sp>
        <p:nvSpPr>
          <p:cNvPr id="46" name="椭圆 15"/>
          <p:cNvSpPr/>
          <p:nvPr/>
        </p:nvSpPr>
        <p:spPr>
          <a:xfrm>
            <a:off x="2158920" y="2514600"/>
            <a:ext cx="1530360" cy="1531800"/>
          </a:xfrm>
          <a:prstGeom prst="ellipse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6"/>
          <p:cNvSpPr/>
          <p:nvPr/>
        </p:nvSpPr>
        <p:spPr>
          <a:xfrm>
            <a:off x="3446640" y="2349360"/>
            <a:ext cx="2014200" cy="20131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7"/>
          <p:cNvSpPr/>
          <p:nvPr/>
        </p:nvSpPr>
        <p:spPr>
          <a:xfrm>
            <a:off x="5162400" y="2489040"/>
            <a:ext cx="1733760" cy="1733760"/>
          </a:xfrm>
          <a:prstGeom prst="ellipse">
            <a:avLst/>
          </a:prstGeom>
          <a:solidFill>
            <a:srgbClr val="26262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2463120" y="3081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4039560" y="3166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5557680" y="3156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果与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5" descr="和工程材料.jpg"/>
          <p:cNvPicPr/>
          <p:nvPr/>
        </p:nvPicPr>
        <p:blipFill>
          <a:blip r:embed="rId1"/>
          <a:stretch/>
        </p:blipFill>
        <p:spPr>
          <a:xfrm>
            <a:off x="1133640" y="256068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2" descr="耐火模具.jpg"/>
          <p:cNvPicPr/>
          <p:nvPr/>
        </p:nvPicPr>
        <p:blipFill>
          <a:blip r:embed="rId2"/>
          <a:stretch/>
        </p:blipFill>
        <p:spPr>
          <a:xfrm>
            <a:off x="6010200" y="2341440"/>
            <a:ext cx="1981440" cy="1974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3" descr="发动机.jpg"/>
          <p:cNvPicPr/>
          <p:nvPr/>
        </p:nvPicPr>
        <p:blipFill>
          <a:blip r:embed="rId3"/>
          <a:stretch/>
        </p:blipFill>
        <p:spPr>
          <a:xfrm>
            <a:off x="2077920" y="3597120"/>
            <a:ext cx="2347920" cy="23274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4" descr="热电偶.jpg"/>
          <p:cNvPicPr/>
          <p:nvPr/>
        </p:nvPicPr>
        <p:blipFill>
          <a:blip r:embed="rId4"/>
          <a:stretch/>
        </p:blipFill>
        <p:spPr>
          <a:xfrm>
            <a:off x="4248000" y="987480"/>
            <a:ext cx="2451240" cy="2432160"/>
          </a:xfrm>
          <a:prstGeom prst="rect">
            <a:avLst/>
          </a:prstGeom>
          <a:ln w="0">
            <a:noFill/>
          </a:ln>
        </p:spPr>
      </p:pic>
      <p:sp>
        <p:nvSpPr>
          <p:cNvPr id="56" name="椭圆 13"/>
          <p:cNvSpPr/>
          <p:nvPr/>
        </p:nvSpPr>
        <p:spPr>
          <a:xfrm>
            <a:off x="3648240" y="2649600"/>
            <a:ext cx="2014200" cy="2012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648240" y="3301920"/>
            <a:ext cx="201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耐热聚合物材料有着重要的应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5"/>
          <a:stretch/>
        </p:blipFill>
        <p:spPr>
          <a:xfrm>
            <a:off x="279360" y="246240"/>
            <a:ext cx="18525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193840" y="1139760"/>
            <a:ext cx="4786200" cy="4784760"/>
            <a:chOff x="2193840" y="1139760"/>
            <a:chExt cx="4786200" cy="4784760"/>
          </a:xfrm>
        </p:grpSpPr>
        <p:pic>
          <p:nvPicPr>
            <p:cNvPr id="60" name="椭圆 40" descr=""/>
            <p:cNvPicPr/>
            <p:nvPr/>
          </p:nvPicPr>
          <p:blipFill>
            <a:blip r:embed="rId1"/>
            <a:stretch/>
          </p:blipFill>
          <p:spPr>
            <a:xfrm>
              <a:off x="2193840" y="1139760"/>
              <a:ext cx="4786200" cy="47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898720" y="1844640"/>
              <a:ext cx="3376440" cy="33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280" y="788400"/>
            <a:ext cx="8526600" cy="5646600"/>
            <a:chOff x="278280" y="788400"/>
            <a:chExt cx="8526600" cy="5646600"/>
          </a:xfrm>
        </p:grpSpPr>
        <p:grpSp>
          <p:nvGrpSpPr>
            <p:cNvPr id="63" name=""/>
            <p:cNvGrpSpPr/>
            <p:nvPr/>
          </p:nvGrpSpPr>
          <p:grpSpPr>
            <a:xfrm>
              <a:off x="278280" y="788400"/>
              <a:ext cx="4758480" cy="4366080"/>
              <a:chOff x="278280" y="788400"/>
              <a:chExt cx="4758480" cy="4366080"/>
            </a:xfrm>
          </p:grpSpPr>
          <p:sp>
            <p:nvSpPr>
              <p:cNvPr id="64" name="任意多边形 27"/>
              <p:cNvSpPr/>
              <p:nvPr/>
            </p:nvSpPr>
            <p:spPr>
              <a:xfrm rot="19919400">
                <a:off x="733320" y="1522080"/>
                <a:ext cx="3848040" cy="2898360"/>
              </a:xfrm>
              <a:custGeom>
                <a:avLst/>
                <a:gdLst/>
                <a:ahLst/>
                <a:rect l="l" t="t" r="r" b="b"/>
                <a:pathLst>
                  <a:path w="3847876" h="2898257">
                    <a:moveTo>
                      <a:pt x="1232097" y="312712"/>
                    </a:moveTo>
                    <a:cubicBezTo>
                      <a:pt x="3738625" y="-958859"/>
                      <a:pt x="4492932" y="1999623"/>
                      <a:pt x="3281615" y="2898257"/>
                    </a:cubicBezTo>
                    <a:cubicBezTo>
                      <a:pt x="3265850" y="869760"/>
                      <a:pt x="585711" y="512408"/>
                      <a:pt x="18153" y="2677540"/>
                    </a:cubicBezTo>
                    <a:cubicBezTo>
                      <a:pt x="-128993" y="1715843"/>
                      <a:pt x="649438" y="608297"/>
                      <a:pt x="1232097" y="3127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6a6a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28"/>
              <p:cNvSpPr/>
              <p:nvPr/>
            </p:nvSpPr>
            <p:spPr>
              <a:xfrm rot="19919400">
                <a:off x="734400" y="1526400"/>
                <a:ext cx="3830040" cy="2898360"/>
              </a:xfrm>
              <a:custGeom>
                <a:avLst/>
                <a:gdLst/>
                <a:ahLst/>
                <a:rect l="l" t="t" r="r" b="b"/>
                <a:pathLst>
                  <a:path w="3829723" h="2898257">
                    <a:moveTo>
                      <a:pt x="1213944" y="312712"/>
                    </a:moveTo>
                    <a:cubicBezTo>
                      <a:pt x="3720472" y="-958859"/>
                      <a:pt x="4474779" y="1999623"/>
                      <a:pt x="3263462" y="2898257"/>
                    </a:cubicBezTo>
                    <a:cubicBezTo>
                      <a:pt x="3247697" y="869760"/>
                      <a:pt x="567558" y="512408"/>
                      <a:pt x="0" y="2677540"/>
                    </a:cubicBezTo>
                  </a:path>
                </a:pathLst>
              </a:custGeom>
              <a:noFill/>
              <a:ln w="25560">
                <a:solidFill>
                  <a:srgbClr val="59595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123080" y="2248560"/>
              <a:ext cx="4681800" cy="4186440"/>
              <a:chOff x="4123080" y="2248560"/>
              <a:chExt cx="4681800" cy="4186440"/>
            </a:xfrm>
          </p:grpSpPr>
          <p:sp>
            <p:nvSpPr>
              <p:cNvPr id="67" name="任意多边形 30"/>
              <p:cNvSpPr/>
              <p:nvPr/>
            </p:nvSpPr>
            <p:spPr>
              <a:xfrm rot="9398400">
                <a:off x="4539600" y="2892600"/>
                <a:ext cx="3848040" cy="2898360"/>
              </a:xfrm>
              <a:custGeom>
                <a:avLst/>
                <a:gdLst/>
                <a:ahLst/>
                <a:rect l="l" t="t" r="r" b="b"/>
                <a:pathLst>
                  <a:path w="3847876" h="2898257">
                    <a:moveTo>
                      <a:pt x="1232097" y="312712"/>
                    </a:moveTo>
                    <a:cubicBezTo>
                      <a:pt x="3738625" y="-958859"/>
                      <a:pt x="4492932" y="1999623"/>
                      <a:pt x="3281615" y="2898257"/>
                    </a:cubicBezTo>
                    <a:cubicBezTo>
                      <a:pt x="3265850" y="869760"/>
                      <a:pt x="585711" y="512408"/>
                      <a:pt x="18153" y="2677540"/>
                    </a:cubicBezTo>
                    <a:cubicBezTo>
                      <a:pt x="-128993" y="1715843"/>
                      <a:pt x="649438" y="608297"/>
                      <a:pt x="1232097" y="3127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6a6a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任意多边形 31"/>
              <p:cNvSpPr/>
              <p:nvPr/>
            </p:nvSpPr>
            <p:spPr>
              <a:xfrm rot="9398400">
                <a:off x="4556880" y="2889000"/>
                <a:ext cx="3830040" cy="2898360"/>
              </a:xfrm>
              <a:custGeom>
                <a:avLst/>
                <a:gdLst/>
                <a:ahLst/>
                <a:rect l="l" t="t" r="r" b="b"/>
                <a:pathLst>
                  <a:path w="3829723" h="2898257">
                    <a:moveTo>
                      <a:pt x="1213944" y="312712"/>
                    </a:moveTo>
                    <a:cubicBezTo>
                      <a:pt x="3720472" y="-958859"/>
                      <a:pt x="4474779" y="1999623"/>
                      <a:pt x="3263462" y="2898257"/>
                    </a:cubicBezTo>
                    <a:cubicBezTo>
                      <a:pt x="3247697" y="869760"/>
                      <a:pt x="567558" y="512408"/>
                      <a:pt x="0" y="2677540"/>
                    </a:cubicBezTo>
                  </a:path>
                </a:pathLst>
              </a:custGeom>
              <a:noFill/>
              <a:ln w="25560">
                <a:solidFill>
                  <a:srgbClr val="59595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3063240" y="2021040"/>
            <a:ext cx="3083040" cy="3083760"/>
            <a:chOff x="3063240" y="2021040"/>
            <a:chExt cx="3083040" cy="3083760"/>
          </a:xfrm>
        </p:grpSpPr>
        <p:sp>
          <p:nvSpPr>
            <p:cNvPr id="70" name="椭圆 14"/>
            <p:cNvSpPr/>
            <p:nvPr/>
          </p:nvSpPr>
          <p:spPr>
            <a:xfrm rot="17308200">
              <a:off x="3386160" y="2344680"/>
              <a:ext cx="2436840" cy="2436480"/>
            </a:xfrm>
            <a:prstGeom prst="ellipse">
              <a:avLst/>
            </a:prstGeom>
            <a:solidFill>
              <a:srgbClr val="f2f2f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4"/>
            <p:cNvSpPr/>
            <p:nvPr/>
          </p:nvSpPr>
          <p:spPr>
            <a:xfrm rot="17308200">
              <a:off x="3095640" y="2552400"/>
              <a:ext cx="2396160" cy="1770840"/>
            </a:xfrm>
            <a:custGeom>
              <a:avLst/>
              <a:gdLst/>
              <a:ahLst/>
              <a:rect l="l" t="t" r="r" b="b"/>
              <a:pathLst>
                <a:path w="2513087" h="1857524">
                  <a:moveTo>
                    <a:pt x="1238071" y="0"/>
                  </a:moveTo>
                  <a:cubicBezTo>
                    <a:pt x="1924059" y="0"/>
                    <a:pt x="2483811" y="540477"/>
                    <a:pt x="2513087" y="1218904"/>
                  </a:cubicBezTo>
                  <a:lnTo>
                    <a:pt x="2501597" y="1218904"/>
                  </a:lnTo>
                  <a:cubicBezTo>
                    <a:pt x="2501597" y="1571604"/>
                    <a:pt x="2215677" y="1857524"/>
                    <a:pt x="1862977" y="1857524"/>
                  </a:cubicBezTo>
                  <a:cubicBezTo>
                    <a:pt x="1510281" y="1857524"/>
                    <a:pt x="1224363" y="1571610"/>
                    <a:pt x="1224358" y="1218914"/>
                  </a:cubicBezTo>
                  <a:lnTo>
                    <a:pt x="1224359" y="1218904"/>
                  </a:lnTo>
                  <a:cubicBezTo>
                    <a:pt x="1224359" y="866204"/>
                    <a:pt x="938439" y="580284"/>
                    <a:pt x="585739" y="580284"/>
                  </a:cubicBezTo>
                  <a:cubicBezTo>
                    <a:pt x="323209" y="580284"/>
                    <a:pt x="97678" y="738698"/>
                    <a:pt x="0" y="965359"/>
                  </a:cubicBezTo>
                  <a:cubicBezTo>
                    <a:pt x="138135" y="410611"/>
                    <a:pt x="640151" y="0"/>
                    <a:pt x="1238071" y="0"/>
                  </a:cubicBezTo>
                  <a:close/>
                </a:path>
              </a:pathLst>
            </a:custGeom>
            <a:solidFill>
              <a:srgbClr val="26262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矩形 2"/>
          <p:cNvSpPr/>
          <p:nvPr/>
        </p:nvSpPr>
        <p:spPr>
          <a:xfrm>
            <a:off x="3407760" y="3558240"/>
            <a:ext cx="4546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5037120" y="4871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类似于树状结构，易溶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5290560" y="3288240"/>
            <a:ext cx="4546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6"/>
          <p:cNvSpPr/>
          <p:nvPr/>
        </p:nvSpPr>
        <p:spPr>
          <a:xfrm>
            <a:off x="4753440" y="28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7"/>
          <p:cNvSpPr/>
          <p:nvPr/>
        </p:nvSpPr>
        <p:spPr>
          <a:xfrm>
            <a:off x="4357800" y="26607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"/>
          <p:cNvSpPr/>
          <p:nvPr/>
        </p:nvSpPr>
        <p:spPr>
          <a:xfrm>
            <a:off x="3916440" y="2771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9"/>
          <p:cNvSpPr/>
          <p:nvPr/>
        </p:nvSpPr>
        <p:spPr>
          <a:xfrm>
            <a:off x="3579840" y="3133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4021560" y="401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4398840" y="4118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2"/>
          <p:cNvSpPr/>
          <p:nvPr/>
        </p:nvSpPr>
        <p:spPr>
          <a:xfrm>
            <a:off x="4870440" y="3995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3"/>
          <p:cNvSpPr/>
          <p:nvPr/>
        </p:nvSpPr>
        <p:spPr>
          <a:xfrm>
            <a:off x="5184720" y="3676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4"/>
          <p:cNvSpPr/>
          <p:nvPr/>
        </p:nvSpPr>
        <p:spPr>
          <a:xfrm>
            <a:off x="1671480" y="1965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优异的热性能和机械性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5"/>
          <p:cNvSpPr/>
          <p:nvPr/>
        </p:nvSpPr>
        <p:spPr>
          <a:xfrm>
            <a:off x="2319480" y="155736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不易加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79360" y="246240"/>
            <a:ext cx="1852560" cy="7491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3371760" y="2320920"/>
            <a:ext cx="2457720" cy="2457360"/>
            <a:chOff x="3371760" y="2320920"/>
            <a:chExt cx="2457720" cy="2457360"/>
          </a:xfrm>
        </p:grpSpPr>
        <p:sp>
          <p:nvSpPr>
            <p:cNvPr id="87" name="椭圆 36"/>
            <p:cNvSpPr/>
            <p:nvPr/>
          </p:nvSpPr>
          <p:spPr>
            <a:xfrm>
              <a:off x="3371760" y="2320920"/>
              <a:ext cx="2457720" cy="2457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" descr=""/>
            <p:cNvPicPr/>
            <p:nvPr/>
          </p:nvPicPr>
          <p:blipFill>
            <a:blip r:embed="rId3"/>
            <a:stretch/>
          </p:blipFill>
          <p:spPr>
            <a:xfrm>
              <a:off x="3674160" y="3028680"/>
              <a:ext cx="1852920" cy="11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59259E-006 L -0.16806 0.02615 E">
                                      <p:cBhvr>
                                        <p:cTn id="1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-0.00786 L 0.20312 -0.06198 E">
                                      <p:cBhvr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右箭头 15"/>
          <p:cNvSpPr/>
          <p:nvPr/>
        </p:nvSpPr>
        <p:spPr>
          <a:xfrm>
            <a:off x="2633760" y="1060560"/>
            <a:ext cx="4405320" cy="4908600"/>
          </a:xfrm>
          <a:custGeom>
            <a:avLst/>
            <a:gdLst/>
            <a:ahLst/>
            <a:rect l="l" t="t" r="r" b="b"/>
            <a:pathLst>
              <a:path w="4406230" h="4909569">
                <a:moveTo>
                  <a:pt x="0" y="0"/>
                </a:moveTo>
                <a:cubicBezTo>
                  <a:pt x="217888" y="925107"/>
                  <a:pt x="2007370" y="2037104"/>
                  <a:pt x="4091491" y="2027806"/>
                </a:cubicBezTo>
                <a:lnTo>
                  <a:pt x="4091491" y="1413054"/>
                </a:lnTo>
                <a:lnTo>
                  <a:pt x="4406230" y="1570293"/>
                </a:lnTo>
                <a:lnTo>
                  <a:pt x="4406230" y="3410875"/>
                </a:lnTo>
                <a:lnTo>
                  <a:pt x="4241616" y="3497115"/>
                </a:lnTo>
                <a:lnTo>
                  <a:pt x="4187026" y="2936954"/>
                </a:lnTo>
                <a:cubicBezTo>
                  <a:pt x="2098891" y="3099660"/>
                  <a:pt x="1148999" y="3240659"/>
                  <a:pt x="132442" y="4909569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5248440" y="2004840"/>
            <a:ext cx="3011400" cy="3017880"/>
          </a:xfrm>
          <a:prstGeom prst="rect">
            <a:avLst/>
          </a:prstGeom>
          <a:ln w="0">
            <a:noFill/>
          </a:ln>
        </p:spPr>
      </p:pic>
      <p:sp>
        <p:nvSpPr>
          <p:cNvPr id="91" name="椭圆 10"/>
          <p:cNvSpPr/>
          <p:nvPr/>
        </p:nvSpPr>
        <p:spPr>
          <a:xfrm>
            <a:off x="2496960" y="1581120"/>
            <a:ext cx="657360" cy="657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9"/>
          <p:cNvSpPr/>
          <p:nvPr/>
        </p:nvSpPr>
        <p:spPr>
          <a:xfrm>
            <a:off x="2708280" y="1905120"/>
            <a:ext cx="1314360" cy="131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2325600" y="1682640"/>
            <a:ext cx="100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2685960" y="223848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 3-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氨基联苯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1"/>
          <p:cNvSpPr/>
          <p:nvPr/>
        </p:nvSpPr>
        <p:spPr>
          <a:xfrm>
            <a:off x="2514600" y="4991040"/>
            <a:ext cx="657360" cy="657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2"/>
          <p:cNvSpPr/>
          <p:nvPr/>
        </p:nvSpPr>
        <p:spPr>
          <a:xfrm>
            <a:off x="2687760" y="3990960"/>
            <a:ext cx="1314360" cy="131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2351160" y="5089680"/>
            <a:ext cx="100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2685960" y="43527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3,5-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均苯三甲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箭头连接符 20"/>
          <p:cNvCxnSpPr/>
          <p:nvPr/>
        </p:nvCxnSpPr>
        <p:spPr>
          <a:xfrm>
            <a:off x="4161960" y="2883960"/>
            <a:ext cx="957960" cy="33588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cxnSp>
        <p:nvCxnSpPr>
          <p:cNvPr id="100" name="直接箭头连接符 23"/>
          <p:cNvCxnSpPr/>
          <p:nvPr/>
        </p:nvCxnSpPr>
        <p:spPr>
          <a:xfrm flipV="1">
            <a:off x="4043160" y="3788640"/>
            <a:ext cx="1076760" cy="4323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pic>
        <p:nvPicPr>
          <p:cNvPr id="101" name="Picture 24" descr=""/>
          <p:cNvPicPr/>
          <p:nvPr/>
        </p:nvPicPr>
        <p:blipFill>
          <a:blip r:embed="rId2"/>
          <a:stretch/>
        </p:blipFill>
        <p:spPr>
          <a:xfrm>
            <a:off x="279360" y="268200"/>
            <a:ext cx="1852560" cy="74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"/>
          <p:cNvPicPr/>
          <p:nvPr/>
        </p:nvPicPr>
        <p:blipFill>
          <a:blip r:embed="rId3"/>
          <a:stretch/>
        </p:blipFill>
        <p:spPr>
          <a:xfrm>
            <a:off x="782640" y="4998960"/>
            <a:ext cx="1542960" cy="838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"/>
          <p:cNvPicPr/>
          <p:nvPr/>
        </p:nvPicPr>
        <p:blipFill>
          <a:blip r:embed="rId4"/>
          <a:stretch/>
        </p:blipFill>
        <p:spPr>
          <a:xfrm>
            <a:off x="490680" y="1981080"/>
            <a:ext cx="198108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7"/>
          <p:cNvSpPr/>
          <p:nvPr/>
        </p:nvSpPr>
        <p:spPr>
          <a:xfrm>
            <a:off x="773280" y="2498760"/>
            <a:ext cx="1863720" cy="2103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 rot="19197600">
            <a:off x="-52200" y="22500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彩云"/>
                <a:ea typeface="华文彩云"/>
              </a:rPr>
              <a:t>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3" descr=""/>
          <p:cNvPicPr/>
          <p:nvPr/>
        </p:nvPicPr>
        <p:blipFill>
          <a:blip r:embed="rId1"/>
          <a:stretch/>
        </p:blipFill>
        <p:spPr>
          <a:xfrm>
            <a:off x="3780000" y="853920"/>
            <a:ext cx="4857480" cy="53038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15880" y="2162160"/>
            <a:ext cx="2255760" cy="515880"/>
            <a:chOff x="515880" y="2162160"/>
            <a:chExt cx="2255760" cy="515880"/>
          </a:xfrm>
        </p:grpSpPr>
        <p:pic>
          <p:nvPicPr>
            <p:cNvPr id="108" name="组合 14" descr=""/>
            <p:cNvPicPr/>
            <p:nvPr/>
          </p:nvPicPr>
          <p:blipFill>
            <a:blip r:embed="rId2"/>
            <a:stretch/>
          </p:blipFill>
          <p:spPr>
            <a:xfrm>
              <a:off x="515880" y="2162160"/>
              <a:ext cx="225576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矩形 5"/>
            <p:cNvSpPr/>
            <p:nvPr/>
          </p:nvSpPr>
          <p:spPr>
            <a:xfrm>
              <a:off x="1011600" y="2229480"/>
              <a:ext cx="152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1"/>
            <p:cNvSpPr/>
            <p:nvPr/>
          </p:nvSpPr>
          <p:spPr>
            <a:xfrm>
              <a:off x="663480" y="2225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右箭头 16"/>
          <p:cNvSpPr/>
          <p:nvPr/>
        </p:nvSpPr>
        <p:spPr>
          <a:xfrm>
            <a:off x="2973240" y="3506760"/>
            <a:ext cx="648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4" descr=""/>
          <p:cNvPicPr/>
          <p:nvPr/>
        </p:nvPicPr>
        <p:blipFill>
          <a:blip r:embed="rId3"/>
          <a:stretch/>
        </p:blipFill>
        <p:spPr>
          <a:xfrm>
            <a:off x="279360" y="268200"/>
            <a:ext cx="1852560" cy="74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" descr=""/>
          <p:cNvPicPr/>
          <p:nvPr/>
        </p:nvPicPr>
        <p:blipFill>
          <a:blip r:embed="rId4"/>
          <a:stretch/>
        </p:blipFill>
        <p:spPr>
          <a:xfrm>
            <a:off x="982800" y="3651120"/>
            <a:ext cx="1349280" cy="73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0" descr=""/>
          <p:cNvPicPr/>
          <p:nvPr/>
        </p:nvPicPr>
        <p:blipFill>
          <a:blip r:embed="rId5"/>
          <a:stretch/>
        </p:blipFill>
        <p:spPr>
          <a:xfrm>
            <a:off x="847800" y="2813040"/>
            <a:ext cx="17319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 rot="19197600">
            <a:off x="-52200" y="22500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彩云"/>
                <a:ea typeface="华文彩云"/>
              </a:rPr>
              <a:t>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0440" y="5445000"/>
          <a:ext cx="8172360" cy="1042920"/>
        </p:xfrm>
        <a:graphic>
          <a:graphicData uri="http://schemas.openxmlformats.org/drawingml/2006/table">
            <a:tbl>
              <a:tblPr/>
              <a:tblGrid>
                <a:gridCol w="2303640"/>
                <a:gridCol w="1296720"/>
                <a:gridCol w="1295640"/>
                <a:gridCol w="1223640"/>
                <a:gridCol w="2052720"/>
              </a:tblGrid>
              <a:tr h="349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0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7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苯环与咪唑环共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41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=C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=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43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苯环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 —C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2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N-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8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杂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544680" y="1019160"/>
            <a:ext cx="1434960" cy="368280"/>
            <a:chOff x="544680" y="1019160"/>
            <a:chExt cx="1434960" cy="368280"/>
          </a:xfrm>
        </p:grpSpPr>
        <p:sp>
          <p:nvSpPr>
            <p:cNvPr id="118" name="圆角矩形 22"/>
            <p:cNvSpPr/>
            <p:nvPr/>
          </p:nvSpPr>
          <p:spPr>
            <a:xfrm>
              <a:off x="544680" y="1033560"/>
              <a:ext cx="1434960" cy="3391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20"/>
            <p:cNvSpPr/>
            <p:nvPr/>
          </p:nvSpPr>
          <p:spPr>
            <a:xfrm>
              <a:off x="916920" y="101916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0"/>
          <p:cNvSpPr/>
          <p:nvPr/>
        </p:nvSpPr>
        <p:spPr>
          <a:xfrm>
            <a:off x="1950840" y="46656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781000" y="46656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3611160" y="46656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441680" y="46656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5270040" y="46656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6100560" y="46656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6964920" y="4665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2044800" y="456840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2457360" y="45684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2874960" y="456840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3289320" y="45684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 flipV="1">
            <a:off x="3705120" y="456840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 flipV="1">
            <a:off x="4119480" y="45684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4535640" y="456840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 flipV="1">
            <a:off x="4950000" y="45684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5364000" y="456840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6"/>
          <p:cNvSpPr/>
          <p:nvPr/>
        </p:nvSpPr>
        <p:spPr>
          <a:xfrm flipV="1">
            <a:off x="5780160" y="45684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 flipV="1">
            <a:off x="6194520" y="456840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6610320" y="456840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 flipV="1">
            <a:off x="7024680" y="456840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2044800" y="4568760"/>
            <a:ext cx="4979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044800" y="1379520"/>
            <a:ext cx="4979880" cy="2687760"/>
            <a:chOff x="2044800" y="1379520"/>
            <a:chExt cx="4979880" cy="2687760"/>
          </a:xfrm>
        </p:grpSpPr>
        <p:sp>
          <p:nvSpPr>
            <p:cNvPr id="142" name="Freeform 31"/>
            <p:cNvSpPr/>
            <p:nvPr/>
          </p:nvSpPr>
          <p:spPr>
            <a:xfrm>
              <a:off x="4788000" y="1379520"/>
              <a:ext cx="2236680" cy="2138400"/>
            </a:xfrm>
            <a:custGeom>
              <a:avLst/>
              <a:gdLst/>
              <a:ahLst/>
              <a:rect l="l" t="t" r="r" b="b"/>
              <a:pathLst>
                <a:path w="1409" h="1347">
                  <a:moveTo>
                    <a:pt x="1409" y="753"/>
                  </a:moveTo>
                  <a:lnTo>
                    <a:pt x="1408" y="766"/>
                  </a:lnTo>
                  <a:lnTo>
                    <a:pt x="1405" y="775"/>
                  </a:lnTo>
                  <a:lnTo>
                    <a:pt x="1404" y="787"/>
                  </a:lnTo>
                  <a:lnTo>
                    <a:pt x="1401" y="805"/>
                  </a:lnTo>
                  <a:lnTo>
                    <a:pt x="1400" y="819"/>
                  </a:lnTo>
                  <a:lnTo>
                    <a:pt x="1397" y="829"/>
                  </a:lnTo>
                  <a:lnTo>
                    <a:pt x="1396" y="834"/>
                  </a:lnTo>
                  <a:lnTo>
                    <a:pt x="1394" y="831"/>
                  </a:lnTo>
                  <a:lnTo>
                    <a:pt x="1392" y="824"/>
                  </a:lnTo>
                  <a:lnTo>
                    <a:pt x="1390" y="819"/>
                  </a:lnTo>
                  <a:lnTo>
                    <a:pt x="1387" y="814"/>
                  </a:lnTo>
                  <a:lnTo>
                    <a:pt x="1386" y="808"/>
                  </a:lnTo>
                  <a:lnTo>
                    <a:pt x="1383" y="805"/>
                  </a:lnTo>
                  <a:lnTo>
                    <a:pt x="1382" y="805"/>
                  </a:lnTo>
                  <a:lnTo>
                    <a:pt x="1379" y="807"/>
                  </a:lnTo>
                  <a:lnTo>
                    <a:pt x="1378" y="804"/>
                  </a:lnTo>
                  <a:lnTo>
                    <a:pt x="1375" y="793"/>
                  </a:lnTo>
                  <a:lnTo>
                    <a:pt x="1374" y="782"/>
                  </a:lnTo>
                  <a:lnTo>
                    <a:pt x="1371" y="778"/>
                  </a:lnTo>
                  <a:lnTo>
                    <a:pt x="1370" y="776"/>
                  </a:lnTo>
                  <a:lnTo>
                    <a:pt x="1367" y="777"/>
                  </a:lnTo>
                  <a:lnTo>
                    <a:pt x="1366" y="781"/>
                  </a:lnTo>
                  <a:lnTo>
                    <a:pt x="1363" y="784"/>
                  </a:lnTo>
                  <a:lnTo>
                    <a:pt x="1361" y="784"/>
                  </a:lnTo>
                  <a:lnTo>
                    <a:pt x="1359" y="784"/>
                  </a:lnTo>
                  <a:lnTo>
                    <a:pt x="1357" y="787"/>
                  </a:lnTo>
                  <a:lnTo>
                    <a:pt x="1356" y="787"/>
                  </a:lnTo>
                  <a:lnTo>
                    <a:pt x="1353" y="781"/>
                  </a:lnTo>
                  <a:lnTo>
                    <a:pt x="1352" y="766"/>
                  </a:lnTo>
                  <a:lnTo>
                    <a:pt x="1349" y="749"/>
                  </a:lnTo>
                  <a:lnTo>
                    <a:pt x="1348" y="737"/>
                  </a:lnTo>
                  <a:lnTo>
                    <a:pt x="1345" y="733"/>
                  </a:lnTo>
                  <a:lnTo>
                    <a:pt x="1344" y="727"/>
                  </a:lnTo>
                  <a:lnTo>
                    <a:pt x="1341" y="718"/>
                  </a:lnTo>
                  <a:lnTo>
                    <a:pt x="1340" y="715"/>
                  </a:lnTo>
                  <a:lnTo>
                    <a:pt x="1337" y="712"/>
                  </a:lnTo>
                  <a:lnTo>
                    <a:pt x="1335" y="712"/>
                  </a:lnTo>
                  <a:lnTo>
                    <a:pt x="1333" y="713"/>
                  </a:lnTo>
                  <a:lnTo>
                    <a:pt x="1331" y="715"/>
                  </a:lnTo>
                  <a:lnTo>
                    <a:pt x="1329" y="719"/>
                  </a:lnTo>
                  <a:lnTo>
                    <a:pt x="1327" y="729"/>
                  </a:lnTo>
                  <a:lnTo>
                    <a:pt x="1325" y="741"/>
                  </a:lnTo>
                  <a:lnTo>
                    <a:pt x="1323" y="753"/>
                  </a:lnTo>
                  <a:lnTo>
                    <a:pt x="1321" y="764"/>
                  </a:lnTo>
                  <a:lnTo>
                    <a:pt x="1319" y="772"/>
                  </a:lnTo>
                  <a:lnTo>
                    <a:pt x="1317" y="779"/>
                  </a:lnTo>
                  <a:lnTo>
                    <a:pt x="1315" y="789"/>
                  </a:lnTo>
                  <a:lnTo>
                    <a:pt x="1314" y="799"/>
                  </a:lnTo>
                  <a:lnTo>
                    <a:pt x="1311" y="805"/>
                  </a:lnTo>
                  <a:lnTo>
                    <a:pt x="1308" y="810"/>
                  </a:lnTo>
                  <a:lnTo>
                    <a:pt x="1307" y="811"/>
                  </a:lnTo>
                  <a:lnTo>
                    <a:pt x="1304" y="805"/>
                  </a:lnTo>
                  <a:lnTo>
                    <a:pt x="1303" y="794"/>
                  </a:lnTo>
                  <a:lnTo>
                    <a:pt x="1300" y="782"/>
                  </a:lnTo>
                  <a:lnTo>
                    <a:pt x="1299" y="772"/>
                  </a:lnTo>
                  <a:lnTo>
                    <a:pt x="1296" y="766"/>
                  </a:lnTo>
                  <a:lnTo>
                    <a:pt x="1295" y="765"/>
                  </a:lnTo>
                  <a:lnTo>
                    <a:pt x="1293" y="766"/>
                  </a:lnTo>
                  <a:lnTo>
                    <a:pt x="1291" y="769"/>
                  </a:lnTo>
                  <a:lnTo>
                    <a:pt x="1289" y="775"/>
                  </a:lnTo>
                  <a:lnTo>
                    <a:pt x="1287" y="783"/>
                  </a:lnTo>
                  <a:lnTo>
                    <a:pt x="1285" y="793"/>
                  </a:lnTo>
                  <a:lnTo>
                    <a:pt x="1282" y="805"/>
                  </a:lnTo>
                  <a:lnTo>
                    <a:pt x="1281" y="816"/>
                  </a:lnTo>
                  <a:lnTo>
                    <a:pt x="1278" y="824"/>
                  </a:lnTo>
                  <a:lnTo>
                    <a:pt x="1277" y="828"/>
                  </a:lnTo>
                  <a:lnTo>
                    <a:pt x="1274" y="829"/>
                  </a:lnTo>
                  <a:lnTo>
                    <a:pt x="1273" y="828"/>
                  </a:lnTo>
                  <a:lnTo>
                    <a:pt x="1270" y="826"/>
                  </a:lnTo>
                  <a:lnTo>
                    <a:pt x="1269" y="823"/>
                  </a:lnTo>
                  <a:lnTo>
                    <a:pt x="1266" y="822"/>
                  </a:lnTo>
                  <a:lnTo>
                    <a:pt x="1265" y="822"/>
                  </a:lnTo>
                  <a:lnTo>
                    <a:pt x="1262" y="823"/>
                  </a:lnTo>
                  <a:lnTo>
                    <a:pt x="1261" y="826"/>
                  </a:lnTo>
                  <a:lnTo>
                    <a:pt x="1258" y="834"/>
                  </a:lnTo>
                  <a:lnTo>
                    <a:pt x="1256" y="843"/>
                  </a:lnTo>
                  <a:lnTo>
                    <a:pt x="1255" y="849"/>
                  </a:lnTo>
                  <a:lnTo>
                    <a:pt x="1252" y="854"/>
                  </a:lnTo>
                  <a:lnTo>
                    <a:pt x="1251" y="859"/>
                  </a:lnTo>
                  <a:lnTo>
                    <a:pt x="1248" y="864"/>
                  </a:lnTo>
                  <a:lnTo>
                    <a:pt x="1247" y="867"/>
                  </a:lnTo>
                  <a:lnTo>
                    <a:pt x="1244" y="866"/>
                  </a:lnTo>
                  <a:lnTo>
                    <a:pt x="1243" y="863"/>
                  </a:lnTo>
                  <a:lnTo>
                    <a:pt x="1240" y="861"/>
                  </a:lnTo>
                  <a:lnTo>
                    <a:pt x="1239" y="860"/>
                  </a:lnTo>
                  <a:lnTo>
                    <a:pt x="1236" y="858"/>
                  </a:lnTo>
                  <a:lnTo>
                    <a:pt x="1235" y="856"/>
                  </a:lnTo>
                  <a:lnTo>
                    <a:pt x="1232" y="858"/>
                  </a:lnTo>
                  <a:lnTo>
                    <a:pt x="1230" y="864"/>
                  </a:lnTo>
                  <a:lnTo>
                    <a:pt x="1228" y="872"/>
                  </a:lnTo>
                  <a:lnTo>
                    <a:pt x="1226" y="881"/>
                  </a:lnTo>
                  <a:lnTo>
                    <a:pt x="1224" y="891"/>
                  </a:lnTo>
                  <a:lnTo>
                    <a:pt x="1222" y="900"/>
                  </a:lnTo>
                  <a:lnTo>
                    <a:pt x="1220" y="908"/>
                  </a:lnTo>
                  <a:lnTo>
                    <a:pt x="1218" y="917"/>
                  </a:lnTo>
                  <a:lnTo>
                    <a:pt x="1217" y="925"/>
                  </a:lnTo>
                  <a:lnTo>
                    <a:pt x="1214" y="935"/>
                  </a:lnTo>
                  <a:lnTo>
                    <a:pt x="1213" y="942"/>
                  </a:lnTo>
                  <a:lnTo>
                    <a:pt x="1210" y="949"/>
                  </a:lnTo>
                  <a:lnTo>
                    <a:pt x="1209" y="956"/>
                  </a:lnTo>
                  <a:lnTo>
                    <a:pt x="1206" y="962"/>
                  </a:lnTo>
                  <a:lnTo>
                    <a:pt x="1203" y="971"/>
                  </a:lnTo>
                  <a:lnTo>
                    <a:pt x="1202" y="977"/>
                  </a:lnTo>
                  <a:lnTo>
                    <a:pt x="1199" y="978"/>
                  </a:lnTo>
                  <a:lnTo>
                    <a:pt x="1198" y="967"/>
                  </a:lnTo>
                  <a:lnTo>
                    <a:pt x="1196" y="941"/>
                  </a:lnTo>
                  <a:lnTo>
                    <a:pt x="1194" y="896"/>
                  </a:lnTo>
                  <a:lnTo>
                    <a:pt x="1192" y="836"/>
                  </a:lnTo>
                  <a:lnTo>
                    <a:pt x="1190" y="770"/>
                  </a:lnTo>
                  <a:lnTo>
                    <a:pt x="1188" y="708"/>
                  </a:lnTo>
                  <a:lnTo>
                    <a:pt x="1186" y="663"/>
                  </a:lnTo>
                  <a:lnTo>
                    <a:pt x="1184" y="635"/>
                  </a:lnTo>
                  <a:lnTo>
                    <a:pt x="1182" y="623"/>
                  </a:lnTo>
                  <a:lnTo>
                    <a:pt x="1180" y="621"/>
                  </a:lnTo>
                  <a:lnTo>
                    <a:pt x="1177" y="618"/>
                  </a:lnTo>
                  <a:lnTo>
                    <a:pt x="1176" y="615"/>
                  </a:lnTo>
                  <a:lnTo>
                    <a:pt x="1173" y="612"/>
                  </a:lnTo>
                  <a:lnTo>
                    <a:pt x="1172" y="612"/>
                  </a:lnTo>
                  <a:lnTo>
                    <a:pt x="1169" y="617"/>
                  </a:lnTo>
                  <a:lnTo>
                    <a:pt x="1168" y="625"/>
                  </a:lnTo>
                  <a:lnTo>
                    <a:pt x="1165" y="636"/>
                  </a:lnTo>
                  <a:lnTo>
                    <a:pt x="1164" y="648"/>
                  </a:lnTo>
                  <a:lnTo>
                    <a:pt x="1161" y="660"/>
                  </a:lnTo>
                  <a:lnTo>
                    <a:pt x="1160" y="672"/>
                  </a:lnTo>
                  <a:lnTo>
                    <a:pt x="1158" y="687"/>
                  </a:lnTo>
                  <a:lnTo>
                    <a:pt x="1156" y="701"/>
                  </a:lnTo>
                  <a:lnTo>
                    <a:pt x="1154" y="718"/>
                  </a:lnTo>
                  <a:lnTo>
                    <a:pt x="1151" y="739"/>
                  </a:lnTo>
                  <a:lnTo>
                    <a:pt x="1150" y="759"/>
                  </a:lnTo>
                  <a:lnTo>
                    <a:pt x="1147" y="775"/>
                  </a:lnTo>
                  <a:lnTo>
                    <a:pt x="1146" y="784"/>
                  </a:lnTo>
                  <a:lnTo>
                    <a:pt x="1143" y="787"/>
                  </a:lnTo>
                  <a:lnTo>
                    <a:pt x="1142" y="786"/>
                  </a:lnTo>
                  <a:lnTo>
                    <a:pt x="1139" y="786"/>
                  </a:lnTo>
                  <a:lnTo>
                    <a:pt x="1138" y="786"/>
                  </a:lnTo>
                  <a:lnTo>
                    <a:pt x="1135" y="783"/>
                  </a:lnTo>
                  <a:lnTo>
                    <a:pt x="1134" y="778"/>
                  </a:lnTo>
                  <a:lnTo>
                    <a:pt x="1131" y="771"/>
                  </a:lnTo>
                  <a:lnTo>
                    <a:pt x="1130" y="761"/>
                  </a:lnTo>
                  <a:lnTo>
                    <a:pt x="1127" y="748"/>
                  </a:lnTo>
                  <a:lnTo>
                    <a:pt x="1125" y="735"/>
                  </a:lnTo>
                  <a:lnTo>
                    <a:pt x="1123" y="727"/>
                  </a:lnTo>
                  <a:lnTo>
                    <a:pt x="1121" y="727"/>
                  </a:lnTo>
                  <a:lnTo>
                    <a:pt x="1119" y="740"/>
                  </a:lnTo>
                  <a:lnTo>
                    <a:pt x="1117" y="763"/>
                  </a:lnTo>
                  <a:lnTo>
                    <a:pt x="1116" y="796"/>
                  </a:lnTo>
                  <a:lnTo>
                    <a:pt x="1113" y="840"/>
                  </a:lnTo>
                  <a:lnTo>
                    <a:pt x="1112" y="891"/>
                  </a:lnTo>
                  <a:lnTo>
                    <a:pt x="1109" y="949"/>
                  </a:lnTo>
                  <a:lnTo>
                    <a:pt x="1108" y="1009"/>
                  </a:lnTo>
                  <a:lnTo>
                    <a:pt x="1105" y="1067"/>
                  </a:lnTo>
                  <a:lnTo>
                    <a:pt x="1104" y="1121"/>
                  </a:lnTo>
                  <a:lnTo>
                    <a:pt x="1101" y="1165"/>
                  </a:lnTo>
                  <a:lnTo>
                    <a:pt x="1099" y="1196"/>
                  </a:lnTo>
                  <a:lnTo>
                    <a:pt x="1097" y="1213"/>
                  </a:lnTo>
                  <a:lnTo>
                    <a:pt x="1095" y="1215"/>
                  </a:lnTo>
                  <a:lnTo>
                    <a:pt x="1093" y="1202"/>
                  </a:lnTo>
                  <a:lnTo>
                    <a:pt x="1091" y="1174"/>
                  </a:lnTo>
                  <a:lnTo>
                    <a:pt x="1089" y="1136"/>
                  </a:lnTo>
                  <a:lnTo>
                    <a:pt x="1087" y="1088"/>
                  </a:lnTo>
                  <a:lnTo>
                    <a:pt x="1085" y="1036"/>
                  </a:lnTo>
                  <a:lnTo>
                    <a:pt x="1083" y="980"/>
                  </a:lnTo>
                  <a:lnTo>
                    <a:pt x="1081" y="918"/>
                  </a:lnTo>
                  <a:lnTo>
                    <a:pt x="1079" y="849"/>
                  </a:lnTo>
                  <a:lnTo>
                    <a:pt x="1078" y="777"/>
                  </a:lnTo>
                  <a:lnTo>
                    <a:pt x="1075" y="712"/>
                  </a:lnTo>
                  <a:lnTo>
                    <a:pt x="1074" y="660"/>
                  </a:lnTo>
                  <a:lnTo>
                    <a:pt x="1071" y="625"/>
                  </a:lnTo>
                  <a:lnTo>
                    <a:pt x="1068" y="606"/>
                  </a:lnTo>
                  <a:lnTo>
                    <a:pt x="1067" y="597"/>
                  </a:lnTo>
                  <a:lnTo>
                    <a:pt x="1064" y="594"/>
                  </a:lnTo>
                  <a:lnTo>
                    <a:pt x="1063" y="600"/>
                  </a:lnTo>
                  <a:lnTo>
                    <a:pt x="1060" y="615"/>
                  </a:lnTo>
                  <a:lnTo>
                    <a:pt x="1059" y="637"/>
                  </a:lnTo>
                  <a:lnTo>
                    <a:pt x="1057" y="669"/>
                  </a:lnTo>
                  <a:lnTo>
                    <a:pt x="1055" y="708"/>
                  </a:lnTo>
                  <a:lnTo>
                    <a:pt x="1053" y="753"/>
                  </a:lnTo>
                  <a:lnTo>
                    <a:pt x="1051" y="800"/>
                  </a:lnTo>
                  <a:lnTo>
                    <a:pt x="1049" y="836"/>
                  </a:lnTo>
                  <a:lnTo>
                    <a:pt x="1047" y="846"/>
                  </a:lnTo>
                  <a:lnTo>
                    <a:pt x="1045" y="823"/>
                  </a:lnTo>
                  <a:lnTo>
                    <a:pt x="1042" y="769"/>
                  </a:lnTo>
                  <a:lnTo>
                    <a:pt x="1041" y="695"/>
                  </a:lnTo>
                  <a:lnTo>
                    <a:pt x="1038" y="616"/>
                  </a:lnTo>
                  <a:lnTo>
                    <a:pt x="1037" y="540"/>
                  </a:lnTo>
                  <a:lnTo>
                    <a:pt x="1034" y="476"/>
                  </a:lnTo>
                  <a:lnTo>
                    <a:pt x="1033" y="428"/>
                  </a:lnTo>
                  <a:lnTo>
                    <a:pt x="1030" y="387"/>
                  </a:lnTo>
                  <a:lnTo>
                    <a:pt x="1029" y="350"/>
                  </a:lnTo>
                  <a:lnTo>
                    <a:pt x="1026" y="315"/>
                  </a:lnTo>
                  <a:lnTo>
                    <a:pt x="1025" y="283"/>
                  </a:lnTo>
                  <a:lnTo>
                    <a:pt x="1022" y="250"/>
                  </a:lnTo>
                  <a:lnTo>
                    <a:pt x="1021" y="215"/>
                  </a:lnTo>
                  <a:lnTo>
                    <a:pt x="1019" y="181"/>
                  </a:lnTo>
                  <a:lnTo>
                    <a:pt x="1016" y="151"/>
                  </a:lnTo>
                  <a:lnTo>
                    <a:pt x="1015" y="126"/>
                  </a:lnTo>
                  <a:lnTo>
                    <a:pt x="1012" y="107"/>
                  </a:lnTo>
                  <a:lnTo>
                    <a:pt x="1011" y="88"/>
                  </a:lnTo>
                  <a:lnTo>
                    <a:pt x="1008" y="71"/>
                  </a:lnTo>
                  <a:lnTo>
                    <a:pt x="1007" y="61"/>
                  </a:lnTo>
                  <a:lnTo>
                    <a:pt x="1004" y="58"/>
                  </a:lnTo>
                  <a:lnTo>
                    <a:pt x="1003" y="60"/>
                  </a:lnTo>
                  <a:lnTo>
                    <a:pt x="1000" y="68"/>
                  </a:lnTo>
                  <a:lnTo>
                    <a:pt x="999" y="77"/>
                  </a:lnTo>
                  <a:lnTo>
                    <a:pt x="996" y="85"/>
                  </a:lnTo>
                  <a:lnTo>
                    <a:pt x="995" y="101"/>
                  </a:lnTo>
                  <a:lnTo>
                    <a:pt x="992" y="124"/>
                  </a:lnTo>
                  <a:lnTo>
                    <a:pt x="990" y="145"/>
                  </a:lnTo>
                  <a:lnTo>
                    <a:pt x="988" y="156"/>
                  </a:lnTo>
                  <a:lnTo>
                    <a:pt x="986" y="137"/>
                  </a:lnTo>
                  <a:lnTo>
                    <a:pt x="984" y="92"/>
                  </a:lnTo>
                  <a:lnTo>
                    <a:pt x="982" y="48"/>
                  </a:lnTo>
                  <a:lnTo>
                    <a:pt x="980" y="19"/>
                  </a:lnTo>
                  <a:lnTo>
                    <a:pt x="978" y="5"/>
                  </a:lnTo>
                  <a:lnTo>
                    <a:pt x="977" y="2"/>
                  </a:lnTo>
                  <a:lnTo>
                    <a:pt x="974" y="6"/>
                  </a:lnTo>
                  <a:lnTo>
                    <a:pt x="973" y="9"/>
                  </a:lnTo>
                  <a:lnTo>
                    <a:pt x="970" y="15"/>
                  </a:lnTo>
                  <a:lnTo>
                    <a:pt x="969" y="25"/>
                  </a:lnTo>
                  <a:lnTo>
                    <a:pt x="966" y="33"/>
                  </a:lnTo>
                  <a:lnTo>
                    <a:pt x="963" y="43"/>
                  </a:lnTo>
                  <a:lnTo>
                    <a:pt x="962" y="56"/>
                  </a:lnTo>
                  <a:lnTo>
                    <a:pt x="960" y="66"/>
                  </a:lnTo>
                  <a:lnTo>
                    <a:pt x="958" y="76"/>
                  </a:lnTo>
                  <a:lnTo>
                    <a:pt x="956" y="86"/>
                  </a:lnTo>
                  <a:lnTo>
                    <a:pt x="954" y="94"/>
                  </a:lnTo>
                  <a:lnTo>
                    <a:pt x="952" y="100"/>
                  </a:lnTo>
                  <a:lnTo>
                    <a:pt x="950" y="109"/>
                  </a:lnTo>
                  <a:lnTo>
                    <a:pt x="948" y="119"/>
                  </a:lnTo>
                  <a:lnTo>
                    <a:pt x="946" y="130"/>
                  </a:lnTo>
                  <a:lnTo>
                    <a:pt x="944" y="147"/>
                  </a:lnTo>
                  <a:lnTo>
                    <a:pt x="942" y="166"/>
                  </a:lnTo>
                  <a:lnTo>
                    <a:pt x="940" y="186"/>
                  </a:lnTo>
                  <a:lnTo>
                    <a:pt x="937" y="209"/>
                  </a:lnTo>
                  <a:lnTo>
                    <a:pt x="936" y="230"/>
                  </a:lnTo>
                  <a:lnTo>
                    <a:pt x="933" y="249"/>
                  </a:lnTo>
                  <a:lnTo>
                    <a:pt x="932" y="273"/>
                  </a:lnTo>
                  <a:lnTo>
                    <a:pt x="929" y="295"/>
                  </a:lnTo>
                  <a:lnTo>
                    <a:pt x="928" y="307"/>
                  </a:lnTo>
                  <a:lnTo>
                    <a:pt x="925" y="301"/>
                  </a:lnTo>
                  <a:lnTo>
                    <a:pt x="924" y="269"/>
                  </a:lnTo>
                  <a:lnTo>
                    <a:pt x="921" y="212"/>
                  </a:lnTo>
                  <a:lnTo>
                    <a:pt x="920" y="142"/>
                  </a:lnTo>
                  <a:lnTo>
                    <a:pt x="918" y="76"/>
                  </a:lnTo>
                  <a:lnTo>
                    <a:pt x="916" y="27"/>
                  </a:lnTo>
                  <a:lnTo>
                    <a:pt x="914" y="5"/>
                  </a:lnTo>
                  <a:lnTo>
                    <a:pt x="911" y="0"/>
                  </a:lnTo>
                  <a:lnTo>
                    <a:pt x="910" y="3"/>
                  </a:lnTo>
                  <a:lnTo>
                    <a:pt x="907" y="11"/>
                  </a:lnTo>
                  <a:lnTo>
                    <a:pt x="906" y="20"/>
                  </a:lnTo>
                  <a:lnTo>
                    <a:pt x="903" y="30"/>
                  </a:lnTo>
                  <a:lnTo>
                    <a:pt x="902" y="39"/>
                  </a:lnTo>
                  <a:lnTo>
                    <a:pt x="899" y="53"/>
                  </a:lnTo>
                  <a:lnTo>
                    <a:pt x="898" y="66"/>
                  </a:lnTo>
                  <a:lnTo>
                    <a:pt x="895" y="78"/>
                  </a:lnTo>
                  <a:lnTo>
                    <a:pt x="894" y="92"/>
                  </a:lnTo>
                  <a:lnTo>
                    <a:pt x="891" y="104"/>
                  </a:lnTo>
                  <a:lnTo>
                    <a:pt x="890" y="115"/>
                  </a:lnTo>
                  <a:lnTo>
                    <a:pt x="887" y="131"/>
                  </a:lnTo>
                  <a:lnTo>
                    <a:pt x="885" y="149"/>
                  </a:lnTo>
                  <a:lnTo>
                    <a:pt x="883" y="167"/>
                  </a:lnTo>
                  <a:lnTo>
                    <a:pt x="881" y="185"/>
                  </a:lnTo>
                  <a:lnTo>
                    <a:pt x="880" y="202"/>
                  </a:lnTo>
                  <a:lnTo>
                    <a:pt x="877" y="224"/>
                  </a:lnTo>
                  <a:lnTo>
                    <a:pt x="876" y="258"/>
                  </a:lnTo>
                  <a:lnTo>
                    <a:pt x="873" y="296"/>
                  </a:lnTo>
                  <a:lnTo>
                    <a:pt x="872" y="319"/>
                  </a:lnTo>
                  <a:lnTo>
                    <a:pt x="869" y="314"/>
                  </a:lnTo>
                  <a:lnTo>
                    <a:pt x="868" y="280"/>
                  </a:lnTo>
                  <a:lnTo>
                    <a:pt x="865" y="236"/>
                  </a:lnTo>
                  <a:lnTo>
                    <a:pt x="864" y="200"/>
                  </a:lnTo>
                  <a:lnTo>
                    <a:pt x="861" y="183"/>
                  </a:lnTo>
                  <a:lnTo>
                    <a:pt x="859" y="180"/>
                  </a:lnTo>
                  <a:lnTo>
                    <a:pt x="857" y="186"/>
                  </a:lnTo>
                  <a:lnTo>
                    <a:pt x="855" y="195"/>
                  </a:lnTo>
                  <a:lnTo>
                    <a:pt x="853" y="200"/>
                  </a:lnTo>
                  <a:lnTo>
                    <a:pt x="851" y="206"/>
                  </a:lnTo>
                  <a:lnTo>
                    <a:pt x="849" y="213"/>
                  </a:lnTo>
                  <a:lnTo>
                    <a:pt x="847" y="220"/>
                  </a:lnTo>
                  <a:lnTo>
                    <a:pt x="845" y="227"/>
                  </a:lnTo>
                  <a:lnTo>
                    <a:pt x="843" y="238"/>
                  </a:lnTo>
                  <a:lnTo>
                    <a:pt x="842" y="246"/>
                  </a:lnTo>
                  <a:lnTo>
                    <a:pt x="839" y="255"/>
                  </a:lnTo>
                  <a:lnTo>
                    <a:pt x="838" y="264"/>
                  </a:lnTo>
                  <a:lnTo>
                    <a:pt x="835" y="273"/>
                  </a:lnTo>
                  <a:lnTo>
                    <a:pt x="832" y="283"/>
                  </a:lnTo>
                  <a:lnTo>
                    <a:pt x="831" y="293"/>
                  </a:lnTo>
                  <a:lnTo>
                    <a:pt x="828" y="303"/>
                  </a:lnTo>
                  <a:lnTo>
                    <a:pt x="827" y="311"/>
                  </a:lnTo>
                  <a:lnTo>
                    <a:pt x="824" y="321"/>
                  </a:lnTo>
                  <a:lnTo>
                    <a:pt x="823" y="331"/>
                  </a:lnTo>
                  <a:lnTo>
                    <a:pt x="821" y="338"/>
                  </a:lnTo>
                  <a:lnTo>
                    <a:pt x="819" y="348"/>
                  </a:lnTo>
                  <a:lnTo>
                    <a:pt x="817" y="357"/>
                  </a:lnTo>
                  <a:lnTo>
                    <a:pt x="815" y="366"/>
                  </a:lnTo>
                  <a:lnTo>
                    <a:pt x="813" y="375"/>
                  </a:lnTo>
                  <a:lnTo>
                    <a:pt x="811" y="385"/>
                  </a:lnTo>
                  <a:lnTo>
                    <a:pt x="809" y="392"/>
                  </a:lnTo>
                  <a:lnTo>
                    <a:pt x="806" y="400"/>
                  </a:lnTo>
                  <a:lnTo>
                    <a:pt x="805" y="410"/>
                  </a:lnTo>
                  <a:lnTo>
                    <a:pt x="802" y="420"/>
                  </a:lnTo>
                  <a:lnTo>
                    <a:pt x="801" y="431"/>
                  </a:lnTo>
                  <a:lnTo>
                    <a:pt x="798" y="443"/>
                  </a:lnTo>
                  <a:lnTo>
                    <a:pt x="797" y="453"/>
                  </a:lnTo>
                  <a:lnTo>
                    <a:pt x="794" y="465"/>
                  </a:lnTo>
                  <a:lnTo>
                    <a:pt x="793" y="477"/>
                  </a:lnTo>
                  <a:lnTo>
                    <a:pt x="790" y="487"/>
                  </a:lnTo>
                  <a:lnTo>
                    <a:pt x="789" y="496"/>
                  </a:lnTo>
                  <a:lnTo>
                    <a:pt x="786" y="503"/>
                  </a:lnTo>
                  <a:lnTo>
                    <a:pt x="785" y="506"/>
                  </a:lnTo>
                  <a:lnTo>
                    <a:pt x="783" y="510"/>
                  </a:lnTo>
                  <a:lnTo>
                    <a:pt x="780" y="514"/>
                  </a:lnTo>
                  <a:lnTo>
                    <a:pt x="779" y="520"/>
                  </a:lnTo>
                  <a:lnTo>
                    <a:pt x="776" y="528"/>
                  </a:lnTo>
                  <a:lnTo>
                    <a:pt x="775" y="541"/>
                  </a:lnTo>
                  <a:lnTo>
                    <a:pt x="772" y="553"/>
                  </a:lnTo>
                  <a:lnTo>
                    <a:pt x="771" y="567"/>
                  </a:lnTo>
                  <a:lnTo>
                    <a:pt x="768" y="580"/>
                  </a:lnTo>
                  <a:lnTo>
                    <a:pt x="767" y="594"/>
                  </a:lnTo>
                  <a:lnTo>
                    <a:pt x="764" y="609"/>
                  </a:lnTo>
                  <a:lnTo>
                    <a:pt x="763" y="623"/>
                  </a:lnTo>
                  <a:lnTo>
                    <a:pt x="760" y="628"/>
                  </a:lnTo>
                  <a:lnTo>
                    <a:pt x="759" y="616"/>
                  </a:lnTo>
                  <a:lnTo>
                    <a:pt x="756" y="589"/>
                  </a:lnTo>
                  <a:lnTo>
                    <a:pt x="754" y="557"/>
                  </a:lnTo>
                  <a:lnTo>
                    <a:pt x="752" y="527"/>
                  </a:lnTo>
                  <a:lnTo>
                    <a:pt x="750" y="508"/>
                  </a:lnTo>
                  <a:lnTo>
                    <a:pt x="748" y="498"/>
                  </a:lnTo>
                  <a:lnTo>
                    <a:pt x="746" y="493"/>
                  </a:lnTo>
                  <a:lnTo>
                    <a:pt x="744" y="493"/>
                  </a:lnTo>
                  <a:lnTo>
                    <a:pt x="742" y="494"/>
                  </a:lnTo>
                  <a:lnTo>
                    <a:pt x="741" y="496"/>
                  </a:lnTo>
                  <a:lnTo>
                    <a:pt x="738" y="496"/>
                  </a:lnTo>
                  <a:lnTo>
                    <a:pt x="737" y="497"/>
                  </a:lnTo>
                  <a:lnTo>
                    <a:pt x="734" y="497"/>
                  </a:lnTo>
                  <a:lnTo>
                    <a:pt x="733" y="499"/>
                  </a:lnTo>
                  <a:lnTo>
                    <a:pt x="730" y="504"/>
                  </a:lnTo>
                  <a:lnTo>
                    <a:pt x="727" y="511"/>
                  </a:lnTo>
                  <a:lnTo>
                    <a:pt x="726" y="520"/>
                  </a:lnTo>
                  <a:lnTo>
                    <a:pt x="724" y="532"/>
                  </a:lnTo>
                  <a:lnTo>
                    <a:pt x="722" y="542"/>
                  </a:lnTo>
                  <a:lnTo>
                    <a:pt x="720" y="553"/>
                  </a:lnTo>
                  <a:lnTo>
                    <a:pt x="718" y="564"/>
                  </a:lnTo>
                  <a:lnTo>
                    <a:pt x="716" y="574"/>
                  </a:lnTo>
                  <a:lnTo>
                    <a:pt x="714" y="582"/>
                  </a:lnTo>
                  <a:lnTo>
                    <a:pt x="712" y="591"/>
                  </a:lnTo>
                  <a:lnTo>
                    <a:pt x="710" y="598"/>
                  </a:lnTo>
                  <a:lnTo>
                    <a:pt x="708" y="603"/>
                  </a:lnTo>
                  <a:lnTo>
                    <a:pt x="706" y="607"/>
                  </a:lnTo>
                  <a:lnTo>
                    <a:pt x="704" y="613"/>
                  </a:lnTo>
                  <a:lnTo>
                    <a:pt x="701" y="618"/>
                  </a:lnTo>
                  <a:lnTo>
                    <a:pt x="700" y="624"/>
                  </a:lnTo>
                  <a:lnTo>
                    <a:pt x="697" y="629"/>
                  </a:lnTo>
                  <a:lnTo>
                    <a:pt x="696" y="631"/>
                  </a:lnTo>
                  <a:lnTo>
                    <a:pt x="693" y="633"/>
                  </a:lnTo>
                  <a:lnTo>
                    <a:pt x="692" y="634"/>
                  </a:lnTo>
                  <a:lnTo>
                    <a:pt x="689" y="635"/>
                  </a:lnTo>
                  <a:lnTo>
                    <a:pt x="688" y="637"/>
                  </a:lnTo>
                  <a:lnTo>
                    <a:pt x="685" y="641"/>
                  </a:lnTo>
                  <a:lnTo>
                    <a:pt x="684" y="646"/>
                  </a:lnTo>
                  <a:lnTo>
                    <a:pt x="682" y="653"/>
                  </a:lnTo>
                  <a:lnTo>
                    <a:pt x="680" y="662"/>
                  </a:lnTo>
                  <a:lnTo>
                    <a:pt x="678" y="670"/>
                  </a:lnTo>
                  <a:lnTo>
                    <a:pt x="675" y="681"/>
                  </a:lnTo>
                  <a:lnTo>
                    <a:pt x="674" y="693"/>
                  </a:lnTo>
                  <a:lnTo>
                    <a:pt x="671" y="705"/>
                  </a:lnTo>
                  <a:lnTo>
                    <a:pt x="670" y="718"/>
                  </a:lnTo>
                  <a:lnTo>
                    <a:pt x="667" y="734"/>
                  </a:lnTo>
                  <a:lnTo>
                    <a:pt x="666" y="751"/>
                  </a:lnTo>
                  <a:lnTo>
                    <a:pt x="663" y="770"/>
                  </a:lnTo>
                  <a:lnTo>
                    <a:pt x="662" y="790"/>
                  </a:lnTo>
                  <a:lnTo>
                    <a:pt x="659" y="812"/>
                  </a:lnTo>
                  <a:lnTo>
                    <a:pt x="658" y="834"/>
                  </a:lnTo>
                  <a:lnTo>
                    <a:pt x="655" y="855"/>
                  </a:lnTo>
                  <a:lnTo>
                    <a:pt x="654" y="873"/>
                  </a:lnTo>
                  <a:lnTo>
                    <a:pt x="651" y="888"/>
                  </a:lnTo>
                  <a:lnTo>
                    <a:pt x="649" y="896"/>
                  </a:lnTo>
                  <a:lnTo>
                    <a:pt x="647" y="900"/>
                  </a:lnTo>
                  <a:lnTo>
                    <a:pt x="645" y="895"/>
                  </a:lnTo>
                  <a:lnTo>
                    <a:pt x="644" y="884"/>
                  </a:lnTo>
                  <a:lnTo>
                    <a:pt x="641" y="867"/>
                  </a:lnTo>
                  <a:lnTo>
                    <a:pt x="640" y="849"/>
                  </a:lnTo>
                  <a:lnTo>
                    <a:pt x="637" y="836"/>
                  </a:lnTo>
                  <a:lnTo>
                    <a:pt x="636" y="830"/>
                  </a:lnTo>
                  <a:lnTo>
                    <a:pt x="633" y="829"/>
                  </a:lnTo>
                  <a:lnTo>
                    <a:pt x="632" y="834"/>
                  </a:lnTo>
                  <a:lnTo>
                    <a:pt x="629" y="842"/>
                  </a:lnTo>
                  <a:lnTo>
                    <a:pt x="628" y="854"/>
                  </a:lnTo>
                  <a:lnTo>
                    <a:pt x="625" y="871"/>
                  </a:lnTo>
                  <a:lnTo>
                    <a:pt x="623" y="891"/>
                  </a:lnTo>
                  <a:lnTo>
                    <a:pt x="621" y="917"/>
                  </a:lnTo>
                  <a:lnTo>
                    <a:pt x="619" y="946"/>
                  </a:lnTo>
                  <a:lnTo>
                    <a:pt x="617" y="976"/>
                  </a:lnTo>
                  <a:lnTo>
                    <a:pt x="615" y="1008"/>
                  </a:lnTo>
                  <a:lnTo>
                    <a:pt x="613" y="1039"/>
                  </a:lnTo>
                  <a:lnTo>
                    <a:pt x="611" y="1069"/>
                  </a:lnTo>
                  <a:lnTo>
                    <a:pt x="609" y="1095"/>
                  </a:lnTo>
                  <a:lnTo>
                    <a:pt x="607" y="1119"/>
                  </a:lnTo>
                  <a:lnTo>
                    <a:pt x="605" y="1140"/>
                  </a:lnTo>
                  <a:lnTo>
                    <a:pt x="603" y="1160"/>
                  </a:lnTo>
                  <a:lnTo>
                    <a:pt x="602" y="1181"/>
                  </a:lnTo>
                  <a:lnTo>
                    <a:pt x="599" y="1202"/>
                  </a:lnTo>
                  <a:lnTo>
                    <a:pt x="596" y="1221"/>
                  </a:lnTo>
                  <a:lnTo>
                    <a:pt x="595" y="1239"/>
                  </a:lnTo>
                  <a:lnTo>
                    <a:pt x="592" y="1251"/>
                  </a:lnTo>
                  <a:lnTo>
                    <a:pt x="591" y="1257"/>
                  </a:lnTo>
                  <a:lnTo>
                    <a:pt x="588" y="1251"/>
                  </a:lnTo>
                  <a:lnTo>
                    <a:pt x="587" y="1230"/>
                  </a:lnTo>
                  <a:lnTo>
                    <a:pt x="585" y="1192"/>
                  </a:lnTo>
                  <a:lnTo>
                    <a:pt x="583" y="1144"/>
                  </a:lnTo>
                  <a:lnTo>
                    <a:pt x="581" y="1092"/>
                  </a:lnTo>
                  <a:lnTo>
                    <a:pt x="579" y="1039"/>
                  </a:lnTo>
                  <a:lnTo>
                    <a:pt x="577" y="991"/>
                  </a:lnTo>
                  <a:lnTo>
                    <a:pt x="575" y="950"/>
                  </a:lnTo>
                  <a:lnTo>
                    <a:pt x="573" y="921"/>
                  </a:lnTo>
                  <a:lnTo>
                    <a:pt x="570" y="903"/>
                  </a:lnTo>
                  <a:lnTo>
                    <a:pt x="569" y="891"/>
                  </a:lnTo>
                  <a:lnTo>
                    <a:pt x="566" y="878"/>
                  </a:lnTo>
                  <a:lnTo>
                    <a:pt x="565" y="856"/>
                  </a:lnTo>
                  <a:lnTo>
                    <a:pt x="562" y="824"/>
                  </a:lnTo>
                  <a:lnTo>
                    <a:pt x="561" y="781"/>
                  </a:lnTo>
                  <a:lnTo>
                    <a:pt x="558" y="733"/>
                  </a:lnTo>
                  <a:lnTo>
                    <a:pt x="557" y="690"/>
                  </a:lnTo>
                  <a:lnTo>
                    <a:pt x="554" y="663"/>
                  </a:lnTo>
                  <a:lnTo>
                    <a:pt x="553" y="646"/>
                  </a:lnTo>
                  <a:lnTo>
                    <a:pt x="550" y="639"/>
                  </a:lnTo>
                  <a:lnTo>
                    <a:pt x="549" y="635"/>
                  </a:lnTo>
                  <a:lnTo>
                    <a:pt x="546" y="627"/>
                  </a:lnTo>
                  <a:lnTo>
                    <a:pt x="544" y="618"/>
                  </a:lnTo>
                  <a:lnTo>
                    <a:pt x="543" y="611"/>
                  </a:lnTo>
                  <a:lnTo>
                    <a:pt x="540" y="606"/>
                  </a:lnTo>
                  <a:lnTo>
                    <a:pt x="539" y="607"/>
                  </a:lnTo>
                  <a:lnTo>
                    <a:pt x="536" y="616"/>
                  </a:lnTo>
                  <a:lnTo>
                    <a:pt x="535" y="628"/>
                  </a:lnTo>
                  <a:lnTo>
                    <a:pt x="532" y="644"/>
                  </a:lnTo>
                  <a:lnTo>
                    <a:pt x="531" y="666"/>
                  </a:lnTo>
                  <a:lnTo>
                    <a:pt x="528" y="687"/>
                  </a:lnTo>
                  <a:lnTo>
                    <a:pt x="527" y="707"/>
                  </a:lnTo>
                  <a:lnTo>
                    <a:pt x="524" y="729"/>
                  </a:lnTo>
                  <a:lnTo>
                    <a:pt x="523" y="748"/>
                  </a:lnTo>
                  <a:lnTo>
                    <a:pt x="520" y="766"/>
                  </a:lnTo>
                  <a:lnTo>
                    <a:pt x="518" y="783"/>
                  </a:lnTo>
                  <a:lnTo>
                    <a:pt x="516" y="798"/>
                  </a:lnTo>
                  <a:lnTo>
                    <a:pt x="514" y="810"/>
                  </a:lnTo>
                  <a:lnTo>
                    <a:pt x="512" y="822"/>
                  </a:lnTo>
                  <a:lnTo>
                    <a:pt x="510" y="832"/>
                  </a:lnTo>
                  <a:lnTo>
                    <a:pt x="508" y="843"/>
                  </a:lnTo>
                  <a:lnTo>
                    <a:pt x="506" y="859"/>
                  </a:lnTo>
                  <a:lnTo>
                    <a:pt x="505" y="876"/>
                  </a:lnTo>
                  <a:lnTo>
                    <a:pt x="502" y="893"/>
                  </a:lnTo>
                  <a:lnTo>
                    <a:pt x="501" y="912"/>
                  </a:lnTo>
                  <a:lnTo>
                    <a:pt x="498" y="930"/>
                  </a:lnTo>
                  <a:lnTo>
                    <a:pt x="497" y="944"/>
                  </a:lnTo>
                  <a:lnTo>
                    <a:pt x="494" y="958"/>
                  </a:lnTo>
                  <a:lnTo>
                    <a:pt x="491" y="966"/>
                  </a:lnTo>
                  <a:lnTo>
                    <a:pt x="490" y="973"/>
                  </a:lnTo>
                  <a:lnTo>
                    <a:pt x="487" y="982"/>
                  </a:lnTo>
                  <a:lnTo>
                    <a:pt x="486" y="988"/>
                  </a:lnTo>
                  <a:lnTo>
                    <a:pt x="484" y="986"/>
                  </a:lnTo>
                  <a:lnTo>
                    <a:pt x="482" y="972"/>
                  </a:lnTo>
                  <a:lnTo>
                    <a:pt x="480" y="958"/>
                  </a:lnTo>
                  <a:lnTo>
                    <a:pt x="478" y="949"/>
                  </a:lnTo>
                  <a:lnTo>
                    <a:pt x="476" y="949"/>
                  </a:lnTo>
                  <a:lnTo>
                    <a:pt x="474" y="955"/>
                  </a:lnTo>
                  <a:lnTo>
                    <a:pt x="472" y="967"/>
                  </a:lnTo>
                  <a:lnTo>
                    <a:pt x="470" y="983"/>
                  </a:lnTo>
                  <a:lnTo>
                    <a:pt x="468" y="1001"/>
                  </a:lnTo>
                  <a:lnTo>
                    <a:pt x="465" y="1015"/>
                  </a:lnTo>
                  <a:lnTo>
                    <a:pt x="464" y="1029"/>
                  </a:lnTo>
                  <a:lnTo>
                    <a:pt x="461" y="1043"/>
                  </a:lnTo>
                  <a:lnTo>
                    <a:pt x="460" y="1056"/>
                  </a:lnTo>
                  <a:lnTo>
                    <a:pt x="457" y="1068"/>
                  </a:lnTo>
                  <a:lnTo>
                    <a:pt x="456" y="1083"/>
                  </a:lnTo>
                  <a:lnTo>
                    <a:pt x="453" y="1097"/>
                  </a:lnTo>
                  <a:lnTo>
                    <a:pt x="452" y="1110"/>
                  </a:lnTo>
                  <a:lnTo>
                    <a:pt x="449" y="1131"/>
                  </a:lnTo>
                  <a:lnTo>
                    <a:pt x="448" y="1155"/>
                  </a:lnTo>
                  <a:lnTo>
                    <a:pt x="446" y="1179"/>
                  </a:lnTo>
                  <a:lnTo>
                    <a:pt x="444" y="1207"/>
                  </a:lnTo>
                  <a:lnTo>
                    <a:pt x="442" y="1236"/>
                  </a:lnTo>
                  <a:lnTo>
                    <a:pt x="439" y="1263"/>
                  </a:lnTo>
                  <a:lnTo>
                    <a:pt x="438" y="1292"/>
                  </a:lnTo>
                  <a:lnTo>
                    <a:pt x="435" y="1317"/>
                  </a:lnTo>
                  <a:lnTo>
                    <a:pt x="434" y="1334"/>
                  </a:lnTo>
                  <a:lnTo>
                    <a:pt x="431" y="1346"/>
                  </a:lnTo>
                  <a:lnTo>
                    <a:pt x="430" y="1347"/>
                  </a:lnTo>
                  <a:lnTo>
                    <a:pt x="427" y="1344"/>
                  </a:lnTo>
                  <a:lnTo>
                    <a:pt x="426" y="1347"/>
                  </a:lnTo>
                  <a:lnTo>
                    <a:pt x="423" y="1347"/>
                  </a:lnTo>
                  <a:lnTo>
                    <a:pt x="422" y="1335"/>
                  </a:lnTo>
                  <a:lnTo>
                    <a:pt x="419" y="1304"/>
                  </a:lnTo>
                  <a:lnTo>
                    <a:pt x="418" y="1249"/>
                  </a:lnTo>
                  <a:lnTo>
                    <a:pt x="415" y="1185"/>
                  </a:lnTo>
                  <a:lnTo>
                    <a:pt x="413" y="1134"/>
                  </a:lnTo>
                  <a:lnTo>
                    <a:pt x="411" y="1089"/>
                  </a:lnTo>
                  <a:lnTo>
                    <a:pt x="409" y="1039"/>
                  </a:lnTo>
                  <a:lnTo>
                    <a:pt x="408" y="1002"/>
                  </a:lnTo>
                  <a:lnTo>
                    <a:pt x="405" y="986"/>
                  </a:lnTo>
                  <a:lnTo>
                    <a:pt x="404" y="976"/>
                  </a:lnTo>
                  <a:lnTo>
                    <a:pt x="401" y="958"/>
                  </a:lnTo>
                  <a:lnTo>
                    <a:pt x="400" y="923"/>
                  </a:lnTo>
                  <a:lnTo>
                    <a:pt x="397" y="891"/>
                  </a:lnTo>
                  <a:lnTo>
                    <a:pt x="396" y="873"/>
                  </a:lnTo>
                  <a:lnTo>
                    <a:pt x="393" y="848"/>
                  </a:lnTo>
                  <a:lnTo>
                    <a:pt x="392" y="810"/>
                  </a:lnTo>
                  <a:lnTo>
                    <a:pt x="389" y="778"/>
                  </a:lnTo>
                  <a:lnTo>
                    <a:pt x="387" y="749"/>
                  </a:lnTo>
                  <a:lnTo>
                    <a:pt x="385" y="716"/>
                  </a:lnTo>
                  <a:lnTo>
                    <a:pt x="383" y="680"/>
                  </a:lnTo>
                  <a:lnTo>
                    <a:pt x="381" y="636"/>
                  </a:lnTo>
                  <a:lnTo>
                    <a:pt x="379" y="592"/>
                  </a:lnTo>
                  <a:lnTo>
                    <a:pt x="377" y="551"/>
                  </a:lnTo>
                  <a:lnTo>
                    <a:pt x="375" y="500"/>
                  </a:lnTo>
                  <a:lnTo>
                    <a:pt x="373" y="464"/>
                  </a:lnTo>
                  <a:lnTo>
                    <a:pt x="371" y="463"/>
                  </a:lnTo>
                  <a:lnTo>
                    <a:pt x="369" y="470"/>
                  </a:lnTo>
                  <a:lnTo>
                    <a:pt x="367" y="485"/>
                  </a:lnTo>
                  <a:lnTo>
                    <a:pt x="366" y="515"/>
                  </a:lnTo>
                  <a:lnTo>
                    <a:pt x="363" y="539"/>
                  </a:lnTo>
                  <a:lnTo>
                    <a:pt x="360" y="553"/>
                  </a:lnTo>
                  <a:lnTo>
                    <a:pt x="359" y="574"/>
                  </a:lnTo>
                  <a:lnTo>
                    <a:pt x="356" y="610"/>
                  </a:lnTo>
                  <a:lnTo>
                    <a:pt x="355" y="668"/>
                  </a:lnTo>
                  <a:lnTo>
                    <a:pt x="352" y="715"/>
                  </a:lnTo>
                  <a:lnTo>
                    <a:pt x="351" y="749"/>
                  </a:lnTo>
                  <a:lnTo>
                    <a:pt x="348" y="781"/>
                  </a:lnTo>
                  <a:lnTo>
                    <a:pt x="347" y="806"/>
                  </a:lnTo>
                  <a:lnTo>
                    <a:pt x="345" y="822"/>
                  </a:lnTo>
                  <a:lnTo>
                    <a:pt x="343" y="814"/>
                  </a:lnTo>
                  <a:lnTo>
                    <a:pt x="341" y="773"/>
                  </a:lnTo>
                  <a:lnTo>
                    <a:pt x="339" y="728"/>
                  </a:lnTo>
                  <a:lnTo>
                    <a:pt x="337" y="686"/>
                  </a:lnTo>
                  <a:lnTo>
                    <a:pt x="334" y="645"/>
                  </a:lnTo>
                  <a:lnTo>
                    <a:pt x="333" y="617"/>
                  </a:lnTo>
                  <a:lnTo>
                    <a:pt x="330" y="595"/>
                  </a:lnTo>
                  <a:lnTo>
                    <a:pt x="329" y="575"/>
                  </a:lnTo>
                  <a:lnTo>
                    <a:pt x="326" y="565"/>
                  </a:lnTo>
                  <a:lnTo>
                    <a:pt x="325" y="562"/>
                  </a:lnTo>
                  <a:lnTo>
                    <a:pt x="322" y="564"/>
                  </a:lnTo>
                  <a:lnTo>
                    <a:pt x="321" y="583"/>
                  </a:lnTo>
                  <a:lnTo>
                    <a:pt x="318" y="606"/>
                  </a:lnTo>
                  <a:lnTo>
                    <a:pt x="317" y="628"/>
                  </a:lnTo>
                  <a:lnTo>
                    <a:pt x="314" y="653"/>
                  </a:lnTo>
                  <a:lnTo>
                    <a:pt x="313" y="678"/>
                  </a:lnTo>
                  <a:lnTo>
                    <a:pt x="310" y="705"/>
                  </a:lnTo>
                  <a:lnTo>
                    <a:pt x="308" y="735"/>
                  </a:lnTo>
                  <a:lnTo>
                    <a:pt x="307" y="759"/>
                  </a:lnTo>
                  <a:lnTo>
                    <a:pt x="304" y="778"/>
                  </a:lnTo>
                  <a:lnTo>
                    <a:pt x="303" y="808"/>
                  </a:lnTo>
                  <a:lnTo>
                    <a:pt x="300" y="831"/>
                  </a:lnTo>
                  <a:lnTo>
                    <a:pt x="299" y="842"/>
                  </a:lnTo>
                  <a:lnTo>
                    <a:pt x="296" y="855"/>
                  </a:lnTo>
                  <a:lnTo>
                    <a:pt x="295" y="867"/>
                  </a:lnTo>
                  <a:lnTo>
                    <a:pt x="292" y="884"/>
                  </a:lnTo>
                  <a:lnTo>
                    <a:pt x="291" y="909"/>
                  </a:lnTo>
                  <a:lnTo>
                    <a:pt x="288" y="932"/>
                  </a:lnTo>
                  <a:lnTo>
                    <a:pt x="287" y="948"/>
                  </a:lnTo>
                  <a:lnTo>
                    <a:pt x="284" y="958"/>
                  </a:lnTo>
                  <a:lnTo>
                    <a:pt x="282" y="961"/>
                  </a:lnTo>
                  <a:lnTo>
                    <a:pt x="280" y="961"/>
                  </a:lnTo>
                  <a:lnTo>
                    <a:pt x="278" y="964"/>
                  </a:lnTo>
                  <a:lnTo>
                    <a:pt x="276" y="967"/>
                  </a:lnTo>
                  <a:lnTo>
                    <a:pt x="274" y="972"/>
                  </a:lnTo>
                  <a:lnTo>
                    <a:pt x="272" y="979"/>
                  </a:lnTo>
                  <a:lnTo>
                    <a:pt x="270" y="985"/>
                  </a:lnTo>
                  <a:lnTo>
                    <a:pt x="269" y="986"/>
                  </a:lnTo>
                  <a:lnTo>
                    <a:pt x="266" y="983"/>
                  </a:lnTo>
                  <a:lnTo>
                    <a:pt x="265" y="974"/>
                  </a:lnTo>
                  <a:lnTo>
                    <a:pt x="262" y="965"/>
                  </a:lnTo>
                  <a:lnTo>
                    <a:pt x="261" y="958"/>
                  </a:lnTo>
                  <a:lnTo>
                    <a:pt x="258" y="959"/>
                  </a:lnTo>
                  <a:lnTo>
                    <a:pt x="255" y="966"/>
                  </a:lnTo>
                  <a:lnTo>
                    <a:pt x="254" y="979"/>
                  </a:lnTo>
                  <a:lnTo>
                    <a:pt x="251" y="1000"/>
                  </a:lnTo>
                  <a:lnTo>
                    <a:pt x="250" y="1023"/>
                  </a:lnTo>
                  <a:lnTo>
                    <a:pt x="248" y="1042"/>
                  </a:lnTo>
                  <a:lnTo>
                    <a:pt x="246" y="1057"/>
                  </a:lnTo>
                  <a:lnTo>
                    <a:pt x="244" y="1068"/>
                  </a:lnTo>
                  <a:lnTo>
                    <a:pt x="242" y="1073"/>
                  </a:lnTo>
                  <a:lnTo>
                    <a:pt x="240" y="1074"/>
                  </a:lnTo>
                  <a:lnTo>
                    <a:pt x="238" y="1077"/>
                  </a:lnTo>
                  <a:lnTo>
                    <a:pt x="236" y="1069"/>
                  </a:lnTo>
                  <a:lnTo>
                    <a:pt x="234" y="1053"/>
                  </a:lnTo>
                  <a:lnTo>
                    <a:pt x="232" y="1033"/>
                  </a:lnTo>
                  <a:lnTo>
                    <a:pt x="229" y="1011"/>
                  </a:lnTo>
                  <a:lnTo>
                    <a:pt x="228" y="984"/>
                  </a:lnTo>
                  <a:lnTo>
                    <a:pt x="225" y="962"/>
                  </a:lnTo>
                  <a:lnTo>
                    <a:pt x="224" y="935"/>
                  </a:lnTo>
                  <a:lnTo>
                    <a:pt x="221" y="881"/>
                  </a:lnTo>
                  <a:lnTo>
                    <a:pt x="220" y="828"/>
                  </a:lnTo>
                  <a:lnTo>
                    <a:pt x="217" y="804"/>
                  </a:lnTo>
                  <a:lnTo>
                    <a:pt x="216" y="788"/>
                  </a:lnTo>
                  <a:lnTo>
                    <a:pt x="213" y="776"/>
                  </a:lnTo>
                  <a:lnTo>
                    <a:pt x="212" y="763"/>
                  </a:lnTo>
                  <a:lnTo>
                    <a:pt x="210" y="739"/>
                  </a:lnTo>
                  <a:lnTo>
                    <a:pt x="208" y="724"/>
                  </a:lnTo>
                  <a:lnTo>
                    <a:pt x="206" y="721"/>
                  </a:lnTo>
                  <a:lnTo>
                    <a:pt x="203" y="702"/>
                  </a:lnTo>
                  <a:lnTo>
                    <a:pt x="202" y="678"/>
                  </a:lnTo>
                  <a:lnTo>
                    <a:pt x="199" y="675"/>
                  </a:lnTo>
                  <a:lnTo>
                    <a:pt x="198" y="669"/>
                  </a:lnTo>
                  <a:lnTo>
                    <a:pt x="195" y="659"/>
                  </a:lnTo>
                  <a:lnTo>
                    <a:pt x="194" y="648"/>
                  </a:lnTo>
                  <a:lnTo>
                    <a:pt x="191" y="637"/>
                  </a:lnTo>
                  <a:lnTo>
                    <a:pt x="190" y="629"/>
                  </a:lnTo>
                  <a:lnTo>
                    <a:pt x="187" y="623"/>
                  </a:lnTo>
                  <a:lnTo>
                    <a:pt x="186" y="610"/>
                  </a:lnTo>
                  <a:lnTo>
                    <a:pt x="183" y="598"/>
                  </a:lnTo>
                  <a:lnTo>
                    <a:pt x="182" y="593"/>
                  </a:lnTo>
                  <a:lnTo>
                    <a:pt x="179" y="586"/>
                  </a:lnTo>
                  <a:lnTo>
                    <a:pt x="177" y="579"/>
                  </a:lnTo>
                  <a:lnTo>
                    <a:pt x="175" y="576"/>
                  </a:lnTo>
                  <a:lnTo>
                    <a:pt x="173" y="573"/>
                  </a:lnTo>
                  <a:lnTo>
                    <a:pt x="171" y="559"/>
                  </a:lnTo>
                  <a:lnTo>
                    <a:pt x="169" y="551"/>
                  </a:lnTo>
                  <a:lnTo>
                    <a:pt x="168" y="548"/>
                  </a:lnTo>
                  <a:lnTo>
                    <a:pt x="165" y="544"/>
                  </a:lnTo>
                  <a:lnTo>
                    <a:pt x="164" y="541"/>
                  </a:lnTo>
                  <a:lnTo>
                    <a:pt x="161" y="540"/>
                  </a:lnTo>
                  <a:lnTo>
                    <a:pt x="160" y="535"/>
                  </a:lnTo>
                  <a:lnTo>
                    <a:pt x="157" y="529"/>
                  </a:lnTo>
                  <a:lnTo>
                    <a:pt x="156" y="526"/>
                  </a:lnTo>
                  <a:lnTo>
                    <a:pt x="153" y="520"/>
                  </a:lnTo>
                  <a:lnTo>
                    <a:pt x="151" y="518"/>
                  </a:lnTo>
                  <a:lnTo>
                    <a:pt x="149" y="520"/>
                  </a:lnTo>
                  <a:lnTo>
                    <a:pt x="147" y="518"/>
                  </a:lnTo>
                  <a:lnTo>
                    <a:pt x="145" y="520"/>
                  </a:lnTo>
                  <a:lnTo>
                    <a:pt x="143" y="523"/>
                  </a:lnTo>
                  <a:lnTo>
                    <a:pt x="141" y="526"/>
                  </a:lnTo>
                  <a:lnTo>
                    <a:pt x="139" y="526"/>
                  </a:lnTo>
                  <a:lnTo>
                    <a:pt x="137" y="527"/>
                  </a:lnTo>
                  <a:lnTo>
                    <a:pt x="135" y="528"/>
                  </a:lnTo>
                  <a:lnTo>
                    <a:pt x="133" y="530"/>
                  </a:lnTo>
                  <a:lnTo>
                    <a:pt x="131" y="535"/>
                  </a:lnTo>
                  <a:lnTo>
                    <a:pt x="130" y="539"/>
                  </a:lnTo>
                  <a:lnTo>
                    <a:pt x="127" y="541"/>
                  </a:lnTo>
                  <a:lnTo>
                    <a:pt x="124" y="545"/>
                  </a:lnTo>
                  <a:lnTo>
                    <a:pt x="123" y="548"/>
                  </a:lnTo>
                  <a:lnTo>
                    <a:pt x="120" y="548"/>
                  </a:lnTo>
                  <a:lnTo>
                    <a:pt x="119" y="548"/>
                  </a:lnTo>
                  <a:lnTo>
                    <a:pt x="116" y="550"/>
                  </a:lnTo>
                  <a:lnTo>
                    <a:pt x="115" y="551"/>
                  </a:lnTo>
                  <a:lnTo>
                    <a:pt x="112" y="553"/>
                  </a:lnTo>
                  <a:lnTo>
                    <a:pt x="111" y="554"/>
                  </a:lnTo>
                  <a:lnTo>
                    <a:pt x="109" y="554"/>
                  </a:lnTo>
                  <a:lnTo>
                    <a:pt x="107" y="556"/>
                  </a:lnTo>
                  <a:lnTo>
                    <a:pt x="105" y="557"/>
                  </a:lnTo>
                  <a:lnTo>
                    <a:pt x="103" y="556"/>
                  </a:lnTo>
                  <a:lnTo>
                    <a:pt x="101" y="556"/>
                  </a:lnTo>
                  <a:lnTo>
                    <a:pt x="98" y="558"/>
                  </a:lnTo>
                  <a:lnTo>
                    <a:pt x="97" y="560"/>
                  </a:lnTo>
                  <a:lnTo>
                    <a:pt x="94" y="562"/>
                  </a:lnTo>
                  <a:lnTo>
                    <a:pt x="93" y="564"/>
                  </a:lnTo>
                  <a:lnTo>
                    <a:pt x="90" y="564"/>
                  </a:lnTo>
                  <a:lnTo>
                    <a:pt x="89" y="565"/>
                  </a:lnTo>
                  <a:lnTo>
                    <a:pt x="86" y="569"/>
                  </a:lnTo>
                  <a:lnTo>
                    <a:pt x="85" y="570"/>
                  </a:lnTo>
                  <a:lnTo>
                    <a:pt x="82" y="571"/>
                  </a:lnTo>
                  <a:lnTo>
                    <a:pt x="81" y="573"/>
                  </a:lnTo>
                  <a:lnTo>
                    <a:pt x="78" y="571"/>
                  </a:lnTo>
                  <a:lnTo>
                    <a:pt x="77" y="573"/>
                  </a:lnTo>
                  <a:lnTo>
                    <a:pt x="74" y="575"/>
                  </a:lnTo>
                  <a:lnTo>
                    <a:pt x="72" y="577"/>
                  </a:lnTo>
                  <a:lnTo>
                    <a:pt x="71" y="579"/>
                  </a:lnTo>
                  <a:lnTo>
                    <a:pt x="68" y="581"/>
                  </a:lnTo>
                  <a:lnTo>
                    <a:pt x="67" y="582"/>
                  </a:lnTo>
                  <a:lnTo>
                    <a:pt x="64" y="585"/>
                  </a:lnTo>
                  <a:lnTo>
                    <a:pt x="63" y="587"/>
                  </a:lnTo>
                  <a:lnTo>
                    <a:pt x="60" y="591"/>
                  </a:lnTo>
                  <a:lnTo>
                    <a:pt x="59" y="592"/>
                  </a:lnTo>
                  <a:lnTo>
                    <a:pt x="56" y="593"/>
                  </a:lnTo>
                  <a:lnTo>
                    <a:pt x="55" y="597"/>
                  </a:lnTo>
                  <a:lnTo>
                    <a:pt x="52" y="600"/>
                  </a:lnTo>
                  <a:lnTo>
                    <a:pt x="51" y="604"/>
                  </a:lnTo>
                  <a:lnTo>
                    <a:pt x="48" y="606"/>
                  </a:lnTo>
                  <a:lnTo>
                    <a:pt x="46" y="609"/>
                  </a:lnTo>
                  <a:lnTo>
                    <a:pt x="44" y="612"/>
                  </a:lnTo>
                  <a:lnTo>
                    <a:pt x="42" y="616"/>
                  </a:lnTo>
                  <a:lnTo>
                    <a:pt x="40" y="618"/>
                  </a:lnTo>
                  <a:lnTo>
                    <a:pt x="38" y="619"/>
                  </a:lnTo>
                  <a:lnTo>
                    <a:pt x="36" y="622"/>
                  </a:lnTo>
                  <a:lnTo>
                    <a:pt x="34" y="624"/>
                  </a:lnTo>
                  <a:lnTo>
                    <a:pt x="32" y="627"/>
                  </a:lnTo>
                  <a:lnTo>
                    <a:pt x="30" y="629"/>
                  </a:lnTo>
                  <a:lnTo>
                    <a:pt x="29" y="631"/>
                  </a:lnTo>
                  <a:lnTo>
                    <a:pt x="26" y="634"/>
                  </a:lnTo>
                  <a:lnTo>
                    <a:pt x="25" y="636"/>
                  </a:lnTo>
                  <a:lnTo>
                    <a:pt x="22" y="639"/>
                  </a:lnTo>
                  <a:lnTo>
                    <a:pt x="19" y="640"/>
                  </a:lnTo>
                  <a:lnTo>
                    <a:pt x="18" y="642"/>
                  </a:lnTo>
                  <a:lnTo>
                    <a:pt x="15" y="646"/>
                  </a:lnTo>
                  <a:lnTo>
                    <a:pt x="14" y="650"/>
                  </a:lnTo>
                  <a:lnTo>
                    <a:pt x="12" y="653"/>
                  </a:lnTo>
                  <a:lnTo>
                    <a:pt x="10" y="657"/>
                  </a:lnTo>
                  <a:lnTo>
                    <a:pt x="8" y="660"/>
                  </a:lnTo>
                  <a:lnTo>
                    <a:pt x="6" y="664"/>
                  </a:lnTo>
                  <a:lnTo>
                    <a:pt x="4" y="666"/>
                  </a:lnTo>
                  <a:lnTo>
                    <a:pt x="2" y="669"/>
                  </a:lnTo>
                  <a:lnTo>
                    <a:pt x="0" y="67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2"/>
            <p:cNvSpPr/>
            <p:nvPr/>
          </p:nvSpPr>
          <p:spPr>
            <a:xfrm>
              <a:off x="2549520" y="2449440"/>
              <a:ext cx="2238480" cy="1617840"/>
            </a:xfrm>
            <a:custGeom>
              <a:avLst/>
              <a:gdLst/>
              <a:ahLst/>
              <a:rect l="l" t="t" r="r" b="b"/>
              <a:pathLst>
                <a:path w="1410" h="1019">
                  <a:moveTo>
                    <a:pt x="1410" y="0"/>
                  </a:moveTo>
                  <a:lnTo>
                    <a:pt x="1408" y="3"/>
                  </a:lnTo>
                  <a:lnTo>
                    <a:pt x="1406" y="7"/>
                  </a:lnTo>
                  <a:lnTo>
                    <a:pt x="1403" y="12"/>
                  </a:lnTo>
                  <a:lnTo>
                    <a:pt x="1402" y="15"/>
                  </a:lnTo>
                  <a:lnTo>
                    <a:pt x="1399" y="18"/>
                  </a:lnTo>
                  <a:lnTo>
                    <a:pt x="1398" y="20"/>
                  </a:lnTo>
                  <a:lnTo>
                    <a:pt x="1395" y="24"/>
                  </a:lnTo>
                  <a:lnTo>
                    <a:pt x="1394" y="26"/>
                  </a:lnTo>
                  <a:lnTo>
                    <a:pt x="1391" y="30"/>
                  </a:lnTo>
                  <a:lnTo>
                    <a:pt x="1390" y="32"/>
                  </a:lnTo>
                  <a:lnTo>
                    <a:pt x="1387" y="32"/>
                  </a:lnTo>
                  <a:lnTo>
                    <a:pt x="1386" y="34"/>
                  </a:lnTo>
                  <a:lnTo>
                    <a:pt x="1383" y="38"/>
                  </a:lnTo>
                  <a:lnTo>
                    <a:pt x="1382" y="41"/>
                  </a:lnTo>
                  <a:lnTo>
                    <a:pt x="1380" y="43"/>
                  </a:lnTo>
                  <a:lnTo>
                    <a:pt x="1377" y="44"/>
                  </a:lnTo>
                  <a:lnTo>
                    <a:pt x="1376" y="47"/>
                  </a:lnTo>
                  <a:lnTo>
                    <a:pt x="1373" y="48"/>
                  </a:lnTo>
                  <a:lnTo>
                    <a:pt x="1372" y="49"/>
                  </a:lnTo>
                  <a:lnTo>
                    <a:pt x="1369" y="51"/>
                  </a:lnTo>
                  <a:lnTo>
                    <a:pt x="1368" y="53"/>
                  </a:lnTo>
                  <a:lnTo>
                    <a:pt x="1365" y="54"/>
                  </a:lnTo>
                  <a:lnTo>
                    <a:pt x="1364" y="54"/>
                  </a:lnTo>
                  <a:lnTo>
                    <a:pt x="1361" y="55"/>
                  </a:lnTo>
                  <a:lnTo>
                    <a:pt x="1360" y="56"/>
                  </a:lnTo>
                  <a:lnTo>
                    <a:pt x="1357" y="57"/>
                  </a:lnTo>
                  <a:lnTo>
                    <a:pt x="1356" y="57"/>
                  </a:lnTo>
                  <a:lnTo>
                    <a:pt x="1353" y="59"/>
                  </a:lnTo>
                  <a:lnTo>
                    <a:pt x="1351" y="60"/>
                  </a:lnTo>
                  <a:lnTo>
                    <a:pt x="1349" y="61"/>
                  </a:lnTo>
                  <a:lnTo>
                    <a:pt x="1347" y="62"/>
                  </a:lnTo>
                  <a:lnTo>
                    <a:pt x="1345" y="63"/>
                  </a:lnTo>
                  <a:lnTo>
                    <a:pt x="1343" y="65"/>
                  </a:lnTo>
                  <a:lnTo>
                    <a:pt x="1342" y="67"/>
                  </a:lnTo>
                  <a:lnTo>
                    <a:pt x="1339" y="69"/>
                  </a:lnTo>
                  <a:lnTo>
                    <a:pt x="1338" y="71"/>
                  </a:lnTo>
                  <a:lnTo>
                    <a:pt x="1335" y="72"/>
                  </a:lnTo>
                  <a:lnTo>
                    <a:pt x="1334" y="73"/>
                  </a:lnTo>
                  <a:lnTo>
                    <a:pt x="1331" y="74"/>
                  </a:lnTo>
                  <a:lnTo>
                    <a:pt x="1330" y="75"/>
                  </a:lnTo>
                  <a:lnTo>
                    <a:pt x="1327" y="77"/>
                  </a:lnTo>
                  <a:lnTo>
                    <a:pt x="1324" y="78"/>
                  </a:lnTo>
                  <a:lnTo>
                    <a:pt x="1323" y="78"/>
                  </a:lnTo>
                  <a:lnTo>
                    <a:pt x="1321" y="79"/>
                  </a:lnTo>
                  <a:lnTo>
                    <a:pt x="1319" y="80"/>
                  </a:lnTo>
                  <a:lnTo>
                    <a:pt x="1317" y="81"/>
                  </a:lnTo>
                  <a:lnTo>
                    <a:pt x="1315" y="84"/>
                  </a:lnTo>
                  <a:lnTo>
                    <a:pt x="1313" y="85"/>
                  </a:lnTo>
                  <a:lnTo>
                    <a:pt x="1311" y="86"/>
                  </a:lnTo>
                  <a:lnTo>
                    <a:pt x="1309" y="87"/>
                  </a:lnTo>
                  <a:lnTo>
                    <a:pt x="1307" y="89"/>
                  </a:lnTo>
                  <a:lnTo>
                    <a:pt x="1305" y="91"/>
                  </a:lnTo>
                  <a:lnTo>
                    <a:pt x="1304" y="92"/>
                  </a:lnTo>
                  <a:lnTo>
                    <a:pt x="1301" y="93"/>
                  </a:lnTo>
                  <a:lnTo>
                    <a:pt x="1298" y="95"/>
                  </a:lnTo>
                  <a:lnTo>
                    <a:pt x="1297" y="96"/>
                  </a:lnTo>
                  <a:lnTo>
                    <a:pt x="1294" y="97"/>
                  </a:lnTo>
                  <a:lnTo>
                    <a:pt x="1293" y="98"/>
                  </a:lnTo>
                  <a:lnTo>
                    <a:pt x="1290" y="101"/>
                  </a:lnTo>
                  <a:lnTo>
                    <a:pt x="1289" y="102"/>
                  </a:lnTo>
                  <a:lnTo>
                    <a:pt x="1286" y="104"/>
                  </a:lnTo>
                  <a:lnTo>
                    <a:pt x="1285" y="105"/>
                  </a:lnTo>
                  <a:lnTo>
                    <a:pt x="1283" y="108"/>
                  </a:lnTo>
                  <a:lnTo>
                    <a:pt x="1281" y="110"/>
                  </a:lnTo>
                  <a:lnTo>
                    <a:pt x="1279" y="113"/>
                  </a:lnTo>
                  <a:lnTo>
                    <a:pt x="1277" y="114"/>
                  </a:lnTo>
                  <a:lnTo>
                    <a:pt x="1275" y="116"/>
                  </a:lnTo>
                  <a:lnTo>
                    <a:pt x="1272" y="120"/>
                  </a:lnTo>
                  <a:lnTo>
                    <a:pt x="1271" y="122"/>
                  </a:lnTo>
                  <a:lnTo>
                    <a:pt x="1268" y="125"/>
                  </a:lnTo>
                  <a:lnTo>
                    <a:pt x="1267" y="127"/>
                  </a:lnTo>
                  <a:lnTo>
                    <a:pt x="1264" y="130"/>
                  </a:lnTo>
                  <a:lnTo>
                    <a:pt x="1263" y="132"/>
                  </a:lnTo>
                  <a:lnTo>
                    <a:pt x="1260" y="134"/>
                  </a:lnTo>
                  <a:lnTo>
                    <a:pt x="1259" y="137"/>
                  </a:lnTo>
                  <a:lnTo>
                    <a:pt x="1256" y="138"/>
                  </a:lnTo>
                  <a:lnTo>
                    <a:pt x="1255" y="140"/>
                  </a:lnTo>
                  <a:lnTo>
                    <a:pt x="1252" y="143"/>
                  </a:lnTo>
                  <a:lnTo>
                    <a:pt x="1251" y="144"/>
                  </a:lnTo>
                  <a:lnTo>
                    <a:pt x="1248" y="146"/>
                  </a:lnTo>
                  <a:lnTo>
                    <a:pt x="1246" y="148"/>
                  </a:lnTo>
                  <a:lnTo>
                    <a:pt x="1245" y="149"/>
                  </a:lnTo>
                  <a:lnTo>
                    <a:pt x="1242" y="151"/>
                  </a:lnTo>
                  <a:lnTo>
                    <a:pt x="1241" y="152"/>
                  </a:lnTo>
                  <a:lnTo>
                    <a:pt x="1238" y="155"/>
                  </a:lnTo>
                  <a:lnTo>
                    <a:pt x="1237" y="157"/>
                  </a:lnTo>
                  <a:lnTo>
                    <a:pt x="1234" y="160"/>
                  </a:lnTo>
                  <a:lnTo>
                    <a:pt x="1233" y="161"/>
                  </a:lnTo>
                  <a:lnTo>
                    <a:pt x="1230" y="163"/>
                  </a:lnTo>
                  <a:lnTo>
                    <a:pt x="1229" y="166"/>
                  </a:lnTo>
                  <a:lnTo>
                    <a:pt x="1226" y="169"/>
                  </a:lnTo>
                  <a:lnTo>
                    <a:pt x="1225" y="172"/>
                  </a:lnTo>
                  <a:lnTo>
                    <a:pt x="1222" y="174"/>
                  </a:lnTo>
                  <a:lnTo>
                    <a:pt x="1221" y="176"/>
                  </a:lnTo>
                  <a:lnTo>
                    <a:pt x="1218" y="179"/>
                  </a:lnTo>
                  <a:lnTo>
                    <a:pt x="1216" y="181"/>
                  </a:lnTo>
                  <a:lnTo>
                    <a:pt x="1214" y="184"/>
                  </a:lnTo>
                  <a:lnTo>
                    <a:pt x="1212" y="185"/>
                  </a:lnTo>
                  <a:lnTo>
                    <a:pt x="1210" y="187"/>
                  </a:lnTo>
                  <a:lnTo>
                    <a:pt x="1208" y="189"/>
                  </a:lnTo>
                  <a:lnTo>
                    <a:pt x="1206" y="190"/>
                  </a:lnTo>
                  <a:lnTo>
                    <a:pt x="1204" y="191"/>
                  </a:lnTo>
                  <a:lnTo>
                    <a:pt x="1203" y="192"/>
                  </a:lnTo>
                  <a:lnTo>
                    <a:pt x="1200" y="193"/>
                  </a:lnTo>
                  <a:lnTo>
                    <a:pt x="1199" y="195"/>
                  </a:lnTo>
                  <a:lnTo>
                    <a:pt x="1196" y="197"/>
                  </a:lnTo>
                  <a:lnTo>
                    <a:pt x="1195" y="198"/>
                  </a:lnTo>
                  <a:lnTo>
                    <a:pt x="1192" y="201"/>
                  </a:lnTo>
                  <a:lnTo>
                    <a:pt x="1189" y="202"/>
                  </a:lnTo>
                  <a:lnTo>
                    <a:pt x="1188" y="204"/>
                  </a:lnTo>
                  <a:lnTo>
                    <a:pt x="1186" y="207"/>
                  </a:lnTo>
                  <a:lnTo>
                    <a:pt x="1184" y="208"/>
                  </a:lnTo>
                  <a:lnTo>
                    <a:pt x="1182" y="210"/>
                  </a:lnTo>
                  <a:lnTo>
                    <a:pt x="1180" y="213"/>
                  </a:lnTo>
                  <a:lnTo>
                    <a:pt x="1178" y="214"/>
                  </a:lnTo>
                  <a:lnTo>
                    <a:pt x="1176" y="216"/>
                  </a:lnTo>
                  <a:lnTo>
                    <a:pt x="1174" y="217"/>
                  </a:lnTo>
                  <a:lnTo>
                    <a:pt x="1172" y="220"/>
                  </a:lnTo>
                  <a:lnTo>
                    <a:pt x="1170" y="221"/>
                  </a:lnTo>
                  <a:lnTo>
                    <a:pt x="1168" y="222"/>
                  </a:lnTo>
                  <a:lnTo>
                    <a:pt x="1166" y="223"/>
                  </a:lnTo>
                  <a:lnTo>
                    <a:pt x="1163" y="225"/>
                  </a:lnTo>
                  <a:lnTo>
                    <a:pt x="1162" y="226"/>
                  </a:lnTo>
                  <a:lnTo>
                    <a:pt x="1159" y="227"/>
                  </a:lnTo>
                  <a:lnTo>
                    <a:pt x="1158" y="228"/>
                  </a:lnTo>
                  <a:lnTo>
                    <a:pt x="1155" y="229"/>
                  </a:lnTo>
                  <a:lnTo>
                    <a:pt x="1154" y="231"/>
                  </a:lnTo>
                  <a:lnTo>
                    <a:pt x="1151" y="232"/>
                  </a:lnTo>
                  <a:lnTo>
                    <a:pt x="1150" y="233"/>
                  </a:lnTo>
                  <a:lnTo>
                    <a:pt x="1147" y="234"/>
                  </a:lnTo>
                  <a:lnTo>
                    <a:pt x="1146" y="235"/>
                  </a:lnTo>
                  <a:lnTo>
                    <a:pt x="1144" y="238"/>
                  </a:lnTo>
                  <a:lnTo>
                    <a:pt x="1142" y="239"/>
                  </a:lnTo>
                  <a:lnTo>
                    <a:pt x="1140" y="241"/>
                  </a:lnTo>
                  <a:lnTo>
                    <a:pt x="1137" y="243"/>
                  </a:lnTo>
                  <a:lnTo>
                    <a:pt x="1136" y="244"/>
                  </a:lnTo>
                  <a:lnTo>
                    <a:pt x="1133" y="245"/>
                  </a:lnTo>
                  <a:lnTo>
                    <a:pt x="1132" y="247"/>
                  </a:lnTo>
                  <a:lnTo>
                    <a:pt x="1129" y="249"/>
                  </a:lnTo>
                  <a:lnTo>
                    <a:pt x="1128" y="250"/>
                  </a:lnTo>
                  <a:lnTo>
                    <a:pt x="1125" y="251"/>
                  </a:lnTo>
                  <a:lnTo>
                    <a:pt x="1124" y="252"/>
                  </a:lnTo>
                  <a:lnTo>
                    <a:pt x="1121" y="253"/>
                  </a:lnTo>
                  <a:lnTo>
                    <a:pt x="1120" y="255"/>
                  </a:lnTo>
                  <a:lnTo>
                    <a:pt x="1117" y="256"/>
                  </a:lnTo>
                  <a:lnTo>
                    <a:pt x="1116" y="257"/>
                  </a:lnTo>
                  <a:lnTo>
                    <a:pt x="1113" y="258"/>
                  </a:lnTo>
                  <a:lnTo>
                    <a:pt x="1111" y="260"/>
                  </a:lnTo>
                  <a:lnTo>
                    <a:pt x="1109" y="261"/>
                  </a:lnTo>
                  <a:lnTo>
                    <a:pt x="1107" y="261"/>
                  </a:lnTo>
                  <a:lnTo>
                    <a:pt x="1106" y="262"/>
                  </a:lnTo>
                  <a:lnTo>
                    <a:pt x="1103" y="263"/>
                  </a:lnTo>
                  <a:lnTo>
                    <a:pt x="1102" y="266"/>
                  </a:lnTo>
                  <a:lnTo>
                    <a:pt x="1099" y="267"/>
                  </a:lnTo>
                  <a:lnTo>
                    <a:pt x="1098" y="268"/>
                  </a:lnTo>
                  <a:lnTo>
                    <a:pt x="1095" y="269"/>
                  </a:lnTo>
                  <a:lnTo>
                    <a:pt x="1094" y="270"/>
                  </a:lnTo>
                  <a:lnTo>
                    <a:pt x="1091" y="273"/>
                  </a:lnTo>
                  <a:lnTo>
                    <a:pt x="1090" y="274"/>
                  </a:lnTo>
                  <a:lnTo>
                    <a:pt x="1087" y="275"/>
                  </a:lnTo>
                  <a:lnTo>
                    <a:pt x="1085" y="276"/>
                  </a:lnTo>
                  <a:lnTo>
                    <a:pt x="1083" y="278"/>
                  </a:lnTo>
                  <a:lnTo>
                    <a:pt x="1081" y="278"/>
                  </a:lnTo>
                  <a:lnTo>
                    <a:pt x="1079" y="279"/>
                  </a:lnTo>
                  <a:lnTo>
                    <a:pt x="1077" y="280"/>
                  </a:lnTo>
                  <a:lnTo>
                    <a:pt x="1075" y="281"/>
                  </a:lnTo>
                  <a:lnTo>
                    <a:pt x="1073" y="281"/>
                  </a:lnTo>
                  <a:lnTo>
                    <a:pt x="1071" y="282"/>
                  </a:lnTo>
                  <a:lnTo>
                    <a:pt x="1069" y="284"/>
                  </a:lnTo>
                  <a:lnTo>
                    <a:pt x="1067" y="285"/>
                  </a:lnTo>
                  <a:lnTo>
                    <a:pt x="1065" y="286"/>
                  </a:lnTo>
                  <a:lnTo>
                    <a:pt x="1064" y="287"/>
                  </a:lnTo>
                  <a:lnTo>
                    <a:pt x="1061" y="288"/>
                  </a:lnTo>
                  <a:lnTo>
                    <a:pt x="1058" y="290"/>
                  </a:lnTo>
                  <a:lnTo>
                    <a:pt x="1057" y="291"/>
                  </a:lnTo>
                  <a:lnTo>
                    <a:pt x="1054" y="292"/>
                  </a:lnTo>
                  <a:lnTo>
                    <a:pt x="1053" y="293"/>
                  </a:lnTo>
                  <a:lnTo>
                    <a:pt x="1050" y="294"/>
                  </a:lnTo>
                  <a:lnTo>
                    <a:pt x="1049" y="296"/>
                  </a:lnTo>
                  <a:lnTo>
                    <a:pt x="1047" y="297"/>
                  </a:lnTo>
                  <a:lnTo>
                    <a:pt x="1045" y="298"/>
                  </a:lnTo>
                  <a:lnTo>
                    <a:pt x="1043" y="299"/>
                  </a:lnTo>
                  <a:lnTo>
                    <a:pt x="1041" y="300"/>
                  </a:lnTo>
                  <a:lnTo>
                    <a:pt x="1039" y="300"/>
                  </a:lnTo>
                  <a:lnTo>
                    <a:pt x="1037" y="302"/>
                  </a:lnTo>
                  <a:lnTo>
                    <a:pt x="1035" y="303"/>
                  </a:lnTo>
                  <a:lnTo>
                    <a:pt x="1032" y="303"/>
                  </a:lnTo>
                  <a:lnTo>
                    <a:pt x="1031" y="304"/>
                  </a:lnTo>
                  <a:lnTo>
                    <a:pt x="1028" y="305"/>
                  </a:lnTo>
                  <a:lnTo>
                    <a:pt x="1027" y="305"/>
                  </a:lnTo>
                  <a:lnTo>
                    <a:pt x="1024" y="306"/>
                  </a:lnTo>
                  <a:lnTo>
                    <a:pt x="1023" y="308"/>
                  </a:lnTo>
                  <a:lnTo>
                    <a:pt x="1020" y="308"/>
                  </a:lnTo>
                  <a:lnTo>
                    <a:pt x="1019" y="309"/>
                  </a:lnTo>
                  <a:lnTo>
                    <a:pt x="1016" y="310"/>
                  </a:lnTo>
                  <a:lnTo>
                    <a:pt x="1015" y="311"/>
                  </a:lnTo>
                  <a:lnTo>
                    <a:pt x="1012" y="312"/>
                  </a:lnTo>
                  <a:lnTo>
                    <a:pt x="1011" y="314"/>
                  </a:lnTo>
                  <a:lnTo>
                    <a:pt x="1008" y="315"/>
                  </a:lnTo>
                  <a:lnTo>
                    <a:pt x="1006" y="316"/>
                  </a:lnTo>
                  <a:lnTo>
                    <a:pt x="1005" y="317"/>
                  </a:lnTo>
                  <a:lnTo>
                    <a:pt x="1002" y="318"/>
                  </a:lnTo>
                  <a:lnTo>
                    <a:pt x="1001" y="320"/>
                  </a:lnTo>
                  <a:lnTo>
                    <a:pt x="998" y="321"/>
                  </a:lnTo>
                  <a:lnTo>
                    <a:pt x="997" y="322"/>
                  </a:lnTo>
                  <a:lnTo>
                    <a:pt x="994" y="322"/>
                  </a:lnTo>
                  <a:lnTo>
                    <a:pt x="993" y="323"/>
                  </a:lnTo>
                  <a:lnTo>
                    <a:pt x="990" y="324"/>
                  </a:lnTo>
                  <a:lnTo>
                    <a:pt x="989" y="324"/>
                  </a:lnTo>
                  <a:lnTo>
                    <a:pt x="986" y="326"/>
                  </a:lnTo>
                  <a:lnTo>
                    <a:pt x="985" y="326"/>
                  </a:lnTo>
                  <a:lnTo>
                    <a:pt x="982" y="327"/>
                  </a:lnTo>
                  <a:lnTo>
                    <a:pt x="980" y="328"/>
                  </a:lnTo>
                  <a:lnTo>
                    <a:pt x="978" y="328"/>
                  </a:lnTo>
                  <a:lnTo>
                    <a:pt x="976" y="329"/>
                  </a:lnTo>
                  <a:lnTo>
                    <a:pt x="974" y="329"/>
                  </a:lnTo>
                  <a:lnTo>
                    <a:pt x="972" y="330"/>
                  </a:lnTo>
                  <a:lnTo>
                    <a:pt x="970" y="332"/>
                  </a:lnTo>
                  <a:lnTo>
                    <a:pt x="968" y="333"/>
                  </a:lnTo>
                  <a:lnTo>
                    <a:pt x="967" y="334"/>
                  </a:lnTo>
                  <a:lnTo>
                    <a:pt x="964" y="335"/>
                  </a:lnTo>
                  <a:lnTo>
                    <a:pt x="963" y="335"/>
                  </a:lnTo>
                  <a:lnTo>
                    <a:pt x="960" y="337"/>
                  </a:lnTo>
                  <a:lnTo>
                    <a:pt x="959" y="338"/>
                  </a:lnTo>
                  <a:lnTo>
                    <a:pt x="956" y="339"/>
                  </a:lnTo>
                  <a:lnTo>
                    <a:pt x="953" y="340"/>
                  </a:lnTo>
                  <a:lnTo>
                    <a:pt x="952" y="341"/>
                  </a:lnTo>
                  <a:lnTo>
                    <a:pt x="949" y="341"/>
                  </a:lnTo>
                  <a:lnTo>
                    <a:pt x="948" y="343"/>
                  </a:lnTo>
                  <a:lnTo>
                    <a:pt x="946" y="344"/>
                  </a:lnTo>
                  <a:lnTo>
                    <a:pt x="944" y="344"/>
                  </a:lnTo>
                  <a:lnTo>
                    <a:pt x="942" y="345"/>
                  </a:lnTo>
                  <a:lnTo>
                    <a:pt x="940" y="346"/>
                  </a:lnTo>
                  <a:lnTo>
                    <a:pt x="938" y="347"/>
                  </a:lnTo>
                  <a:lnTo>
                    <a:pt x="936" y="349"/>
                  </a:lnTo>
                  <a:lnTo>
                    <a:pt x="934" y="350"/>
                  </a:lnTo>
                  <a:lnTo>
                    <a:pt x="932" y="351"/>
                  </a:lnTo>
                  <a:lnTo>
                    <a:pt x="930" y="352"/>
                  </a:lnTo>
                  <a:lnTo>
                    <a:pt x="927" y="353"/>
                  </a:lnTo>
                  <a:lnTo>
                    <a:pt x="926" y="355"/>
                  </a:lnTo>
                  <a:lnTo>
                    <a:pt x="923" y="356"/>
                  </a:lnTo>
                  <a:lnTo>
                    <a:pt x="922" y="356"/>
                  </a:lnTo>
                  <a:lnTo>
                    <a:pt x="919" y="357"/>
                  </a:lnTo>
                  <a:lnTo>
                    <a:pt x="918" y="358"/>
                  </a:lnTo>
                  <a:lnTo>
                    <a:pt x="915" y="359"/>
                  </a:lnTo>
                  <a:lnTo>
                    <a:pt x="914" y="359"/>
                  </a:lnTo>
                  <a:lnTo>
                    <a:pt x="911" y="359"/>
                  </a:lnTo>
                  <a:lnTo>
                    <a:pt x="910" y="361"/>
                  </a:lnTo>
                  <a:lnTo>
                    <a:pt x="908" y="361"/>
                  </a:lnTo>
                  <a:lnTo>
                    <a:pt x="906" y="361"/>
                  </a:lnTo>
                  <a:lnTo>
                    <a:pt x="904" y="361"/>
                  </a:lnTo>
                  <a:lnTo>
                    <a:pt x="901" y="361"/>
                  </a:lnTo>
                  <a:lnTo>
                    <a:pt x="900" y="362"/>
                  </a:lnTo>
                  <a:lnTo>
                    <a:pt x="897" y="362"/>
                  </a:lnTo>
                  <a:lnTo>
                    <a:pt x="896" y="363"/>
                  </a:lnTo>
                  <a:lnTo>
                    <a:pt x="893" y="364"/>
                  </a:lnTo>
                  <a:lnTo>
                    <a:pt x="892" y="364"/>
                  </a:lnTo>
                  <a:lnTo>
                    <a:pt x="889" y="365"/>
                  </a:lnTo>
                  <a:lnTo>
                    <a:pt x="888" y="368"/>
                  </a:lnTo>
                  <a:lnTo>
                    <a:pt x="885" y="371"/>
                  </a:lnTo>
                  <a:lnTo>
                    <a:pt x="884" y="375"/>
                  </a:lnTo>
                  <a:lnTo>
                    <a:pt x="881" y="375"/>
                  </a:lnTo>
                  <a:lnTo>
                    <a:pt x="880" y="374"/>
                  </a:lnTo>
                  <a:lnTo>
                    <a:pt x="877" y="374"/>
                  </a:lnTo>
                  <a:lnTo>
                    <a:pt x="875" y="375"/>
                  </a:lnTo>
                  <a:lnTo>
                    <a:pt x="873" y="375"/>
                  </a:lnTo>
                  <a:lnTo>
                    <a:pt x="871" y="376"/>
                  </a:lnTo>
                  <a:lnTo>
                    <a:pt x="870" y="376"/>
                  </a:lnTo>
                  <a:lnTo>
                    <a:pt x="867" y="379"/>
                  </a:lnTo>
                  <a:lnTo>
                    <a:pt x="866" y="381"/>
                  </a:lnTo>
                  <a:lnTo>
                    <a:pt x="863" y="383"/>
                  </a:lnTo>
                  <a:lnTo>
                    <a:pt x="862" y="385"/>
                  </a:lnTo>
                  <a:lnTo>
                    <a:pt x="859" y="387"/>
                  </a:lnTo>
                  <a:lnTo>
                    <a:pt x="858" y="388"/>
                  </a:lnTo>
                  <a:lnTo>
                    <a:pt x="855" y="391"/>
                  </a:lnTo>
                  <a:lnTo>
                    <a:pt x="854" y="393"/>
                  </a:lnTo>
                  <a:lnTo>
                    <a:pt x="851" y="394"/>
                  </a:lnTo>
                  <a:lnTo>
                    <a:pt x="849" y="397"/>
                  </a:lnTo>
                  <a:lnTo>
                    <a:pt x="847" y="398"/>
                  </a:lnTo>
                  <a:lnTo>
                    <a:pt x="845" y="400"/>
                  </a:lnTo>
                  <a:lnTo>
                    <a:pt x="843" y="401"/>
                  </a:lnTo>
                  <a:lnTo>
                    <a:pt x="841" y="403"/>
                  </a:lnTo>
                  <a:lnTo>
                    <a:pt x="839" y="404"/>
                  </a:lnTo>
                  <a:lnTo>
                    <a:pt x="837" y="405"/>
                  </a:lnTo>
                  <a:lnTo>
                    <a:pt x="835" y="408"/>
                  </a:lnTo>
                  <a:lnTo>
                    <a:pt x="833" y="409"/>
                  </a:lnTo>
                  <a:lnTo>
                    <a:pt x="831" y="411"/>
                  </a:lnTo>
                  <a:lnTo>
                    <a:pt x="829" y="412"/>
                  </a:lnTo>
                  <a:lnTo>
                    <a:pt x="828" y="415"/>
                  </a:lnTo>
                  <a:lnTo>
                    <a:pt x="825" y="416"/>
                  </a:lnTo>
                  <a:lnTo>
                    <a:pt x="822" y="418"/>
                  </a:lnTo>
                  <a:lnTo>
                    <a:pt x="821" y="420"/>
                  </a:lnTo>
                  <a:lnTo>
                    <a:pt x="818" y="422"/>
                  </a:lnTo>
                  <a:lnTo>
                    <a:pt x="817" y="423"/>
                  </a:lnTo>
                  <a:lnTo>
                    <a:pt x="814" y="424"/>
                  </a:lnTo>
                  <a:lnTo>
                    <a:pt x="813" y="426"/>
                  </a:lnTo>
                  <a:lnTo>
                    <a:pt x="811" y="427"/>
                  </a:lnTo>
                  <a:lnTo>
                    <a:pt x="809" y="428"/>
                  </a:lnTo>
                  <a:lnTo>
                    <a:pt x="807" y="429"/>
                  </a:lnTo>
                  <a:lnTo>
                    <a:pt x="805" y="430"/>
                  </a:lnTo>
                  <a:lnTo>
                    <a:pt x="803" y="432"/>
                  </a:lnTo>
                  <a:lnTo>
                    <a:pt x="801" y="432"/>
                  </a:lnTo>
                  <a:lnTo>
                    <a:pt x="799" y="433"/>
                  </a:lnTo>
                  <a:lnTo>
                    <a:pt x="796" y="434"/>
                  </a:lnTo>
                  <a:lnTo>
                    <a:pt x="795" y="435"/>
                  </a:lnTo>
                  <a:lnTo>
                    <a:pt x="792" y="438"/>
                  </a:lnTo>
                  <a:lnTo>
                    <a:pt x="791" y="439"/>
                  </a:lnTo>
                  <a:lnTo>
                    <a:pt x="788" y="440"/>
                  </a:lnTo>
                  <a:lnTo>
                    <a:pt x="787" y="442"/>
                  </a:lnTo>
                  <a:lnTo>
                    <a:pt x="784" y="445"/>
                  </a:lnTo>
                  <a:lnTo>
                    <a:pt x="783" y="446"/>
                  </a:lnTo>
                  <a:lnTo>
                    <a:pt x="780" y="448"/>
                  </a:lnTo>
                  <a:lnTo>
                    <a:pt x="779" y="451"/>
                  </a:lnTo>
                  <a:lnTo>
                    <a:pt x="776" y="453"/>
                  </a:lnTo>
                  <a:lnTo>
                    <a:pt x="775" y="454"/>
                  </a:lnTo>
                  <a:lnTo>
                    <a:pt x="772" y="457"/>
                  </a:lnTo>
                  <a:lnTo>
                    <a:pt x="770" y="459"/>
                  </a:lnTo>
                  <a:lnTo>
                    <a:pt x="769" y="460"/>
                  </a:lnTo>
                  <a:lnTo>
                    <a:pt x="766" y="462"/>
                  </a:lnTo>
                  <a:lnTo>
                    <a:pt x="765" y="463"/>
                  </a:lnTo>
                  <a:lnTo>
                    <a:pt x="762" y="464"/>
                  </a:lnTo>
                  <a:lnTo>
                    <a:pt x="761" y="465"/>
                  </a:lnTo>
                  <a:lnTo>
                    <a:pt x="758" y="468"/>
                  </a:lnTo>
                  <a:lnTo>
                    <a:pt x="757" y="469"/>
                  </a:lnTo>
                  <a:lnTo>
                    <a:pt x="754" y="470"/>
                  </a:lnTo>
                  <a:lnTo>
                    <a:pt x="753" y="471"/>
                  </a:lnTo>
                  <a:lnTo>
                    <a:pt x="750" y="472"/>
                  </a:lnTo>
                  <a:lnTo>
                    <a:pt x="749" y="475"/>
                  </a:lnTo>
                  <a:lnTo>
                    <a:pt x="746" y="476"/>
                  </a:lnTo>
                  <a:lnTo>
                    <a:pt x="744" y="478"/>
                  </a:lnTo>
                  <a:lnTo>
                    <a:pt x="742" y="481"/>
                  </a:lnTo>
                  <a:lnTo>
                    <a:pt x="740" y="482"/>
                  </a:lnTo>
                  <a:lnTo>
                    <a:pt x="738" y="485"/>
                  </a:lnTo>
                  <a:lnTo>
                    <a:pt x="736" y="487"/>
                  </a:lnTo>
                  <a:lnTo>
                    <a:pt x="734" y="488"/>
                  </a:lnTo>
                  <a:lnTo>
                    <a:pt x="732" y="491"/>
                  </a:lnTo>
                  <a:lnTo>
                    <a:pt x="731" y="493"/>
                  </a:lnTo>
                  <a:lnTo>
                    <a:pt x="728" y="494"/>
                  </a:lnTo>
                  <a:lnTo>
                    <a:pt x="727" y="497"/>
                  </a:lnTo>
                  <a:lnTo>
                    <a:pt x="724" y="498"/>
                  </a:lnTo>
                  <a:lnTo>
                    <a:pt x="723" y="500"/>
                  </a:lnTo>
                  <a:lnTo>
                    <a:pt x="720" y="501"/>
                  </a:lnTo>
                  <a:lnTo>
                    <a:pt x="717" y="503"/>
                  </a:lnTo>
                  <a:lnTo>
                    <a:pt x="716" y="505"/>
                  </a:lnTo>
                  <a:lnTo>
                    <a:pt x="713" y="507"/>
                  </a:lnTo>
                  <a:lnTo>
                    <a:pt x="712" y="509"/>
                  </a:lnTo>
                  <a:lnTo>
                    <a:pt x="710" y="511"/>
                  </a:lnTo>
                  <a:lnTo>
                    <a:pt x="708" y="513"/>
                  </a:lnTo>
                  <a:lnTo>
                    <a:pt x="706" y="516"/>
                  </a:lnTo>
                  <a:lnTo>
                    <a:pt x="704" y="518"/>
                  </a:lnTo>
                  <a:lnTo>
                    <a:pt x="702" y="521"/>
                  </a:lnTo>
                  <a:lnTo>
                    <a:pt x="700" y="523"/>
                  </a:lnTo>
                  <a:lnTo>
                    <a:pt x="698" y="524"/>
                  </a:lnTo>
                  <a:lnTo>
                    <a:pt x="696" y="527"/>
                  </a:lnTo>
                  <a:lnTo>
                    <a:pt x="694" y="528"/>
                  </a:lnTo>
                  <a:lnTo>
                    <a:pt x="691" y="529"/>
                  </a:lnTo>
                  <a:lnTo>
                    <a:pt x="690" y="530"/>
                  </a:lnTo>
                  <a:lnTo>
                    <a:pt x="687" y="531"/>
                  </a:lnTo>
                  <a:lnTo>
                    <a:pt x="686" y="533"/>
                  </a:lnTo>
                  <a:lnTo>
                    <a:pt x="683" y="534"/>
                  </a:lnTo>
                  <a:lnTo>
                    <a:pt x="682" y="535"/>
                  </a:lnTo>
                  <a:lnTo>
                    <a:pt x="679" y="536"/>
                  </a:lnTo>
                  <a:lnTo>
                    <a:pt x="678" y="537"/>
                  </a:lnTo>
                  <a:lnTo>
                    <a:pt x="675" y="539"/>
                  </a:lnTo>
                  <a:lnTo>
                    <a:pt x="674" y="540"/>
                  </a:lnTo>
                  <a:lnTo>
                    <a:pt x="672" y="541"/>
                  </a:lnTo>
                  <a:lnTo>
                    <a:pt x="670" y="543"/>
                  </a:lnTo>
                  <a:lnTo>
                    <a:pt x="668" y="545"/>
                  </a:lnTo>
                  <a:lnTo>
                    <a:pt x="665" y="547"/>
                  </a:lnTo>
                  <a:lnTo>
                    <a:pt x="664" y="548"/>
                  </a:lnTo>
                  <a:lnTo>
                    <a:pt x="661" y="551"/>
                  </a:lnTo>
                  <a:lnTo>
                    <a:pt x="660" y="553"/>
                  </a:lnTo>
                  <a:lnTo>
                    <a:pt x="657" y="556"/>
                  </a:lnTo>
                  <a:lnTo>
                    <a:pt x="656" y="558"/>
                  </a:lnTo>
                  <a:lnTo>
                    <a:pt x="653" y="560"/>
                  </a:lnTo>
                  <a:lnTo>
                    <a:pt x="652" y="562"/>
                  </a:lnTo>
                  <a:lnTo>
                    <a:pt x="649" y="564"/>
                  </a:lnTo>
                  <a:lnTo>
                    <a:pt x="648" y="566"/>
                  </a:lnTo>
                  <a:lnTo>
                    <a:pt x="645" y="569"/>
                  </a:lnTo>
                  <a:lnTo>
                    <a:pt x="644" y="570"/>
                  </a:lnTo>
                  <a:lnTo>
                    <a:pt x="641" y="571"/>
                  </a:lnTo>
                  <a:lnTo>
                    <a:pt x="639" y="574"/>
                  </a:lnTo>
                  <a:lnTo>
                    <a:pt x="637" y="575"/>
                  </a:lnTo>
                  <a:lnTo>
                    <a:pt x="635" y="576"/>
                  </a:lnTo>
                  <a:lnTo>
                    <a:pt x="633" y="577"/>
                  </a:lnTo>
                  <a:lnTo>
                    <a:pt x="631" y="578"/>
                  </a:lnTo>
                  <a:lnTo>
                    <a:pt x="630" y="580"/>
                  </a:lnTo>
                  <a:lnTo>
                    <a:pt x="627" y="581"/>
                  </a:lnTo>
                  <a:lnTo>
                    <a:pt x="626" y="582"/>
                  </a:lnTo>
                  <a:lnTo>
                    <a:pt x="623" y="584"/>
                  </a:lnTo>
                  <a:lnTo>
                    <a:pt x="622" y="586"/>
                  </a:lnTo>
                  <a:lnTo>
                    <a:pt x="619" y="588"/>
                  </a:lnTo>
                  <a:lnTo>
                    <a:pt x="618" y="590"/>
                  </a:lnTo>
                  <a:lnTo>
                    <a:pt x="615" y="593"/>
                  </a:lnTo>
                  <a:lnTo>
                    <a:pt x="613" y="595"/>
                  </a:lnTo>
                  <a:lnTo>
                    <a:pt x="611" y="598"/>
                  </a:lnTo>
                  <a:lnTo>
                    <a:pt x="609" y="600"/>
                  </a:lnTo>
                  <a:lnTo>
                    <a:pt x="607" y="604"/>
                  </a:lnTo>
                  <a:lnTo>
                    <a:pt x="605" y="606"/>
                  </a:lnTo>
                  <a:lnTo>
                    <a:pt x="603" y="608"/>
                  </a:lnTo>
                  <a:lnTo>
                    <a:pt x="601" y="611"/>
                  </a:lnTo>
                  <a:lnTo>
                    <a:pt x="599" y="613"/>
                  </a:lnTo>
                  <a:lnTo>
                    <a:pt x="597" y="616"/>
                  </a:lnTo>
                  <a:lnTo>
                    <a:pt x="595" y="618"/>
                  </a:lnTo>
                  <a:lnTo>
                    <a:pt x="593" y="620"/>
                  </a:lnTo>
                  <a:lnTo>
                    <a:pt x="592" y="622"/>
                  </a:lnTo>
                  <a:lnTo>
                    <a:pt x="589" y="624"/>
                  </a:lnTo>
                  <a:lnTo>
                    <a:pt x="586" y="625"/>
                  </a:lnTo>
                  <a:lnTo>
                    <a:pt x="585" y="628"/>
                  </a:lnTo>
                  <a:lnTo>
                    <a:pt x="582" y="630"/>
                  </a:lnTo>
                  <a:lnTo>
                    <a:pt x="581" y="633"/>
                  </a:lnTo>
                  <a:lnTo>
                    <a:pt x="578" y="634"/>
                  </a:lnTo>
                  <a:lnTo>
                    <a:pt x="577" y="636"/>
                  </a:lnTo>
                  <a:lnTo>
                    <a:pt x="574" y="639"/>
                  </a:lnTo>
                  <a:lnTo>
                    <a:pt x="573" y="641"/>
                  </a:lnTo>
                  <a:lnTo>
                    <a:pt x="571" y="643"/>
                  </a:lnTo>
                  <a:lnTo>
                    <a:pt x="569" y="646"/>
                  </a:lnTo>
                  <a:lnTo>
                    <a:pt x="567" y="648"/>
                  </a:lnTo>
                  <a:lnTo>
                    <a:pt x="565" y="651"/>
                  </a:lnTo>
                  <a:lnTo>
                    <a:pt x="563" y="653"/>
                  </a:lnTo>
                  <a:lnTo>
                    <a:pt x="560" y="655"/>
                  </a:lnTo>
                  <a:lnTo>
                    <a:pt x="559" y="658"/>
                  </a:lnTo>
                  <a:lnTo>
                    <a:pt x="556" y="660"/>
                  </a:lnTo>
                  <a:lnTo>
                    <a:pt x="555" y="663"/>
                  </a:lnTo>
                  <a:lnTo>
                    <a:pt x="552" y="665"/>
                  </a:lnTo>
                  <a:lnTo>
                    <a:pt x="551" y="667"/>
                  </a:lnTo>
                  <a:lnTo>
                    <a:pt x="548" y="669"/>
                  </a:lnTo>
                  <a:lnTo>
                    <a:pt x="547" y="671"/>
                  </a:lnTo>
                  <a:lnTo>
                    <a:pt x="544" y="673"/>
                  </a:lnTo>
                  <a:lnTo>
                    <a:pt x="543" y="675"/>
                  </a:lnTo>
                  <a:lnTo>
                    <a:pt x="540" y="677"/>
                  </a:lnTo>
                  <a:lnTo>
                    <a:pt x="539" y="678"/>
                  </a:lnTo>
                  <a:lnTo>
                    <a:pt x="536" y="679"/>
                  </a:lnTo>
                  <a:lnTo>
                    <a:pt x="534" y="682"/>
                  </a:lnTo>
                  <a:lnTo>
                    <a:pt x="533" y="683"/>
                  </a:lnTo>
                  <a:lnTo>
                    <a:pt x="530" y="684"/>
                  </a:lnTo>
                  <a:lnTo>
                    <a:pt x="529" y="685"/>
                  </a:lnTo>
                  <a:lnTo>
                    <a:pt x="526" y="688"/>
                  </a:lnTo>
                  <a:lnTo>
                    <a:pt x="525" y="689"/>
                  </a:lnTo>
                  <a:lnTo>
                    <a:pt x="522" y="690"/>
                  </a:lnTo>
                  <a:lnTo>
                    <a:pt x="521" y="693"/>
                  </a:lnTo>
                  <a:lnTo>
                    <a:pt x="518" y="694"/>
                  </a:lnTo>
                  <a:lnTo>
                    <a:pt x="517" y="696"/>
                  </a:lnTo>
                  <a:lnTo>
                    <a:pt x="514" y="697"/>
                  </a:lnTo>
                  <a:lnTo>
                    <a:pt x="513" y="700"/>
                  </a:lnTo>
                  <a:lnTo>
                    <a:pt x="510" y="701"/>
                  </a:lnTo>
                  <a:lnTo>
                    <a:pt x="508" y="704"/>
                  </a:lnTo>
                  <a:lnTo>
                    <a:pt x="506" y="706"/>
                  </a:lnTo>
                  <a:lnTo>
                    <a:pt x="504" y="707"/>
                  </a:lnTo>
                  <a:lnTo>
                    <a:pt x="502" y="710"/>
                  </a:lnTo>
                  <a:lnTo>
                    <a:pt x="500" y="712"/>
                  </a:lnTo>
                  <a:lnTo>
                    <a:pt x="498" y="714"/>
                  </a:lnTo>
                  <a:lnTo>
                    <a:pt x="496" y="716"/>
                  </a:lnTo>
                  <a:lnTo>
                    <a:pt x="495" y="718"/>
                  </a:lnTo>
                  <a:lnTo>
                    <a:pt x="492" y="720"/>
                  </a:lnTo>
                  <a:lnTo>
                    <a:pt x="491" y="722"/>
                  </a:lnTo>
                  <a:lnTo>
                    <a:pt x="488" y="724"/>
                  </a:lnTo>
                  <a:lnTo>
                    <a:pt x="487" y="725"/>
                  </a:lnTo>
                  <a:lnTo>
                    <a:pt x="484" y="726"/>
                  </a:lnTo>
                  <a:lnTo>
                    <a:pt x="481" y="728"/>
                  </a:lnTo>
                  <a:lnTo>
                    <a:pt x="480" y="730"/>
                  </a:lnTo>
                  <a:lnTo>
                    <a:pt x="477" y="731"/>
                  </a:lnTo>
                  <a:lnTo>
                    <a:pt x="476" y="734"/>
                  </a:lnTo>
                  <a:lnTo>
                    <a:pt x="474" y="736"/>
                  </a:lnTo>
                  <a:lnTo>
                    <a:pt x="472" y="737"/>
                  </a:lnTo>
                  <a:lnTo>
                    <a:pt x="470" y="740"/>
                  </a:lnTo>
                  <a:lnTo>
                    <a:pt x="468" y="742"/>
                  </a:lnTo>
                  <a:lnTo>
                    <a:pt x="466" y="744"/>
                  </a:lnTo>
                  <a:lnTo>
                    <a:pt x="464" y="746"/>
                  </a:lnTo>
                  <a:lnTo>
                    <a:pt x="462" y="747"/>
                  </a:lnTo>
                  <a:lnTo>
                    <a:pt x="460" y="749"/>
                  </a:lnTo>
                  <a:lnTo>
                    <a:pt x="458" y="750"/>
                  </a:lnTo>
                  <a:lnTo>
                    <a:pt x="455" y="753"/>
                  </a:lnTo>
                  <a:lnTo>
                    <a:pt x="454" y="754"/>
                  </a:lnTo>
                  <a:lnTo>
                    <a:pt x="451" y="755"/>
                  </a:lnTo>
                  <a:lnTo>
                    <a:pt x="450" y="758"/>
                  </a:lnTo>
                  <a:lnTo>
                    <a:pt x="447" y="759"/>
                  </a:lnTo>
                  <a:lnTo>
                    <a:pt x="446" y="761"/>
                  </a:lnTo>
                  <a:lnTo>
                    <a:pt x="443" y="764"/>
                  </a:lnTo>
                  <a:lnTo>
                    <a:pt x="442" y="766"/>
                  </a:lnTo>
                  <a:lnTo>
                    <a:pt x="439" y="767"/>
                  </a:lnTo>
                  <a:lnTo>
                    <a:pt x="438" y="770"/>
                  </a:lnTo>
                  <a:lnTo>
                    <a:pt x="435" y="771"/>
                  </a:lnTo>
                  <a:lnTo>
                    <a:pt x="434" y="772"/>
                  </a:lnTo>
                  <a:lnTo>
                    <a:pt x="432" y="774"/>
                  </a:lnTo>
                  <a:lnTo>
                    <a:pt x="429" y="776"/>
                  </a:lnTo>
                  <a:lnTo>
                    <a:pt x="428" y="778"/>
                  </a:lnTo>
                  <a:lnTo>
                    <a:pt x="425" y="781"/>
                  </a:lnTo>
                  <a:lnTo>
                    <a:pt x="424" y="782"/>
                  </a:lnTo>
                  <a:lnTo>
                    <a:pt x="421" y="783"/>
                  </a:lnTo>
                  <a:lnTo>
                    <a:pt x="420" y="785"/>
                  </a:lnTo>
                  <a:lnTo>
                    <a:pt x="417" y="787"/>
                  </a:lnTo>
                  <a:lnTo>
                    <a:pt x="416" y="788"/>
                  </a:lnTo>
                  <a:lnTo>
                    <a:pt x="413" y="789"/>
                  </a:lnTo>
                  <a:lnTo>
                    <a:pt x="412" y="790"/>
                  </a:lnTo>
                  <a:lnTo>
                    <a:pt x="409" y="793"/>
                  </a:lnTo>
                  <a:lnTo>
                    <a:pt x="408" y="794"/>
                  </a:lnTo>
                  <a:lnTo>
                    <a:pt x="405" y="796"/>
                  </a:lnTo>
                  <a:lnTo>
                    <a:pt x="403" y="797"/>
                  </a:lnTo>
                  <a:lnTo>
                    <a:pt x="401" y="800"/>
                  </a:lnTo>
                  <a:lnTo>
                    <a:pt x="399" y="801"/>
                  </a:lnTo>
                  <a:lnTo>
                    <a:pt x="397" y="802"/>
                  </a:lnTo>
                  <a:lnTo>
                    <a:pt x="395" y="805"/>
                  </a:lnTo>
                  <a:lnTo>
                    <a:pt x="394" y="806"/>
                  </a:lnTo>
                  <a:lnTo>
                    <a:pt x="391" y="808"/>
                  </a:lnTo>
                  <a:lnTo>
                    <a:pt x="390" y="809"/>
                  </a:lnTo>
                  <a:lnTo>
                    <a:pt x="387" y="812"/>
                  </a:lnTo>
                  <a:lnTo>
                    <a:pt x="386" y="813"/>
                  </a:lnTo>
                  <a:lnTo>
                    <a:pt x="383" y="815"/>
                  </a:lnTo>
                  <a:lnTo>
                    <a:pt x="382" y="818"/>
                  </a:lnTo>
                  <a:lnTo>
                    <a:pt x="379" y="820"/>
                  </a:lnTo>
                  <a:lnTo>
                    <a:pt x="376" y="823"/>
                  </a:lnTo>
                  <a:lnTo>
                    <a:pt x="375" y="824"/>
                  </a:lnTo>
                  <a:lnTo>
                    <a:pt x="373" y="826"/>
                  </a:lnTo>
                  <a:lnTo>
                    <a:pt x="371" y="829"/>
                  </a:lnTo>
                  <a:lnTo>
                    <a:pt x="369" y="830"/>
                  </a:lnTo>
                  <a:lnTo>
                    <a:pt x="367" y="833"/>
                  </a:lnTo>
                  <a:lnTo>
                    <a:pt x="365" y="836"/>
                  </a:lnTo>
                  <a:lnTo>
                    <a:pt x="363" y="839"/>
                  </a:lnTo>
                  <a:lnTo>
                    <a:pt x="361" y="841"/>
                  </a:lnTo>
                  <a:lnTo>
                    <a:pt x="359" y="842"/>
                  </a:lnTo>
                  <a:lnTo>
                    <a:pt x="357" y="843"/>
                  </a:lnTo>
                  <a:lnTo>
                    <a:pt x="356" y="843"/>
                  </a:lnTo>
                  <a:lnTo>
                    <a:pt x="353" y="844"/>
                  </a:lnTo>
                  <a:lnTo>
                    <a:pt x="350" y="844"/>
                  </a:lnTo>
                  <a:lnTo>
                    <a:pt x="349" y="845"/>
                  </a:lnTo>
                  <a:lnTo>
                    <a:pt x="346" y="845"/>
                  </a:lnTo>
                  <a:lnTo>
                    <a:pt x="345" y="847"/>
                  </a:lnTo>
                  <a:lnTo>
                    <a:pt x="342" y="848"/>
                  </a:lnTo>
                  <a:lnTo>
                    <a:pt x="341" y="850"/>
                  </a:lnTo>
                  <a:lnTo>
                    <a:pt x="338" y="852"/>
                  </a:lnTo>
                  <a:lnTo>
                    <a:pt x="337" y="854"/>
                  </a:lnTo>
                  <a:lnTo>
                    <a:pt x="335" y="855"/>
                  </a:lnTo>
                  <a:lnTo>
                    <a:pt x="333" y="856"/>
                  </a:lnTo>
                  <a:lnTo>
                    <a:pt x="331" y="858"/>
                  </a:lnTo>
                  <a:lnTo>
                    <a:pt x="329" y="859"/>
                  </a:lnTo>
                  <a:lnTo>
                    <a:pt x="327" y="860"/>
                  </a:lnTo>
                  <a:lnTo>
                    <a:pt x="324" y="861"/>
                  </a:lnTo>
                  <a:lnTo>
                    <a:pt x="323" y="864"/>
                  </a:lnTo>
                  <a:lnTo>
                    <a:pt x="320" y="865"/>
                  </a:lnTo>
                  <a:lnTo>
                    <a:pt x="319" y="866"/>
                  </a:lnTo>
                  <a:lnTo>
                    <a:pt x="316" y="867"/>
                  </a:lnTo>
                  <a:lnTo>
                    <a:pt x="315" y="870"/>
                  </a:lnTo>
                  <a:lnTo>
                    <a:pt x="312" y="871"/>
                  </a:lnTo>
                  <a:lnTo>
                    <a:pt x="311" y="872"/>
                  </a:lnTo>
                  <a:lnTo>
                    <a:pt x="308" y="873"/>
                  </a:lnTo>
                  <a:lnTo>
                    <a:pt x="307" y="874"/>
                  </a:lnTo>
                  <a:lnTo>
                    <a:pt x="304" y="877"/>
                  </a:lnTo>
                  <a:lnTo>
                    <a:pt x="303" y="879"/>
                  </a:lnTo>
                  <a:lnTo>
                    <a:pt x="300" y="882"/>
                  </a:lnTo>
                  <a:lnTo>
                    <a:pt x="298" y="885"/>
                  </a:lnTo>
                  <a:lnTo>
                    <a:pt x="297" y="889"/>
                  </a:lnTo>
                  <a:lnTo>
                    <a:pt x="294" y="892"/>
                  </a:lnTo>
                  <a:lnTo>
                    <a:pt x="293" y="896"/>
                  </a:lnTo>
                  <a:lnTo>
                    <a:pt x="290" y="898"/>
                  </a:lnTo>
                  <a:lnTo>
                    <a:pt x="289" y="900"/>
                  </a:lnTo>
                  <a:lnTo>
                    <a:pt x="286" y="901"/>
                  </a:lnTo>
                  <a:lnTo>
                    <a:pt x="285" y="902"/>
                  </a:lnTo>
                  <a:lnTo>
                    <a:pt x="282" y="904"/>
                  </a:lnTo>
                  <a:lnTo>
                    <a:pt x="281" y="906"/>
                  </a:lnTo>
                  <a:lnTo>
                    <a:pt x="278" y="906"/>
                  </a:lnTo>
                  <a:lnTo>
                    <a:pt x="277" y="907"/>
                  </a:lnTo>
                  <a:lnTo>
                    <a:pt x="274" y="907"/>
                  </a:lnTo>
                  <a:lnTo>
                    <a:pt x="272" y="907"/>
                  </a:lnTo>
                  <a:lnTo>
                    <a:pt x="270" y="907"/>
                  </a:lnTo>
                  <a:lnTo>
                    <a:pt x="268" y="908"/>
                  </a:lnTo>
                  <a:lnTo>
                    <a:pt x="266" y="909"/>
                  </a:lnTo>
                  <a:lnTo>
                    <a:pt x="264" y="912"/>
                  </a:lnTo>
                  <a:lnTo>
                    <a:pt x="262" y="913"/>
                  </a:lnTo>
                  <a:lnTo>
                    <a:pt x="260" y="914"/>
                  </a:lnTo>
                  <a:lnTo>
                    <a:pt x="258" y="915"/>
                  </a:lnTo>
                  <a:lnTo>
                    <a:pt x="256" y="918"/>
                  </a:lnTo>
                  <a:lnTo>
                    <a:pt x="255" y="919"/>
                  </a:lnTo>
                  <a:lnTo>
                    <a:pt x="252" y="921"/>
                  </a:lnTo>
                  <a:lnTo>
                    <a:pt x="251" y="922"/>
                  </a:lnTo>
                  <a:lnTo>
                    <a:pt x="248" y="925"/>
                  </a:lnTo>
                  <a:lnTo>
                    <a:pt x="245" y="927"/>
                  </a:lnTo>
                  <a:lnTo>
                    <a:pt x="244" y="929"/>
                  </a:lnTo>
                  <a:lnTo>
                    <a:pt x="241" y="929"/>
                  </a:lnTo>
                  <a:lnTo>
                    <a:pt x="240" y="929"/>
                  </a:lnTo>
                  <a:lnTo>
                    <a:pt x="238" y="930"/>
                  </a:lnTo>
                  <a:lnTo>
                    <a:pt x="236" y="930"/>
                  </a:lnTo>
                  <a:lnTo>
                    <a:pt x="234" y="931"/>
                  </a:lnTo>
                  <a:lnTo>
                    <a:pt x="232" y="932"/>
                  </a:lnTo>
                  <a:lnTo>
                    <a:pt x="230" y="933"/>
                  </a:lnTo>
                  <a:lnTo>
                    <a:pt x="228" y="935"/>
                  </a:lnTo>
                  <a:lnTo>
                    <a:pt x="226" y="936"/>
                  </a:lnTo>
                  <a:lnTo>
                    <a:pt x="224" y="937"/>
                  </a:lnTo>
                  <a:lnTo>
                    <a:pt x="222" y="938"/>
                  </a:lnTo>
                  <a:lnTo>
                    <a:pt x="219" y="941"/>
                  </a:lnTo>
                  <a:lnTo>
                    <a:pt x="218" y="942"/>
                  </a:lnTo>
                  <a:lnTo>
                    <a:pt x="215" y="944"/>
                  </a:lnTo>
                  <a:lnTo>
                    <a:pt x="214" y="947"/>
                  </a:lnTo>
                  <a:lnTo>
                    <a:pt x="211" y="948"/>
                  </a:lnTo>
                  <a:lnTo>
                    <a:pt x="210" y="950"/>
                  </a:lnTo>
                  <a:lnTo>
                    <a:pt x="207" y="951"/>
                  </a:lnTo>
                  <a:lnTo>
                    <a:pt x="206" y="954"/>
                  </a:lnTo>
                  <a:lnTo>
                    <a:pt x="203" y="956"/>
                  </a:lnTo>
                  <a:lnTo>
                    <a:pt x="202" y="957"/>
                  </a:lnTo>
                  <a:lnTo>
                    <a:pt x="199" y="960"/>
                  </a:lnTo>
                  <a:lnTo>
                    <a:pt x="198" y="961"/>
                  </a:lnTo>
                  <a:lnTo>
                    <a:pt x="196" y="965"/>
                  </a:lnTo>
                  <a:lnTo>
                    <a:pt x="193" y="967"/>
                  </a:lnTo>
                  <a:lnTo>
                    <a:pt x="192" y="968"/>
                  </a:lnTo>
                  <a:lnTo>
                    <a:pt x="189" y="969"/>
                  </a:lnTo>
                  <a:lnTo>
                    <a:pt x="188" y="972"/>
                  </a:lnTo>
                  <a:lnTo>
                    <a:pt x="185" y="973"/>
                  </a:lnTo>
                  <a:lnTo>
                    <a:pt x="184" y="974"/>
                  </a:lnTo>
                  <a:lnTo>
                    <a:pt x="181" y="975"/>
                  </a:lnTo>
                  <a:lnTo>
                    <a:pt x="180" y="977"/>
                  </a:lnTo>
                  <a:lnTo>
                    <a:pt x="177" y="978"/>
                  </a:lnTo>
                  <a:lnTo>
                    <a:pt x="176" y="979"/>
                  </a:lnTo>
                  <a:lnTo>
                    <a:pt x="173" y="980"/>
                  </a:lnTo>
                  <a:lnTo>
                    <a:pt x="172" y="980"/>
                  </a:lnTo>
                  <a:lnTo>
                    <a:pt x="169" y="981"/>
                  </a:lnTo>
                  <a:lnTo>
                    <a:pt x="167" y="983"/>
                  </a:lnTo>
                  <a:lnTo>
                    <a:pt x="165" y="983"/>
                  </a:lnTo>
                  <a:lnTo>
                    <a:pt x="163" y="984"/>
                  </a:lnTo>
                  <a:lnTo>
                    <a:pt x="161" y="984"/>
                  </a:lnTo>
                  <a:lnTo>
                    <a:pt x="159" y="985"/>
                  </a:lnTo>
                  <a:lnTo>
                    <a:pt x="158" y="986"/>
                  </a:lnTo>
                  <a:lnTo>
                    <a:pt x="155" y="986"/>
                  </a:lnTo>
                  <a:lnTo>
                    <a:pt x="154" y="987"/>
                  </a:lnTo>
                  <a:lnTo>
                    <a:pt x="151" y="989"/>
                  </a:lnTo>
                  <a:lnTo>
                    <a:pt x="150" y="990"/>
                  </a:lnTo>
                  <a:lnTo>
                    <a:pt x="147" y="990"/>
                  </a:lnTo>
                  <a:lnTo>
                    <a:pt x="146" y="991"/>
                  </a:lnTo>
                  <a:lnTo>
                    <a:pt x="143" y="991"/>
                  </a:lnTo>
                  <a:lnTo>
                    <a:pt x="140" y="992"/>
                  </a:lnTo>
                  <a:lnTo>
                    <a:pt x="139" y="992"/>
                  </a:lnTo>
                  <a:lnTo>
                    <a:pt x="137" y="993"/>
                  </a:lnTo>
                  <a:lnTo>
                    <a:pt x="135" y="993"/>
                  </a:lnTo>
                  <a:lnTo>
                    <a:pt x="133" y="993"/>
                  </a:lnTo>
                  <a:lnTo>
                    <a:pt x="131" y="992"/>
                  </a:lnTo>
                  <a:lnTo>
                    <a:pt x="129" y="992"/>
                  </a:lnTo>
                  <a:lnTo>
                    <a:pt x="127" y="992"/>
                  </a:lnTo>
                  <a:lnTo>
                    <a:pt x="125" y="993"/>
                  </a:lnTo>
                  <a:lnTo>
                    <a:pt x="123" y="993"/>
                  </a:lnTo>
                  <a:lnTo>
                    <a:pt x="121" y="993"/>
                  </a:lnTo>
                  <a:lnTo>
                    <a:pt x="119" y="995"/>
                  </a:lnTo>
                  <a:lnTo>
                    <a:pt x="117" y="996"/>
                  </a:lnTo>
                  <a:lnTo>
                    <a:pt x="114" y="997"/>
                  </a:lnTo>
                  <a:lnTo>
                    <a:pt x="113" y="998"/>
                  </a:lnTo>
                  <a:lnTo>
                    <a:pt x="110" y="998"/>
                  </a:lnTo>
                  <a:lnTo>
                    <a:pt x="109" y="1000"/>
                  </a:lnTo>
                  <a:lnTo>
                    <a:pt x="106" y="1001"/>
                  </a:lnTo>
                  <a:lnTo>
                    <a:pt x="105" y="1002"/>
                  </a:lnTo>
                  <a:lnTo>
                    <a:pt x="102" y="1003"/>
                  </a:lnTo>
                  <a:lnTo>
                    <a:pt x="101" y="1004"/>
                  </a:lnTo>
                  <a:lnTo>
                    <a:pt x="99" y="1004"/>
                  </a:lnTo>
                  <a:lnTo>
                    <a:pt x="97" y="1006"/>
                  </a:lnTo>
                  <a:lnTo>
                    <a:pt x="95" y="1007"/>
                  </a:lnTo>
                  <a:lnTo>
                    <a:pt x="93" y="1008"/>
                  </a:lnTo>
                  <a:lnTo>
                    <a:pt x="91" y="1009"/>
                  </a:lnTo>
                  <a:lnTo>
                    <a:pt x="88" y="1009"/>
                  </a:lnTo>
                  <a:lnTo>
                    <a:pt x="87" y="1010"/>
                  </a:lnTo>
                  <a:lnTo>
                    <a:pt x="84" y="1010"/>
                  </a:lnTo>
                  <a:lnTo>
                    <a:pt x="83" y="1012"/>
                  </a:lnTo>
                  <a:lnTo>
                    <a:pt x="80" y="1012"/>
                  </a:lnTo>
                  <a:lnTo>
                    <a:pt x="79" y="1013"/>
                  </a:lnTo>
                  <a:lnTo>
                    <a:pt x="76" y="1014"/>
                  </a:lnTo>
                  <a:lnTo>
                    <a:pt x="75" y="1015"/>
                  </a:lnTo>
                  <a:lnTo>
                    <a:pt x="72" y="1015"/>
                  </a:lnTo>
                  <a:lnTo>
                    <a:pt x="71" y="1016"/>
                  </a:lnTo>
                  <a:lnTo>
                    <a:pt x="68" y="1018"/>
                  </a:lnTo>
                  <a:lnTo>
                    <a:pt x="67" y="1018"/>
                  </a:lnTo>
                  <a:lnTo>
                    <a:pt x="64" y="1018"/>
                  </a:lnTo>
                  <a:lnTo>
                    <a:pt x="62" y="1019"/>
                  </a:lnTo>
                  <a:lnTo>
                    <a:pt x="60" y="1019"/>
                  </a:lnTo>
                  <a:lnTo>
                    <a:pt x="58" y="1019"/>
                  </a:lnTo>
                  <a:lnTo>
                    <a:pt x="57" y="1019"/>
                  </a:lnTo>
                  <a:lnTo>
                    <a:pt x="54" y="1019"/>
                  </a:lnTo>
                  <a:lnTo>
                    <a:pt x="53" y="1019"/>
                  </a:lnTo>
                  <a:lnTo>
                    <a:pt x="50" y="1019"/>
                  </a:lnTo>
                  <a:lnTo>
                    <a:pt x="49" y="1019"/>
                  </a:lnTo>
                  <a:lnTo>
                    <a:pt x="46" y="1019"/>
                  </a:lnTo>
                  <a:lnTo>
                    <a:pt x="45" y="1019"/>
                  </a:lnTo>
                  <a:lnTo>
                    <a:pt x="42" y="1019"/>
                  </a:lnTo>
                  <a:lnTo>
                    <a:pt x="41" y="1018"/>
                  </a:lnTo>
                  <a:lnTo>
                    <a:pt x="38" y="1018"/>
                  </a:lnTo>
                  <a:lnTo>
                    <a:pt x="36" y="1018"/>
                  </a:lnTo>
                  <a:lnTo>
                    <a:pt x="34" y="1018"/>
                  </a:lnTo>
                  <a:lnTo>
                    <a:pt x="32" y="1018"/>
                  </a:lnTo>
                  <a:lnTo>
                    <a:pt x="30" y="1016"/>
                  </a:lnTo>
                  <a:lnTo>
                    <a:pt x="28" y="1016"/>
                  </a:lnTo>
                  <a:lnTo>
                    <a:pt x="26" y="1016"/>
                  </a:lnTo>
                  <a:lnTo>
                    <a:pt x="24" y="1016"/>
                  </a:lnTo>
                  <a:lnTo>
                    <a:pt x="22" y="1015"/>
                  </a:lnTo>
                  <a:lnTo>
                    <a:pt x="20" y="1014"/>
                  </a:lnTo>
                  <a:lnTo>
                    <a:pt x="19" y="1013"/>
                  </a:lnTo>
                  <a:lnTo>
                    <a:pt x="16" y="1012"/>
                  </a:lnTo>
                  <a:lnTo>
                    <a:pt x="15" y="1012"/>
                  </a:lnTo>
                  <a:lnTo>
                    <a:pt x="12" y="1010"/>
                  </a:lnTo>
                  <a:lnTo>
                    <a:pt x="9" y="1009"/>
                  </a:lnTo>
                  <a:lnTo>
                    <a:pt x="8" y="1008"/>
                  </a:lnTo>
                  <a:lnTo>
                    <a:pt x="5" y="1007"/>
                  </a:lnTo>
                  <a:lnTo>
                    <a:pt x="4" y="1006"/>
                  </a:lnTo>
                  <a:lnTo>
                    <a:pt x="1" y="1006"/>
                  </a:lnTo>
                  <a:lnTo>
                    <a:pt x="0" y="10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3"/>
            <p:cNvSpPr/>
            <p:nvPr/>
          </p:nvSpPr>
          <p:spPr>
            <a:xfrm>
              <a:off x="2044800" y="3637080"/>
              <a:ext cx="504720" cy="406440"/>
            </a:xfrm>
            <a:custGeom>
              <a:avLst/>
              <a:gdLst/>
              <a:ahLst/>
              <a:rect l="l" t="t" r="r" b="b"/>
              <a:pathLst>
                <a:path w="318" h="256">
                  <a:moveTo>
                    <a:pt x="318" y="256"/>
                  </a:moveTo>
                  <a:lnTo>
                    <a:pt x="316" y="254"/>
                  </a:lnTo>
                  <a:lnTo>
                    <a:pt x="314" y="253"/>
                  </a:lnTo>
                  <a:lnTo>
                    <a:pt x="312" y="252"/>
                  </a:lnTo>
                  <a:lnTo>
                    <a:pt x="310" y="249"/>
                  </a:lnTo>
                  <a:lnTo>
                    <a:pt x="308" y="248"/>
                  </a:lnTo>
                  <a:lnTo>
                    <a:pt x="306" y="247"/>
                  </a:lnTo>
                  <a:lnTo>
                    <a:pt x="304" y="244"/>
                  </a:lnTo>
                  <a:lnTo>
                    <a:pt x="302" y="243"/>
                  </a:lnTo>
                  <a:lnTo>
                    <a:pt x="300" y="242"/>
                  </a:lnTo>
                  <a:lnTo>
                    <a:pt x="297" y="241"/>
                  </a:lnTo>
                  <a:lnTo>
                    <a:pt x="296" y="238"/>
                  </a:lnTo>
                  <a:lnTo>
                    <a:pt x="293" y="237"/>
                  </a:lnTo>
                  <a:lnTo>
                    <a:pt x="292" y="236"/>
                  </a:lnTo>
                  <a:lnTo>
                    <a:pt x="289" y="233"/>
                  </a:lnTo>
                  <a:lnTo>
                    <a:pt x="288" y="231"/>
                  </a:lnTo>
                  <a:lnTo>
                    <a:pt x="285" y="230"/>
                  </a:lnTo>
                  <a:lnTo>
                    <a:pt x="284" y="227"/>
                  </a:lnTo>
                  <a:lnTo>
                    <a:pt x="281" y="226"/>
                  </a:lnTo>
                  <a:lnTo>
                    <a:pt x="280" y="225"/>
                  </a:lnTo>
                  <a:lnTo>
                    <a:pt x="278" y="223"/>
                  </a:lnTo>
                  <a:lnTo>
                    <a:pt x="276" y="220"/>
                  </a:lnTo>
                  <a:lnTo>
                    <a:pt x="274" y="218"/>
                  </a:lnTo>
                  <a:lnTo>
                    <a:pt x="271" y="217"/>
                  </a:lnTo>
                  <a:lnTo>
                    <a:pt x="270" y="214"/>
                  </a:lnTo>
                  <a:lnTo>
                    <a:pt x="267" y="213"/>
                  </a:lnTo>
                  <a:lnTo>
                    <a:pt x="266" y="212"/>
                  </a:lnTo>
                  <a:lnTo>
                    <a:pt x="263" y="211"/>
                  </a:lnTo>
                  <a:lnTo>
                    <a:pt x="262" y="209"/>
                  </a:lnTo>
                  <a:lnTo>
                    <a:pt x="259" y="208"/>
                  </a:lnTo>
                  <a:lnTo>
                    <a:pt x="258" y="206"/>
                  </a:lnTo>
                  <a:lnTo>
                    <a:pt x="255" y="205"/>
                  </a:lnTo>
                  <a:lnTo>
                    <a:pt x="254" y="202"/>
                  </a:lnTo>
                  <a:lnTo>
                    <a:pt x="251" y="201"/>
                  </a:lnTo>
                  <a:lnTo>
                    <a:pt x="250" y="200"/>
                  </a:lnTo>
                  <a:lnTo>
                    <a:pt x="247" y="199"/>
                  </a:lnTo>
                  <a:lnTo>
                    <a:pt x="245" y="197"/>
                  </a:lnTo>
                  <a:lnTo>
                    <a:pt x="243" y="197"/>
                  </a:lnTo>
                  <a:lnTo>
                    <a:pt x="241" y="196"/>
                  </a:lnTo>
                  <a:lnTo>
                    <a:pt x="240" y="195"/>
                  </a:lnTo>
                  <a:lnTo>
                    <a:pt x="237" y="194"/>
                  </a:lnTo>
                  <a:lnTo>
                    <a:pt x="236" y="193"/>
                  </a:lnTo>
                  <a:lnTo>
                    <a:pt x="233" y="190"/>
                  </a:lnTo>
                  <a:lnTo>
                    <a:pt x="232" y="189"/>
                  </a:lnTo>
                  <a:lnTo>
                    <a:pt x="229" y="188"/>
                  </a:lnTo>
                  <a:lnTo>
                    <a:pt x="228" y="187"/>
                  </a:lnTo>
                  <a:lnTo>
                    <a:pt x="225" y="187"/>
                  </a:lnTo>
                  <a:lnTo>
                    <a:pt x="224" y="185"/>
                  </a:lnTo>
                  <a:lnTo>
                    <a:pt x="221" y="185"/>
                  </a:lnTo>
                  <a:lnTo>
                    <a:pt x="219" y="185"/>
                  </a:lnTo>
                  <a:lnTo>
                    <a:pt x="217" y="184"/>
                  </a:lnTo>
                  <a:lnTo>
                    <a:pt x="215" y="184"/>
                  </a:lnTo>
                  <a:lnTo>
                    <a:pt x="213" y="183"/>
                  </a:lnTo>
                  <a:lnTo>
                    <a:pt x="211" y="182"/>
                  </a:lnTo>
                  <a:lnTo>
                    <a:pt x="209" y="181"/>
                  </a:lnTo>
                  <a:lnTo>
                    <a:pt x="207" y="181"/>
                  </a:lnTo>
                  <a:lnTo>
                    <a:pt x="205" y="181"/>
                  </a:lnTo>
                  <a:lnTo>
                    <a:pt x="203" y="179"/>
                  </a:lnTo>
                  <a:lnTo>
                    <a:pt x="201" y="179"/>
                  </a:lnTo>
                  <a:lnTo>
                    <a:pt x="199" y="179"/>
                  </a:lnTo>
                  <a:lnTo>
                    <a:pt x="198" y="178"/>
                  </a:lnTo>
                  <a:lnTo>
                    <a:pt x="195" y="178"/>
                  </a:lnTo>
                  <a:lnTo>
                    <a:pt x="192" y="178"/>
                  </a:lnTo>
                  <a:lnTo>
                    <a:pt x="191" y="177"/>
                  </a:lnTo>
                  <a:lnTo>
                    <a:pt x="188" y="178"/>
                  </a:lnTo>
                  <a:lnTo>
                    <a:pt x="187" y="178"/>
                  </a:lnTo>
                  <a:lnTo>
                    <a:pt x="184" y="178"/>
                  </a:lnTo>
                  <a:lnTo>
                    <a:pt x="183" y="178"/>
                  </a:lnTo>
                  <a:lnTo>
                    <a:pt x="181" y="178"/>
                  </a:lnTo>
                  <a:lnTo>
                    <a:pt x="179" y="177"/>
                  </a:lnTo>
                  <a:lnTo>
                    <a:pt x="177" y="177"/>
                  </a:lnTo>
                  <a:lnTo>
                    <a:pt x="175" y="177"/>
                  </a:lnTo>
                  <a:lnTo>
                    <a:pt x="173" y="177"/>
                  </a:lnTo>
                  <a:lnTo>
                    <a:pt x="171" y="177"/>
                  </a:lnTo>
                  <a:lnTo>
                    <a:pt x="169" y="177"/>
                  </a:lnTo>
                  <a:lnTo>
                    <a:pt x="166" y="177"/>
                  </a:lnTo>
                  <a:lnTo>
                    <a:pt x="165" y="177"/>
                  </a:lnTo>
                  <a:lnTo>
                    <a:pt x="162" y="177"/>
                  </a:lnTo>
                  <a:lnTo>
                    <a:pt x="161" y="177"/>
                  </a:lnTo>
                  <a:lnTo>
                    <a:pt x="158" y="177"/>
                  </a:lnTo>
                  <a:lnTo>
                    <a:pt x="157" y="177"/>
                  </a:lnTo>
                  <a:lnTo>
                    <a:pt x="154" y="177"/>
                  </a:lnTo>
                  <a:lnTo>
                    <a:pt x="153" y="176"/>
                  </a:lnTo>
                  <a:lnTo>
                    <a:pt x="150" y="176"/>
                  </a:lnTo>
                  <a:lnTo>
                    <a:pt x="149" y="176"/>
                  </a:lnTo>
                  <a:lnTo>
                    <a:pt x="146" y="176"/>
                  </a:lnTo>
                  <a:lnTo>
                    <a:pt x="145" y="176"/>
                  </a:lnTo>
                  <a:lnTo>
                    <a:pt x="142" y="174"/>
                  </a:lnTo>
                  <a:lnTo>
                    <a:pt x="140" y="173"/>
                  </a:lnTo>
                  <a:lnTo>
                    <a:pt x="139" y="172"/>
                  </a:lnTo>
                  <a:lnTo>
                    <a:pt x="136" y="171"/>
                  </a:lnTo>
                  <a:lnTo>
                    <a:pt x="135" y="170"/>
                  </a:lnTo>
                  <a:lnTo>
                    <a:pt x="132" y="168"/>
                  </a:lnTo>
                  <a:lnTo>
                    <a:pt x="131" y="166"/>
                  </a:lnTo>
                  <a:lnTo>
                    <a:pt x="128" y="165"/>
                  </a:lnTo>
                  <a:lnTo>
                    <a:pt x="127" y="164"/>
                  </a:lnTo>
                  <a:lnTo>
                    <a:pt x="124" y="162"/>
                  </a:lnTo>
                  <a:lnTo>
                    <a:pt x="123" y="161"/>
                  </a:lnTo>
                  <a:lnTo>
                    <a:pt x="120" y="159"/>
                  </a:lnTo>
                  <a:lnTo>
                    <a:pt x="119" y="156"/>
                  </a:lnTo>
                  <a:lnTo>
                    <a:pt x="116" y="155"/>
                  </a:lnTo>
                  <a:lnTo>
                    <a:pt x="114" y="154"/>
                  </a:lnTo>
                  <a:lnTo>
                    <a:pt x="112" y="152"/>
                  </a:lnTo>
                  <a:lnTo>
                    <a:pt x="110" y="149"/>
                  </a:lnTo>
                  <a:lnTo>
                    <a:pt x="108" y="147"/>
                  </a:lnTo>
                  <a:lnTo>
                    <a:pt x="106" y="144"/>
                  </a:lnTo>
                  <a:lnTo>
                    <a:pt x="104" y="143"/>
                  </a:lnTo>
                  <a:lnTo>
                    <a:pt x="102" y="141"/>
                  </a:lnTo>
                  <a:lnTo>
                    <a:pt x="101" y="138"/>
                  </a:lnTo>
                  <a:lnTo>
                    <a:pt x="98" y="136"/>
                  </a:lnTo>
                  <a:lnTo>
                    <a:pt x="97" y="134"/>
                  </a:lnTo>
                  <a:lnTo>
                    <a:pt x="94" y="131"/>
                  </a:lnTo>
                  <a:lnTo>
                    <a:pt x="93" y="129"/>
                  </a:lnTo>
                  <a:lnTo>
                    <a:pt x="90" y="125"/>
                  </a:lnTo>
                  <a:lnTo>
                    <a:pt x="87" y="123"/>
                  </a:lnTo>
                  <a:lnTo>
                    <a:pt x="86" y="119"/>
                  </a:lnTo>
                  <a:lnTo>
                    <a:pt x="83" y="116"/>
                  </a:lnTo>
                  <a:lnTo>
                    <a:pt x="82" y="112"/>
                  </a:lnTo>
                  <a:lnTo>
                    <a:pt x="80" y="108"/>
                  </a:lnTo>
                  <a:lnTo>
                    <a:pt x="78" y="105"/>
                  </a:lnTo>
                  <a:lnTo>
                    <a:pt x="76" y="101"/>
                  </a:lnTo>
                  <a:lnTo>
                    <a:pt x="74" y="97"/>
                  </a:lnTo>
                  <a:lnTo>
                    <a:pt x="72" y="94"/>
                  </a:lnTo>
                  <a:lnTo>
                    <a:pt x="70" y="90"/>
                  </a:lnTo>
                  <a:lnTo>
                    <a:pt x="68" y="85"/>
                  </a:lnTo>
                  <a:lnTo>
                    <a:pt x="66" y="82"/>
                  </a:lnTo>
                  <a:lnTo>
                    <a:pt x="64" y="77"/>
                  </a:lnTo>
                  <a:lnTo>
                    <a:pt x="61" y="71"/>
                  </a:lnTo>
                  <a:lnTo>
                    <a:pt x="60" y="67"/>
                  </a:lnTo>
                  <a:lnTo>
                    <a:pt x="57" y="63"/>
                  </a:lnTo>
                  <a:lnTo>
                    <a:pt x="56" y="58"/>
                  </a:lnTo>
                  <a:lnTo>
                    <a:pt x="53" y="53"/>
                  </a:lnTo>
                  <a:lnTo>
                    <a:pt x="52" y="48"/>
                  </a:lnTo>
                  <a:lnTo>
                    <a:pt x="49" y="46"/>
                  </a:lnTo>
                  <a:lnTo>
                    <a:pt x="48" y="42"/>
                  </a:lnTo>
                  <a:lnTo>
                    <a:pt x="45" y="40"/>
                  </a:lnTo>
                  <a:lnTo>
                    <a:pt x="44" y="36"/>
                  </a:lnTo>
                  <a:lnTo>
                    <a:pt x="42" y="34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4" y="24"/>
                  </a:lnTo>
                  <a:lnTo>
                    <a:pt x="31" y="23"/>
                  </a:lnTo>
                  <a:lnTo>
                    <a:pt x="30" y="20"/>
                  </a:lnTo>
                  <a:lnTo>
                    <a:pt x="27" y="18"/>
                  </a:lnTo>
                  <a:lnTo>
                    <a:pt x="26" y="17"/>
                  </a:lnTo>
                  <a:lnTo>
                    <a:pt x="23" y="16"/>
                  </a:lnTo>
                  <a:lnTo>
                    <a:pt x="22" y="14"/>
                  </a:lnTo>
                  <a:lnTo>
                    <a:pt x="19" y="12"/>
                  </a:lnTo>
                  <a:lnTo>
                    <a:pt x="18" y="10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1" y="7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36"/>
          <p:cNvSpPr/>
          <p:nvPr/>
        </p:nvSpPr>
        <p:spPr>
          <a:xfrm>
            <a:off x="3803760" y="4964040"/>
            <a:ext cx="135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avenumber(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086800" y="493380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8"/>
          <p:cNvSpPr/>
          <p:nvPr/>
        </p:nvSpPr>
        <p:spPr>
          <a:xfrm>
            <a:off x="5184000" y="49640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332800" y="3286080"/>
            <a:ext cx="684360" cy="241920"/>
            <a:chOff x="2332800" y="3286080"/>
            <a:chExt cx="684360" cy="241920"/>
          </a:xfrm>
        </p:grpSpPr>
        <p:sp>
          <p:nvSpPr>
            <p:cNvPr id="149" name="Rectangle 34"/>
            <p:cNvSpPr/>
            <p:nvPr/>
          </p:nvSpPr>
          <p:spPr>
            <a:xfrm>
              <a:off x="2332800" y="331452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3140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5"/>
            <p:cNvSpPr/>
            <p:nvPr/>
          </p:nvSpPr>
          <p:spPr>
            <a:xfrm>
              <a:off x="2926440" y="32860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630520" y="3530160"/>
            <a:ext cx="42840" cy="522360"/>
            <a:chOff x="2630520" y="3530160"/>
            <a:chExt cx="42840" cy="522360"/>
          </a:xfrm>
        </p:grpSpPr>
        <p:sp>
          <p:nvSpPr>
            <p:cNvPr id="152" name="Line 39"/>
            <p:cNvSpPr/>
            <p:nvPr/>
          </p:nvSpPr>
          <p:spPr>
            <a:xfrm flipV="1">
              <a:off x="2635200" y="3530160"/>
              <a:ext cx="19080" cy="52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2630520" y="3530520"/>
              <a:ext cx="42840" cy="810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5" y="0"/>
                  </a:moveTo>
                  <a:lnTo>
                    <a:pt x="27" y="51"/>
                  </a:lnTo>
                  <a:lnTo>
                    <a:pt x="13" y="51"/>
                  </a:lnTo>
                  <a:lnTo>
                    <a:pt x="0" y="5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450040" y="3530520"/>
            <a:ext cx="41040" cy="312840"/>
            <a:chOff x="5450040" y="3530520"/>
            <a:chExt cx="41040" cy="312840"/>
          </a:xfrm>
        </p:grpSpPr>
        <p:sp>
          <p:nvSpPr>
            <p:cNvPr id="155" name="Line 41"/>
            <p:cNvSpPr/>
            <p:nvPr/>
          </p:nvSpPr>
          <p:spPr>
            <a:xfrm>
              <a:off x="5470560" y="3530520"/>
              <a:ext cx="0" cy="28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2"/>
            <p:cNvSpPr/>
            <p:nvPr/>
          </p:nvSpPr>
          <p:spPr>
            <a:xfrm>
              <a:off x="5450040" y="376092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13" y="52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1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218920" y="3882960"/>
            <a:ext cx="684360" cy="241920"/>
            <a:chOff x="5218920" y="3882960"/>
            <a:chExt cx="684360" cy="241920"/>
          </a:xfrm>
        </p:grpSpPr>
        <p:sp>
          <p:nvSpPr>
            <p:cNvPr id="158" name="Rectangle 43"/>
            <p:cNvSpPr/>
            <p:nvPr/>
          </p:nvSpPr>
          <p:spPr>
            <a:xfrm>
              <a:off x="5218920" y="39114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1443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4"/>
            <p:cNvSpPr/>
            <p:nvPr/>
          </p:nvSpPr>
          <p:spPr>
            <a:xfrm>
              <a:off x="5812560" y="38829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962600" y="3081240"/>
            <a:ext cx="195120" cy="319320"/>
            <a:chOff x="4962600" y="3081240"/>
            <a:chExt cx="195120" cy="319320"/>
          </a:xfrm>
        </p:grpSpPr>
        <p:sp>
          <p:nvSpPr>
            <p:cNvPr id="161" name="Line 45"/>
            <p:cNvSpPr/>
            <p:nvPr/>
          </p:nvSpPr>
          <p:spPr>
            <a:xfrm flipH="1">
              <a:off x="4962600" y="3081240"/>
              <a:ext cx="195120" cy="31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962600" y="3319560"/>
              <a:ext cx="61920" cy="8100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51"/>
                  </a:moveTo>
                  <a:lnTo>
                    <a:pt x="16" y="0"/>
                  </a:lnTo>
                  <a:lnTo>
                    <a:pt x="27" y="6"/>
                  </a:lnTo>
                  <a:lnTo>
                    <a:pt x="39" y="1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663440" y="3417840"/>
            <a:ext cx="682560" cy="241920"/>
            <a:chOff x="4663440" y="3417840"/>
            <a:chExt cx="682560" cy="241920"/>
          </a:xfrm>
        </p:grpSpPr>
        <p:sp>
          <p:nvSpPr>
            <p:cNvPr id="164" name="Rectangle 47"/>
            <p:cNvSpPr/>
            <p:nvPr/>
          </p:nvSpPr>
          <p:spPr>
            <a:xfrm>
              <a:off x="4663440" y="344628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1630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8"/>
            <p:cNvSpPr/>
            <p:nvPr/>
          </p:nvSpPr>
          <p:spPr>
            <a:xfrm>
              <a:off x="5255280" y="34178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24520" y="1812600"/>
            <a:ext cx="312480" cy="801720"/>
            <a:chOff x="5024520" y="1812600"/>
            <a:chExt cx="312480" cy="801720"/>
          </a:xfrm>
        </p:grpSpPr>
        <p:sp>
          <p:nvSpPr>
            <p:cNvPr id="167" name="Line 49"/>
            <p:cNvSpPr/>
            <p:nvPr/>
          </p:nvSpPr>
          <p:spPr>
            <a:xfrm flipH="1" flipV="1">
              <a:off x="5024520" y="1812600"/>
              <a:ext cx="312480" cy="80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0"/>
            <p:cNvSpPr/>
            <p:nvPr/>
          </p:nvSpPr>
          <p:spPr>
            <a:xfrm>
              <a:off x="5024520" y="1812960"/>
              <a:ext cx="50760" cy="838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0"/>
                  </a:moveTo>
                  <a:lnTo>
                    <a:pt x="32" y="44"/>
                  </a:lnTo>
                  <a:lnTo>
                    <a:pt x="19" y="48"/>
                  </a:lnTo>
                  <a:lnTo>
                    <a:pt x="7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936680" y="1631880"/>
            <a:ext cx="730080" cy="241920"/>
            <a:chOff x="4936680" y="1631880"/>
            <a:chExt cx="730080" cy="241920"/>
          </a:xfrm>
        </p:grpSpPr>
        <p:sp>
          <p:nvSpPr>
            <p:cNvPr id="170" name="Rectangle 51"/>
            <p:cNvSpPr/>
            <p:nvPr/>
          </p:nvSpPr>
          <p:spPr>
            <a:xfrm>
              <a:off x="4936680" y="166032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1560 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2"/>
            <p:cNvSpPr/>
            <p:nvPr/>
          </p:nvSpPr>
          <p:spPr>
            <a:xfrm>
              <a:off x="5576040" y="16318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532560" y="3292560"/>
            <a:ext cx="76320" cy="420480"/>
            <a:chOff x="6532560" y="3292560"/>
            <a:chExt cx="76320" cy="420480"/>
          </a:xfrm>
        </p:grpSpPr>
        <p:sp>
          <p:nvSpPr>
            <p:cNvPr id="173" name="Line 53"/>
            <p:cNvSpPr/>
            <p:nvPr/>
          </p:nvSpPr>
          <p:spPr>
            <a:xfrm>
              <a:off x="6532560" y="3292560"/>
              <a:ext cx="70200" cy="39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4"/>
            <p:cNvSpPr/>
            <p:nvPr/>
          </p:nvSpPr>
          <p:spPr>
            <a:xfrm>
              <a:off x="6567480" y="3629160"/>
              <a:ext cx="41400" cy="8388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2" y="53"/>
                  </a:moveTo>
                  <a:lnTo>
                    <a:pt x="0" y="4"/>
                  </a:lnTo>
                  <a:lnTo>
                    <a:pt x="13" y="3"/>
                  </a:lnTo>
                  <a:lnTo>
                    <a:pt x="26" y="0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06720" y="3736800"/>
            <a:ext cx="590400" cy="243360"/>
            <a:chOff x="6606720" y="3736800"/>
            <a:chExt cx="590400" cy="243360"/>
          </a:xfrm>
        </p:grpSpPr>
        <p:sp>
          <p:nvSpPr>
            <p:cNvPr id="176" name="Rectangle 55"/>
            <p:cNvSpPr/>
            <p:nvPr/>
          </p:nvSpPr>
          <p:spPr>
            <a:xfrm>
              <a:off x="6606720" y="376668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800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6"/>
            <p:cNvSpPr/>
            <p:nvPr/>
          </p:nvSpPr>
          <p:spPr>
            <a:xfrm>
              <a:off x="7106400" y="373680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矩形 19"/>
          <p:cNvSpPr/>
          <p:nvPr/>
        </p:nvSpPr>
        <p:spPr>
          <a:xfrm>
            <a:off x="2741760" y="5807160"/>
            <a:ext cx="25952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2"/>
          <p:cNvSpPr/>
          <p:nvPr/>
        </p:nvSpPr>
        <p:spPr>
          <a:xfrm>
            <a:off x="2768760" y="6137280"/>
            <a:ext cx="25952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3"/>
          <p:cNvSpPr/>
          <p:nvPr/>
        </p:nvSpPr>
        <p:spPr>
          <a:xfrm>
            <a:off x="5343480" y="5445000"/>
            <a:ext cx="32958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4"/>
          <p:cNvSpPr/>
          <p:nvPr/>
        </p:nvSpPr>
        <p:spPr>
          <a:xfrm>
            <a:off x="5410080" y="5819760"/>
            <a:ext cx="32292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5"/>
          <p:cNvSpPr/>
          <p:nvPr/>
        </p:nvSpPr>
        <p:spPr>
          <a:xfrm>
            <a:off x="5376960" y="6165720"/>
            <a:ext cx="32623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4" descr=""/>
          <p:cNvPicPr/>
          <p:nvPr/>
        </p:nvPicPr>
        <p:blipFill>
          <a:blip r:embed="rId1"/>
          <a:stretch/>
        </p:blipFill>
        <p:spPr>
          <a:xfrm>
            <a:off x="279360" y="257040"/>
            <a:ext cx="2212920" cy="749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6" descr=""/>
          <p:cNvPicPr/>
          <p:nvPr/>
        </p:nvPicPr>
        <p:blipFill>
          <a:blip r:embed="rId2"/>
          <a:stretch/>
        </p:blipFill>
        <p:spPr>
          <a:xfrm>
            <a:off x="501480" y="5649840"/>
            <a:ext cx="21718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2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8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1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6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9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4"/>
          <p:cNvSpPr/>
          <p:nvPr/>
        </p:nvSpPr>
        <p:spPr>
          <a:xfrm rot="19197600">
            <a:off x="-52200" y="22500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彩云"/>
                <a:ea typeface="华文彩云"/>
              </a:rPr>
              <a:t>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3040" y="1019160"/>
            <a:ext cx="1652760" cy="368280"/>
            <a:chOff x="473040" y="1019160"/>
            <a:chExt cx="1652760" cy="368280"/>
          </a:xfrm>
        </p:grpSpPr>
        <p:sp>
          <p:nvSpPr>
            <p:cNvPr id="187" name="圆角矩形 10"/>
            <p:cNvSpPr/>
            <p:nvPr/>
          </p:nvSpPr>
          <p:spPr>
            <a:xfrm>
              <a:off x="473040" y="1019160"/>
              <a:ext cx="1652760" cy="3391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1"/>
            <p:cNvSpPr/>
            <p:nvPr/>
          </p:nvSpPr>
          <p:spPr>
            <a:xfrm>
              <a:off x="858240" y="1019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溶解性测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表格 2" descr=""/>
          <p:cNvPicPr/>
          <p:nvPr/>
        </p:nvPicPr>
        <p:blipFill>
          <a:blip r:embed="rId1"/>
          <a:stretch/>
        </p:blipFill>
        <p:spPr>
          <a:xfrm>
            <a:off x="480960" y="2749680"/>
            <a:ext cx="8236080" cy="2492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4" descr=""/>
          <p:cNvPicPr/>
          <p:nvPr/>
        </p:nvPicPr>
        <p:blipFill>
          <a:blip r:embed="rId2"/>
          <a:stretch/>
        </p:blipFill>
        <p:spPr>
          <a:xfrm>
            <a:off x="279360" y="257040"/>
            <a:ext cx="221292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1"/>
          <p:cNvSpPr/>
          <p:nvPr/>
        </p:nvSpPr>
        <p:spPr>
          <a:xfrm rot="19197600">
            <a:off x="-52200" y="22500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彩云"/>
                <a:ea typeface="华文彩云"/>
              </a:rPr>
              <a:t>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组合 8" descr=""/>
          <p:cNvPicPr/>
          <p:nvPr/>
        </p:nvPicPr>
        <p:blipFill>
          <a:blip r:embed="rId1"/>
          <a:stretch/>
        </p:blipFill>
        <p:spPr>
          <a:xfrm>
            <a:off x="438120" y="2395440"/>
            <a:ext cx="3878280" cy="2938680"/>
          </a:xfrm>
          <a:prstGeom prst="rect">
            <a:avLst/>
          </a:prstGeom>
          <a:ln w="0">
            <a:noFill/>
          </a:ln>
        </p:spPr>
      </p:pic>
      <p:pic>
        <p:nvPicPr>
          <p:cNvPr id="193" name="组合 7" descr=""/>
          <p:cNvPicPr/>
          <p:nvPr/>
        </p:nvPicPr>
        <p:blipFill>
          <a:blip r:embed="rId2"/>
          <a:stretch/>
        </p:blipFill>
        <p:spPr>
          <a:xfrm>
            <a:off x="4632480" y="2395440"/>
            <a:ext cx="4206600" cy="29624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3040" y="1019160"/>
            <a:ext cx="1652760" cy="368280"/>
            <a:chOff x="473040" y="1019160"/>
            <a:chExt cx="1652760" cy="368280"/>
          </a:xfrm>
        </p:grpSpPr>
        <p:sp>
          <p:nvSpPr>
            <p:cNvPr id="195" name="圆角矩形 24"/>
            <p:cNvSpPr/>
            <p:nvPr/>
          </p:nvSpPr>
          <p:spPr>
            <a:xfrm>
              <a:off x="473040" y="1019160"/>
              <a:ext cx="1652760" cy="3391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5"/>
            <p:cNvSpPr/>
            <p:nvPr/>
          </p:nvSpPr>
          <p:spPr>
            <a:xfrm>
              <a:off x="858240" y="1019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溶解性测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64" descr=""/>
          <p:cNvPicPr/>
          <p:nvPr/>
        </p:nvPicPr>
        <p:blipFill>
          <a:blip r:embed="rId3"/>
          <a:stretch/>
        </p:blipFill>
        <p:spPr>
          <a:xfrm>
            <a:off x="279360" y="257040"/>
            <a:ext cx="221292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08:28:57Z</dcterms:created>
  <dc:creator>Paralife</dc:creator>
  <dc:description/>
  <dc:language>en-US</dc:language>
  <cp:lastModifiedBy>a</cp:lastModifiedBy>
  <dcterms:modified xsi:type="dcterms:W3CDTF">2015-06-13T08:53:57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