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4916-C4F7-476B-B123-F9C57C09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211D-A0FD-4B1C-A3F8-29578E19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4624-AED8-4622-8EE7-B7EC694E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E75F-7781-4572-8B9F-16428865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FCBF-63FD-43C9-8B60-A15FEBBC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AACE-7B5B-40D9-B67F-D241A868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115C-3CBC-4DE3-B9E4-BAE3D17D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F5B5-9B4A-4274-A6F2-087231AB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A0A0-4FE9-4D88-8789-C71538FE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6F20-6C91-44D9-ACFB-6A6E5EA2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D062-6262-4D45-993E-14D464E5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A2B6-4456-4120-AF7C-17A8CFF4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13B0-F547-43C1-9F4F-018F6545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E4FC-F1CD-48D1-BC7E-46266143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788A-2CB6-4F4C-ADF9-79D13F38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54E8-6E3A-48BC-A54B-14DEADB3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0BC3-BD32-4C4A-85B6-CFCD1D00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0C4A-A8B1-4001-9E16-AD7A9A72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F334-D7CB-406D-B540-72F13900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F01F-B482-4EC6-B704-02C8F4AD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9109-25CC-49C9-BBB7-F7478641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1A2C-01CC-4AFB-9946-D31B421F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622D-E3AE-4948-BC95-8DE7EDF4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90E3-49C0-4193-B4D4-7F735AC7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8961-9E0D-46CC-ACDC-BBB34D4F9F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2720" y="4581000"/>
            <a:ext cx="777240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476A-9EEE-4201-B246-6BB5710FE0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hyperlink" Target="http://www.eeppt.com/moban/yundong/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2720" y="4581000"/>
            <a:ext cx="777240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32000" y="5445000"/>
            <a:ext cx="6400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占位符 12" descr="sports042.jpg"/>
          <p:cNvPicPr/>
          <p:nvPr/>
        </p:nvPicPr>
        <p:blipFill>
          <a:blip r:embed="rId1"/>
          <a:srcRect l="14550" t="0" r="7275" b="0"/>
          <a:stretch/>
        </p:blipFill>
        <p:spPr>
          <a:xfrm>
            <a:off x="0" y="1000080"/>
            <a:ext cx="3071880" cy="39290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87" name="图片占位符 8" descr="sports043.jpg"/>
          <p:cNvPicPr/>
          <p:nvPr/>
        </p:nvPicPr>
        <p:blipFill>
          <a:blip r:embed="rId2"/>
          <a:srcRect l="0" t="0" r="1733" b="14644"/>
          <a:stretch/>
        </p:blipFill>
        <p:spPr>
          <a:xfrm>
            <a:off x="3143160" y="1000080"/>
            <a:ext cx="2928960" cy="39290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88" name="图片占位符 9" descr="sports041.jpg"/>
          <p:cNvPicPr/>
          <p:nvPr/>
        </p:nvPicPr>
        <p:blipFill>
          <a:blip r:embed="rId3"/>
          <a:srcRect l="47295" t="0" r="7276" b="0"/>
          <a:stretch/>
        </p:blipFill>
        <p:spPr>
          <a:xfrm>
            <a:off x="6143760" y="1000080"/>
            <a:ext cx="1785960" cy="39290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89" name="图片占位符 10" descr="sports043.jpg"/>
          <p:cNvPicPr/>
          <p:nvPr/>
        </p:nvPicPr>
        <p:blipFill>
          <a:blip r:embed="rId4"/>
          <a:srcRect l="48091" t="0" r="8215" b="0"/>
          <a:stretch/>
        </p:blipFill>
        <p:spPr>
          <a:xfrm>
            <a:off x="8001000" y="1006560"/>
            <a:ext cx="1143000" cy="39290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90" name="TextBox 16"/>
          <p:cNvSpPr/>
          <p:nvPr/>
        </p:nvSpPr>
        <p:spPr>
          <a:xfrm>
            <a:off x="714240" y="5159520"/>
            <a:ext cx="6715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占位符 7" descr="familysea024.jpg"/>
          <p:cNvPicPr/>
          <p:nvPr/>
        </p:nvPicPr>
        <p:blipFill>
          <a:blip r:embed="rId1"/>
          <a:stretch/>
        </p:blipFill>
        <p:spPr>
          <a:xfrm>
            <a:off x="530280" y="2041560"/>
            <a:ext cx="3182760" cy="3200400"/>
          </a:xfrm>
          <a:prstGeom prst="rect">
            <a:avLst/>
          </a:prstGeom>
          <a:ln w="0">
            <a:noFill/>
          </a:ln>
        </p:spPr>
      </p:pic>
      <p:pic>
        <p:nvPicPr>
          <p:cNvPr id="92" name="图片占位符 8" descr="familysea022.jpg"/>
          <p:cNvPicPr/>
          <p:nvPr/>
        </p:nvPicPr>
        <p:blipFill>
          <a:blip r:embed="rId2"/>
          <a:stretch/>
        </p:blipFill>
        <p:spPr>
          <a:xfrm>
            <a:off x="2554200" y="378000"/>
            <a:ext cx="3181320" cy="3182760"/>
          </a:xfrm>
          <a:prstGeom prst="rect">
            <a:avLst/>
          </a:prstGeom>
          <a:ln w="0">
            <a:noFill/>
          </a:ln>
        </p:spPr>
      </p:pic>
      <p:pic>
        <p:nvPicPr>
          <p:cNvPr id="93" name="图片占位符 10" descr="familysea034.jpg"/>
          <p:cNvPicPr/>
          <p:nvPr/>
        </p:nvPicPr>
        <p:blipFill>
          <a:blip r:embed="rId3"/>
          <a:stretch/>
        </p:blipFill>
        <p:spPr>
          <a:xfrm>
            <a:off x="5175360" y="1395360"/>
            <a:ext cx="3627360" cy="2981520"/>
          </a:xfrm>
          <a:prstGeom prst="rect">
            <a:avLst/>
          </a:prstGeom>
          <a:ln w="0">
            <a:noFill/>
          </a:ln>
        </p:spPr>
      </p:pic>
      <p:pic>
        <p:nvPicPr>
          <p:cNvPr id="94" name="图片占位符 13" descr="familysea037.jpg"/>
          <p:cNvPicPr/>
          <p:nvPr/>
        </p:nvPicPr>
        <p:blipFill>
          <a:blip r:embed="rId4"/>
          <a:stretch/>
        </p:blipFill>
        <p:spPr>
          <a:xfrm>
            <a:off x="2603520" y="3328920"/>
            <a:ext cx="2846520" cy="2846520"/>
          </a:xfrm>
          <a:prstGeom prst="rect">
            <a:avLst/>
          </a:prstGeom>
          <a:ln w="0">
            <a:noFill/>
          </a:ln>
        </p:spPr>
      </p:pic>
      <p:sp>
        <p:nvSpPr>
          <p:cNvPr id="95" name="TextBox 15"/>
          <p:cNvSpPr/>
          <p:nvPr/>
        </p:nvSpPr>
        <p:spPr>
          <a:xfrm flipH="1">
            <a:off x="6143760" y="578340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6310440"/>
            <a:ext cx="635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运动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yundo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276720" y="5157720"/>
            <a:ext cx="2593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38160" dir="5400000" blurRad="0" rotWithShape="0">
                    <a:srgbClr val="4d4d4d">
                      <a:alpha val="77000"/>
                    </a:srgbClr>
                  </a:outerShdw>
                </a:effectLst>
                <a:latin typeface="黑体"/>
              </a:rPr>
              <a:t>谢谢欣赏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38160" dir="5400000" blurRad="0" rotWithShape="0">
                  <a:srgbClr val="4d4d4d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383D-D133-4880-832C-8EEB60434E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6:59:53Z</dcterms:created>
  <dc:creator/>
  <dc:description/>
  <dc:language>en-US</dc:language>
  <cp:lastModifiedBy>a</cp:lastModifiedBy>
  <dcterms:modified xsi:type="dcterms:W3CDTF">2015-06-13T11:46:38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