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3765-72AB-41E8-A03C-A35EA445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DC98-356C-4778-A4D1-12A7537B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77D0-4623-43E9-B737-4DE8588B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F141-BF45-4581-BD2E-0E9F7D32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09B1-E53C-4257-A5EB-20FA55DE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3D25-BA19-41E3-9129-17B7A165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3492-6E47-45AE-B7AB-B1799615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0436-F71B-4F1C-8C1A-B14AA84D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5D87-3995-4485-998E-A65C131B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D764-D82D-475B-B2F5-0E6EA802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B6D9-FD53-48B2-ABAA-84FF8120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CF55-9D2F-45E9-8C87-32FA39B7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A60B-8148-482A-8870-FA0C2020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BC9B-979B-4F35-A77E-09D96B38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F027-6436-4F18-99EF-57E580D5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6412-6B61-46B6-8BC2-757D0C67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27BE-7211-4609-89B4-07DB4377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481E-4F3D-4947-A869-4A86F449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5339-F873-46E3-84F2-D996F12E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5116-48C8-4282-9D59-C5C5A8AE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D1B2-FFB5-4B03-80AD-7052329A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00D5-62AA-4556-B4ED-FF57B99E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8700-0550-4683-94A8-38EFAEB5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309C-10DA-4FD7-AC9E-8697C322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31B4-F7F2-4C48-986D-96A34270EA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7DB0-A3DD-4DB1-8DC0-52276F556C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D482-10C1-44E5-A731-E38F7EF91C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A258-B6C4-45A9-95D7-64A1D6E34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1" descr="image67.png"/>
          <p:cNvPicPr/>
          <p:nvPr/>
        </p:nvPicPr>
        <p:blipFill>
          <a:blip r:embed="rId1"/>
          <a:stretch/>
        </p:blipFill>
        <p:spPr>
          <a:xfrm>
            <a:off x="0" y="37944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7:2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