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A82-F57C-4663-8D0F-7A0D95C9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C80-F02A-4691-B54D-D7AD46F2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EFF-84B8-40F2-985D-461FDCD5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A4D-E864-4263-8A65-77461BA1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A02-E25F-4C87-A667-012F3D31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B46-03C6-4D3B-931F-8437DA75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C7B-2BC0-4FCC-8282-E1246F5E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F85-CA22-4ED5-963B-9F5FEDC6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454-1E82-4E8F-9DAB-EB374A5F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A0D-AE4D-4F73-B3A0-CDF8CA2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1D6-BAFF-4E5B-9EE1-A3909A3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244-AA54-4554-8B16-F37559E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FC2E-C8D7-4ACB-AE80-E2F4A176A2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7C5-BDD1-4272-9602-F15A48D19A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"/>
          <p:cNvSpPr/>
          <p:nvPr/>
        </p:nvSpPr>
        <p:spPr>
          <a:xfrm>
            <a:off x="3786120" y="4071960"/>
            <a:ext cx="4714920" cy="20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交叉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5"/>
          <p:cNvSpPr/>
          <p:nvPr/>
        </p:nvSpPr>
        <p:spPr>
          <a:xfrm>
            <a:off x="714240" y="4071960"/>
            <a:ext cx="4714920" cy="20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"/>
          <p:cNvSpPr/>
          <p:nvPr/>
        </p:nvSpPr>
        <p:spPr>
          <a:xfrm>
            <a:off x="714240" y="4071960"/>
            <a:ext cx="4714920" cy="2000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3786120" y="4071960"/>
            <a:ext cx="4714920" cy="2000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3786120" y="4286160"/>
            <a:ext cx="1643040" cy="15717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9"/>
          <p:cNvSpPr/>
          <p:nvPr/>
        </p:nvSpPr>
        <p:spPr>
          <a:xfrm>
            <a:off x="3500280" y="1928880"/>
            <a:ext cx="21434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箭头连接符 10"/>
          <p:cNvCxnSpPr/>
          <p:nvPr/>
        </p:nvCxnSpPr>
        <p:spPr>
          <a:xfrm flipH="1">
            <a:off x="4570200" y="3071880"/>
            <a:ext cx="216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圆角矩形 11"/>
          <p:cNvSpPr/>
          <p:nvPr/>
        </p:nvSpPr>
        <p:spPr>
          <a:xfrm>
            <a:off x="1071720" y="228600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2"/>
          <p:cNvSpPr/>
          <p:nvPr/>
        </p:nvSpPr>
        <p:spPr>
          <a:xfrm>
            <a:off x="5929200" y="235728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直接箭头连接符 13"/>
          <p:cNvCxnSpPr/>
          <p:nvPr/>
        </p:nvCxnSpPr>
        <p:spPr>
          <a:xfrm>
            <a:off x="2142000" y="3428640"/>
            <a:ext cx="50076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直接箭头连接符 14"/>
          <p:cNvCxnSpPr/>
          <p:nvPr/>
        </p:nvCxnSpPr>
        <p:spPr>
          <a:xfrm flipH="1">
            <a:off x="6286320" y="3498840"/>
            <a:ext cx="714960" cy="121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E29-E093-4DC7-A1E3-A8AFB3186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7:2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