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B17D-E847-484D-BC6C-232D04467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6C86-3E2D-4533-A98E-94EADAA7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5CEA-794C-4831-9B82-8E37AE589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214B-433F-46D3-9B88-A2C2832A6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524C-F9A6-4708-B471-F39E0749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0771-208B-4E6D-9AF1-B99DE509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8182-6388-4CFC-818B-2CCFC5E5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7C0B-B350-4C55-864C-1B9A0684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FA21-138C-46FD-B05B-A13FD60A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A77E-7631-44E8-9C1B-51057333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3B32-5DE9-4700-A37E-74E85502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4252-0FF7-447F-84CC-F60BC228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D50D-2D9E-4E3C-B88A-B5BEB472044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932C-BAEB-420D-AF17-2B125EE3CB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"/>
          <p:cNvGrpSpPr/>
          <p:nvPr/>
        </p:nvGrpSpPr>
        <p:grpSpPr>
          <a:xfrm>
            <a:off x="1187280" y="1989000"/>
            <a:ext cx="6320160" cy="2630520"/>
            <a:chOff x="1187280" y="1989000"/>
            <a:chExt cx="6320160" cy="2630520"/>
          </a:xfrm>
        </p:grpSpPr>
        <p:sp>
          <p:nvSpPr>
            <p:cNvPr id="42" name="Freeform 8"/>
            <p:cNvSpPr/>
            <p:nvPr/>
          </p:nvSpPr>
          <p:spPr>
            <a:xfrm>
              <a:off x="1187280" y="1989000"/>
              <a:ext cx="1311840" cy="1311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7bab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15"/>
            <p:cNvSpPr/>
            <p:nvPr/>
          </p:nvSpPr>
          <p:spPr>
            <a:xfrm>
              <a:off x="6188040" y="3300480"/>
              <a:ext cx="1319400" cy="1319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7bab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1187280" y="1989000"/>
              <a:ext cx="3156120" cy="2621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2499120" y="1989000"/>
              <a:ext cx="3688560" cy="2630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7bab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3"/>
            <p:cNvSpPr/>
            <p:nvPr/>
          </p:nvSpPr>
          <p:spPr>
            <a:xfrm>
              <a:off x="4343400" y="1989000"/>
              <a:ext cx="3164040" cy="2630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Box 7"/>
          <p:cNvSpPr/>
          <p:nvPr/>
        </p:nvSpPr>
        <p:spPr>
          <a:xfrm>
            <a:off x="1214640" y="1582560"/>
            <a:ext cx="75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d7d7d"/>
                </a:solidFill>
                <a:latin typeface="微软雅黑"/>
                <a:ea typeface="微软雅黑"/>
              </a:rPr>
              <a:t>添加文本</a:t>
            </a:r>
            <a:r>
              <a:rPr b="1" lang="en-US" sz="1400" spc="-1" strike="noStrike">
                <a:solidFill>
                  <a:srgbClr val="7d7d7d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3062520" y="1582560"/>
            <a:ext cx="75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d7d7d"/>
                </a:solidFill>
                <a:latin typeface="微软雅黑"/>
                <a:ea typeface="微软雅黑"/>
              </a:rPr>
              <a:t>添加文本</a:t>
            </a:r>
            <a:r>
              <a:rPr b="1" lang="en-US" sz="1400" spc="-1" strike="noStrike">
                <a:solidFill>
                  <a:srgbClr val="7d7d7d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4899960" y="1582560"/>
            <a:ext cx="75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d7d7d"/>
                </a:solidFill>
                <a:latin typeface="微软雅黑"/>
                <a:ea typeface="微软雅黑"/>
              </a:rPr>
              <a:t>添加文本</a:t>
            </a:r>
            <a:r>
              <a:rPr b="1" lang="en-US" sz="1400" spc="-1" strike="noStrike">
                <a:solidFill>
                  <a:srgbClr val="7d7d7d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6804000" y="1582560"/>
            <a:ext cx="75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d7d7d"/>
                </a:solidFill>
                <a:latin typeface="微软雅黑"/>
                <a:ea typeface="微软雅黑"/>
              </a:rPr>
              <a:t>添加文本</a:t>
            </a:r>
            <a:r>
              <a:rPr b="1" lang="en-US" sz="1400" spc="-1" strike="noStrike">
                <a:solidFill>
                  <a:srgbClr val="7d7d7d"/>
                </a:solidFill>
                <a:latin typeface="微软雅黑"/>
                <a:ea typeface="微软雅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1214640" y="4797360"/>
            <a:ext cx="75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d7d7d"/>
                </a:solidFill>
                <a:latin typeface="微软雅黑"/>
                <a:ea typeface="微软雅黑"/>
              </a:rPr>
              <a:t>添加文本</a:t>
            </a:r>
            <a:r>
              <a:rPr b="1" lang="en-US" sz="1400" spc="-1" strike="noStrike">
                <a:solidFill>
                  <a:srgbClr val="7d7d7d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3062520" y="4797360"/>
            <a:ext cx="75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d7d7d"/>
                </a:solidFill>
                <a:latin typeface="微软雅黑"/>
                <a:ea typeface="微软雅黑"/>
              </a:rPr>
              <a:t>添加文本</a:t>
            </a:r>
            <a:r>
              <a:rPr b="1" lang="en-US" sz="1400" spc="-1" strike="noStrike">
                <a:solidFill>
                  <a:srgbClr val="7d7d7d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3"/>
          <p:cNvSpPr/>
          <p:nvPr/>
        </p:nvSpPr>
        <p:spPr>
          <a:xfrm>
            <a:off x="4899960" y="4797360"/>
            <a:ext cx="75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d7d7d"/>
                </a:solidFill>
                <a:latin typeface="微软雅黑"/>
                <a:ea typeface="微软雅黑"/>
              </a:rPr>
              <a:t>添加文本</a:t>
            </a:r>
            <a:r>
              <a:rPr b="1" lang="en-US" sz="1400" spc="-1" strike="noStrike">
                <a:solidFill>
                  <a:srgbClr val="7d7d7d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4"/>
          <p:cNvSpPr/>
          <p:nvPr/>
        </p:nvSpPr>
        <p:spPr>
          <a:xfrm>
            <a:off x="6804000" y="4797360"/>
            <a:ext cx="75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d7d7d"/>
                </a:solidFill>
                <a:latin typeface="微软雅黑"/>
                <a:ea typeface="微软雅黑"/>
              </a:rPr>
              <a:t>添加文本</a:t>
            </a:r>
            <a:r>
              <a:rPr b="1" lang="en-US" sz="1400" spc="-1" strike="noStrike">
                <a:solidFill>
                  <a:srgbClr val="7d7d7d"/>
                </a:solidFill>
                <a:latin typeface="微软雅黑"/>
                <a:ea typeface="微软雅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组合 1"/>
          <p:cNvGrpSpPr/>
          <p:nvPr/>
        </p:nvGrpSpPr>
        <p:grpSpPr>
          <a:xfrm>
            <a:off x="982800" y="824040"/>
            <a:ext cx="7178400" cy="5209200"/>
            <a:chOff x="982800" y="824040"/>
            <a:chExt cx="7178400" cy="5209200"/>
          </a:xfrm>
        </p:grpSpPr>
        <p:sp>
          <p:nvSpPr>
            <p:cNvPr id="113" name="矩形 45"/>
            <p:cNvSpPr/>
            <p:nvPr/>
          </p:nvSpPr>
          <p:spPr>
            <a:xfrm rot="2802000">
              <a:off x="4797360" y="1282680"/>
              <a:ext cx="1249200" cy="1657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5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矩形 42"/>
            <p:cNvSpPr/>
            <p:nvPr/>
          </p:nvSpPr>
          <p:spPr>
            <a:xfrm rot="2802000">
              <a:off x="4440240" y="1497240"/>
              <a:ext cx="2028600" cy="2223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5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35"/>
            <p:cNvSpPr/>
            <p:nvPr/>
          </p:nvSpPr>
          <p:spPr>
            <a:xfrm rot="2802000">
              <a:off x="3292920" y="2583000"/>
              <a:ext cx="1950840" cy="2403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598000"/>
            </a:gradFill>
            <a:ln w="3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48"/>
            <p:cNvSpPr/>
            <p:nvPr/>
          </p:nvSpPr>
          <p:spPr>
            <a:xfrm rot="2802000">
              <a:off x="3965040" y="1897920"/>
              <a:ext cx="1950840" cy="2401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5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44"/>
            <p:cNvSpPr/>
            <p:nvPr/>
          </p:nvSpPr>
          <p:spPr>
            <a:xfrm rot="2802000">
              <a:off x="2738160" y="3139200"/>
              <a:ext cx="2025360" cy="2219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598000"/>
            </a:gradFill>
            <a:ln w="3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40"/>
            <p:cNvSpPr/>
            <p:nvPr/>
          </p:nvSpPr>
          <p:spPr>
            <a:xfrm rot="2802000">
              <a:off x="3198960" y="3923640"/>
              <a:ext cx="1245960" cy="1652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5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4"/>
            <p:cNvSpPr/>
            <p:nvPr/>
          </p:nvSpPr>
          <p:spPr>
            <a:xfrm rot="19152600">
              <a:off x="3338280" y="2345760"/>
              <a:ext cx="2560320" cy="2195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848000"/>
            </a:gradFill>
            <a:ln w="3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19"/>
            <p:cNvSpPr/>
            <p:nvPr/>
          </p:nvSpPr>
          <p:spPr>
            <a:xfrm>
              <a:off x="6433200" y="1832040"/>
              <a:ext cx="1728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19"/>
            <p:cNvSpPr/>
            <p:nvPr/>
          </p:nvSpPr>
          <p:spPr>
            <a:xfrm>
              <a:off x="6408720" y="2912040"/>
              <a:ext cx="1728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19"/>
            <p:cNvSpPr/>
            <p:nvPr/>
          </p:nvSpPr>
          <p:spPr>
            <a:xfrm>
              <a:off x="982800" y="3704040"/>
              <a:ext cx="1728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Box 12"/>
            <p:cNvSpPr/>
            <p:nvPr/>
          </p:nvSpPr>
          <p:spPr>
            <a:xfrm>
              <a:off x="982800" y="4640040"/>
              <a:ext cx="1728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13"/>
            <p:cNvSpPr/>
            <p:nvPr/>
          </p:nvSpPr>
          <p:spPr>
            <a:xfrm>
              <a:off x="2638800" y="5720400"/>
              <a:ext cx="1728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14"/>
            <p:cNvSpPr/>
            <p:nvPr/>
          </p:nvSpPr>
          <p:spPr>
            <a:xfrm>
              <a:off x="4726800" y="824040"/>
              <a:ext cx="1728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组合 8"/>
          <p:cNvGrpSpPr/>
          <p:nvPr/>
        </p:nvGrpSpPr>
        <p:grpSpPr>
          <a:xfrm>
            <a:off x="796680" y="1197000"/>
            <a:ext cx="7696440" cy="4025880"/>
            <a:chOff x="796680" y="1197000"/>
            <a:chExt cx="7696440" cy="4025880"/>
          </a:xfrm>
        </p:grpSpPr>
        <p:grpSp>
          <p:nvGrpSpPr>
            <p:cNvPr id="130" name="组合 2"/>
            <p:cNvGrpSpPr/>
            <p:nvPr/>
          </p:nvGrpSpPr>
          <p:grpSpPr>
            <a:xfrm>
              <a:off x="1838160" y="1701000"/>
              <a:ext cx="5503680" cy="3521880"/>
              <a:chOff x="1838160" y="1701000"/>
              <a:chExt cx="5503680" cy="3521880"/>
            </a:xfrm>
          </p:grpSpPr>
          <p:sp>
            <p:nvSpPr>
              <p:cNvPr id="131" name="Freeform 19"/>
              <p:cNvSpPr/>
              <p:nvPr/>
            </p:nvSpPr>
            <p:spPr>
              <a:xfrm>
                <a:off x="3661200" y="1701000"/>
                <a:ext cx="1856160" cy="2721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d7d7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2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31"/>
              <p:cNvSpPr/>
              <p:nvPr/>
            </p:nvSpPr>
            <p:spPr>
              <a:xfrm>
                <a:off x="5020920" y="3658320"/>
                <a:ext cx="2318040" cy="9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marL="182520" indent="-182520">
                  <a:lnSpc>
                    <a:spcPct val="120000"/>
                  </a:lnSpc>
                  <a:spcBef>
                    <a:spcPts val="601"/>
                  </a:spcBef>
                  <a:spcAft>
                    <a:spcPts val="601"/>
                  </a:spcAft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34"/>
              <p:cNvSpPr/>
              <p:nvPr/>
            </p:nvSpPr>
            <p:spPr>
              <a:xfrm>
                <a:off x="4590360" y="4407480"/>
                <a:ext cx="2751480" cy="806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d7d7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7"/>
              <p:cNvSpPr/>
              <p:nvPr/>
            </p:nvSpPr>
            <p:spPr>
              <a:xfrm>
                <a:off x="1838160" y="3621960"/>
                <a:ext cx="2327040" cy="964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marL="182520" indent="-182520">
                  <a:lnSpc>
                    <a:spcPct val="120000"/>
                  </a:lnSpc>
                  <a:spcBef>
                    <a:spcPts val="601"/>
                  </a:spcBef>
                  <a:spcAft>
                    <a:spcPts val="601"/>
                  </a:spcAft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40"/>
              <p:cNvSpPr/>
              <p:nvPr/>
            </p:nvSpPr>
            <p:spPr>
              <a:xfrm>
                <a:off x="1838160" y="4416840"/>
                <a:ext cx="2755440" cy="806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d7d7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43"/>
              <p:cNvSpPr/>
              <p:nvPr/>
            </p:nvSpPr>
            <p:spPr>
              <a:xfrm>
                <a:off x="4165200" y="3621960"/>
                <a:ext cx="854280" cy="1275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marL="182520" indent="-182520">
                  <a:lnSpc>
                    <a:spcPct val="120000"/>
                  </a:lnSpc>
                  <a:spcBef>
                    <a:spcPts val="601"/>
                  </a:spcBef>
                  <a:spcAft>
                    <a:spcPts val="601"/>
                  </a:spcAft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TextBox 61"/>
            <p:cNvSpPr/>
            <p:nvPr/>
          </p:nvSpPr>
          <p:spPr>
            <a:xfrm>
              <a:off x="7672320" y="410436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此处输入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61"/>
            <p:cNvSpPr/>
            <p:nvPr/>
          </p:nvSpPr>
          <p:spPr>
            <a:xfrm>
              <a:off x="7672320" y="474336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此处输入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61"/>
            <p:cNvSpPr/>
            <p:nvPr/>
          </p:nvSpPr>
          <p:spPr>
            <a:xfrm>
              <a:off x="796680" y="410436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此处输入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61"/>
            <p:cNvSpPr/>
            <p:nvPr/>
          </p:nvSpPr>
          <p:spPr>
            <a:xfrm>
              <a:off x="796680" y="474336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此处输入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Box 61"/>
            <p:cNvSpPr/>
            <p:nvPr/>
          </p:nvSpPr>
          <p:spPr>
            <a:xfrm>
              <a:off x="4178880" y="119700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此处输入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3"/>
          <p:cNvGrpSpPr/>
          <p:nvPr/>
        </p:nvGrpSpPr>
        <p:grpSpPr>
          <a:xfrm>
            <a:off x="393840" y="-3429000"/>
            <a:ext cx="8143560" cy="13716000"/>
            <a:chOff x="393840" y="-3429000"/>
            <a:chExt cx="8143560" cy="13716000"/>
          </a:xfrm>
        </p:grpSpPr>
        <p:sp>
          <p:nvSpPr>
            <p:cNvPr id="56" name="Circular Arrow 4"/>
            <p:cNvSpPr/>
            <p:nvPr/>
          </p:nvSpPr>
          <p:spPr>
            <a:xfrm>
              <a:off x="679320" y="2428920"/>
              <a:ext cx="7858080" cy="7858080"/>
            </a:xfrm>
            <a:custGeom>
              <a:avLst/>
              <a:gdLst>
                <a:gd name="textAreaLeft" fmla="*/ 0 w 7858080"/>
                <a:gd name="textAreaRight" fmla="*/ 7858440 w 7858080"/>
                <a:gd name="textAreaTop" fmla="*/ 0 h 7858080"/>
                <a:gd name="textAreaBottom" fmla="*/ 7858440 h 785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143" y="13442"/>
                  </a:moveTo>
                  <a:arcTo wR="-8100" hR="-8100" stAng="9657681" swAng="-4256114"/>
                  <a:lnTo>
                    <a:pt x="10805" y="0"/>
                  </a:lnTo>
                  <a:arcTo wR="10800" hR="10800" stAng="-5398433" swAng="4256114"/>
                  <a:lnTo>
                    <a:pt x="23562" y="6396"/>
                  </a:lnTo>
                  <a:lnTo>
                    <a:pt x="21054" y="11546"/>
                  </a:lnTo>
                  <a:lnTo>
                    <a:pt x="15905" y="9038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Circular Arrow 5"/>
            <p:cNvSpPr/>
            <p:nvPr/>
          </p:nvSpPr>
          <p:spPr>
            <a:xfrm rot="10800000">
              <a:off x="393840" y="-3429000"/>
              <a:ext cx="7858080" cy="7858080"/>
            </a:xfrm>
            <a:custGeom>
              <a:avLst/>
              <a:gdLst>
                <a:gd name="textAreaLeft" fmla="*/ 0 w 7858080"/>
                <a:gd name="textAreaRight" fmla="*/ 7858440 w 7858080"/>
                <a:gd name="textAreaTop" fmla="*/ 0 h 7858080"/>
                <a:gd name="textAreaBottom" fmla="*/ 7858440 h 785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143" y="13442"/>
                  </a:moveTo>
                  <a:arcTo wR="-8100" hR="-8100" stAng="9657681" swAng="-4256114"/>
                  <a:lnTo>
                    <a:pt x="10805" y="0"/>
                  </a:lnTo>
                  <a:arcTo wR="10800" hR="10800" stAng="-5398433" swAng="4256114"/>
                  <a:lnTo>
                    <a:pt x="23562" y="6396"/>
                  </a:lnTo>
                  <a:lnTo>
                    <a:pt x="21054" y="11546"/>
                  </a:lnTo>
                  <a:lnTo>
                    <a:pt x="15905" y="9038"/>
                  </a:lnTo>
                  <a:close/>
                </a:path>
              </a:pathLst>
            </a:custGeom>
            <a:solidFill>
              <a:srgbClr val="267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矩形 4"/>
          <p:cNvSpPr/>
          <p:nvPr/>
        </p:nvSpPr>
        <p:spPr>
          <a:xfrm>
            <a:off x="6251400" y="4643280"/>
            <a:ext cx="2571840" cy="1000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320760" y="4643280"/>
            <a:ext cx="2571840" cy="1000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组合 6"/>
          <p:cNvGrpSpPr/>
          <p:nvPr/>
        </p:nvGrpSpPr>
        <p:grpSpPr>
          <a:xfrm>
            <a:off x="2644920" y="2163600"/>
            <a:ext cx="4262400" cy="2416320"/>
            <a:chOff x="2644920" y="2163600"/>
            <a:chExt cx="4262400" cy="2416320"/>
          </a:xfrm>
        </p:grpSpPr>
        <p:sp>
          <p:nvSpPr>
            <p:cNvPr id="61" name="矩形 3"/>
            <p:cNvSpPr/>
            <p:nvPr/>
          </p:nvSpPr>
          <p:spPr>
            <a:xfrm>
              <a:off x="3559320" y="2163600"/>
              <a:ext cx="3348000" cy="1749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7ba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5"/>
            <p:cNvSpPr/>
            <p:nvPr/>
          </p:nvSpPr>
          <p:spPr>
            <a:xfrm>
              <a:off x="2644920" y="2833560"/>
              <a:ext cx="3348000" cy="1746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3e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182520" indent="-182520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组合 2"/>
          <p:cNvGrpSpPr/>
          <p:nvPr/>
        </p:nvGrpSpPr>
        <p:grpSpPr>
          <a:xfrm>
            <a:off x="217440" y="1394640"/>
            <a:ext cx="8709120" cy="4348080"/>
            <a:chOff x="217440" y="1394640"/>
            <a:chExt cx="8709120" cy="4348080"/>
          </a:xfrm>
        </p:grpSpPr>
        <p:grpSp>
          <p:nvGrpSpPr>
            <p:cNvPr id="64" name="组合 25"/>
            <p:cNvGrpSpPr/>
            <p:nvPr/>
          </p:nvGrpSpPr>
          <p:grpSpPr>
            <a:xfrm>
              <a:off x="1540080" y="1394640"/>
              <a:ext cx="5869080" cy="4348080"/>
              <a:chOff x="1540080" y="1394640"/>
              <a:chExt cx="5869080" cy="4348080"/>
            </a:xfrm>
          </p:grpSpPr>
          <p:sp>
            <p:nvSpPr>
              <p:cNvPr id="65" name="矩形 21"/>
              <p:cNvSpPr/>
              <p:nvPr/>
            </p:nvSpPr>
            <p:spPr>
              <a:xfrm>
                <a:off x="3454200" y="2706480"/>
                <a:ext cx="1346040" cy="1374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圆角矩形 16"/>
              <p:cNvSpPr/>
              <p:nvPr/>
            </p:nvSpPr>
            <p:spPr>
              <a:xfrm rot="1753200">
                <a:off x="1942560" y="2639520"/>
                <a:ext cx="3192480" cy="2481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64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圆角矩形 19"/>
              <p:cNvSpPr/>
              <p:nvPr/>
            </p:nvSpPr>
            <p:spPr>
              <a:xfrm rot="1468200">
                <a:off x="5144400" y="1736640"/>
                <a:ext cx="2011320" cy="1658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93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圆角矩形 3"/>
              <p:cNvSpPr/>
              <p:nvPr/>
            </p:nvSpPr>
            <p:spPr>
              <a:xfrm rot="3312600">
                <a:off x="3842640" y="2158920"/>
                <a:ext cx="1297080" cy="2662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088000"/>
              </a:gradFill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矩形 24"/>
              <p:cNvSpPr/>
              <p:nvPr/>
            </p:nvSpPr>
            <p:spPr>
              <a:xfrm rot="17928000">
                <a:off x="3969360" y="2278800"/>
                <a:ext cx="1441440" cy="1852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9072000"/>
              </a:gradFill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TextBox 19"/>
            <p:cNvSpPr/>
            <p:nvPr/>
          </p:nvSpPr>
          <p:spPr>
            <a:xfrm>
              <a:off x="7409160" y="2392560"/>
              <a:ext cx="15174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19"/>
            <p:cNvSpPr/>
            <p:nvPr/>
          </p:nvSpPr>
          <p:spPr>
            <a:xfrm>
              <a:off x="217440" y="3767760"/>
              <a:ext cx="1402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组合 3"/>
          <p:cNvGrpSpPr/>
          <p:nvPr/>
        </p:nvGrpSpPr>
        <p:grpSpPr>
          <a:xfrm>
            <a:off x="1153800" y="2631960"/>
            <a:ext cx="6920280" cy="1517760"/>
            <a:chOff x="1153800" y="2631960"/>
            <a:chExt cx="6920280" cy="1517760"/>
          </a:xfrm>
        </p:grpSpPr>
        <p:sp>
          <p:nvSpPr>
            <p:cNvPr id="73" name="矩形 43"/>
            <p:cNvSpPr/>
            <p:nvPr/>
          </p:nvSpPr>
          <p:spPr>
            <a:xfrm>
              <a:off x="3924360" y="2712600"/>
              <a:ext cx="449280" cy="1279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a9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41"/>
            <p:cNvSpPr/>
            <p:nvPr/>
          </p:nvSpPr>
          <p:spPr>
            <a:xfrm>
              <a:off x="4821120" y="2785680"/>
              <a:ext cx="449280" cy="1283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a9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右箭头 58"/>
            <p:cNvSpPr/>
            <p:nvPr/>
          </p:nvSpPr>
          <p:spPr>
            <a:xfrm>
              <a:off x="3921120" y="2631960"/>
              <a:ext cx="2824200" cy="615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右箭头 59"/>
            <p:cNvSpPr/>
            <p:nvPr/>
          </p:nvSpPr>
          <p:spPr>
            <a:xfrm flipH="1">
              <a:off x="2447280" y="3533760"/>
              <a:ext cx="2825640" cy="615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98"/>
            <p:cNvSpPr/>
            <p:nvPr/>
          </p:nvSpPr>
          <p:spPr>
            <a:xfrm>
              <a:off x="7253280" y="278568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此处输入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99"/>
            <p:cNvSpPr/>
            <p:nvPr/>
          </p:nvSpPr>
          <p:spPr>
            <a:xfrm>
              <a:off x="1153800" y="368208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此处输入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组合 102"/>
          <p:cNvGrpSpPr/>
          <p:nvPr/>
        </p:nvGrpSpPr>
        <p:grpSpPr>
          <a:xfrm>
            <a:off x="1823760" y="2192400"/>
            <a:ext cx="5934600" cy="2419200"/>
            <a:chOff x="1823760" y="2192400"/>
            <a:chExt cx="5934600" cy="2419200"/>
          </a:xfrm>
        </p:grpSpPr>
        <p:sp>
          <p:nvSpPr>
            <p:cNvPr id="80" name="矩形 43"/>
            <p:cNvSpPr/>
            <p:nvPr/>
          </p:nvSpPr>
          <p:spPr>
            <a:xfrm>
              <a:off x="4521240" y="2274840"/>
              <a:ext cx="448920" cy="2252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a9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右箭头 12"/>
            <p:cNvSpPr/>
            <p:nvPr/>
          </p:nvSpPr>
          <p:spPr>
            <a:xfrm>
              <a:off x="4505400" y="2192400"/>
              <a:ext cx="1923840" cy="617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右箭头 60"/>
            <p:cNvSpPr/>
            <p:nvPr/>
          </p:nvSpPr>
          <p:spPr>
            <a:xfrm flipH="1">
              <a:off x="3047040" y="3994200"/>
              <a:ext cx="1925640" cy="617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61"/>
            <p:cNvSpPr/>
            <p:nvPr/>
          </p:nvSpPr>
          <p:spPr>
            <a:xfrm>
              <a:off x="6937560" y="234684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此处输入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100"/>
            <p:cNvSpPr/>
            <p:nvPr/>
          </p:nvSpPr>
          <p:spPr>
            <a:xfrm>
              <a:off x="1823760" y="414540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此处输入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形状 1"/>
          <p:cNvSpPr/>
          <p:nvPr/>
        </p:nvSpPr>
        <p:spPr>
          <a:xfrm>
            <a:off x="1523880" y="2209680"/>
            <a:ext cx="6096240" cy="2438640"/>
          </a:xfrm>
          <a:custGeom>
            <a:avLst/>
            <a:gdLst>
              <a:gd name="textAreaLeft" fmla="*/ 0 w 6096240"/>
              <a:gd name="textAreaRight" fmla="*/ 6096600 w 6096240"/>
              <a:gd name="textAreaTop" fmla="*/ 0 h 2438640"/>
              <a:gd name="textAreaBottom" fmla="*/ 2439000 h 2438640"/>
            </a:gdLst>
            <a:ahLst/>
            <a:rect l="textAreaLeft" t="textAreaTop" r="textAreaRight" b="textAreaBottom"/>
            <a:pathLst>
              <a:path stroke="0" w="9600" h="3840">
                <a:moveTo>
                  <a:pt x="0" y="1599"/>
                </a:moveTo>
                <a:lnTo>
                  <a:pt x="1920" y="0"/>
                </a:lnTo>
                <a:lnTo>
                  <a:pt x="1920" y="639"/>
                </a:lnTo>
                <a:lnTo>
                  <a:pt x="4800" y="639"/>
                </a:lnTo>
                <a:lnTo>
                  <a:pt x="4800" y="639"/>
                </a:lnTo>
                <a:arcTo wR="300" hR="160" stAng="-5400000" swAng="10800000"/>
                <a:lnTo>
                  <a:pt x="4800" y="959"/>
                </a:lnTo>
                <a:arcTo wR="300" hR="160" stAng="-5400000" swAng="10800000"/>
                <a:lnTo>
                  <a:pt x="7680" y="1280"/>
                </a:lnTo>
                <a:lnTo>
                  <a:pt x="7680" y="640"/>
                </a:lnTo>
                <a:lnTo>
                  <a:pt x="9600" y="2240"/>
                </a:lnTo>
                <a:lnTo>
                  <a:pt x="7680" y="3840"/>
                </a:lnTo>
                <a:lnTo>
                  <a:pt x="7680" y="3200"/>
                </a:lnTo>
                <a:lnTo>
                  <a:pt x="4800" y="3200"/>
                </a:lnTo>
                <a:lnTo>
                  <a:pt x="4800" y="3200"/>
                </a:lnTo>
                <a:arcTo wR="300" hR="160" stAng="5400000" swAng="5400000"/>
                <a:lnTo>
                  <a:pt x="4500" y="2559"/>
                </a:lnTo>
                <a:lnTo>
                  <a:pt x="1920" y="2559"/>
                </a:lnTo>
                <a:lnTo>
                  <a:pt x="1920" y="3199"/>
                </a:lnTo>
                <a:close/>
              </a:path>
              <a:path fill="none" w="9600" h="3840">
                <a:moveTo>
                  <a:pt x="0" y="1599"/>
                </a:moveTo>
                <a:lnTo>
                  <a:pt x="1920" y="0"/>
                </a:lnTo>
                <a:lnTo>
                  <a:pt x="1920" y="639"/>
                </a:lnTo>
                <a:lnTo>
                  <a:pt x="4800" y="639"/>
                </a:lnTo>
                <a:lnTo>
                  <a:pt x="4800" y="639"/>
                </a:lnTo>
                <a:arcTo wR="300" hR="160" stAng="-5400000" swAng="10800000"/>
                <a:lnTo>
                  <a:pt x="4800" y="959"/>
                </a:lnTo>
                <a:arcTo wR="300" hR="160" stAng="-5400000" swAng="10800000"/>
                <a:lnTo>
                  <a:pt x="7680" y="1280"/>
                </a:lnTo>
                <a:lnTo>
                  <a:pt x="7680" y="640"/>
                </a:lnTo>
                <a:lnTo>
                  <a:pt x="9600" y="2240"/>
                </a:lnTo>
                <a:lnTo>
                  <a:pt x="7680" y="3840"/>
                </a:lnTo>
                <a:lnTo>
                  <a:pt x="7680" y="3200"/>
                </a:lnTo>
                <a:lnTo>
                  <a:pt x="4800" y="3200"/>
                </a:lnTo>
                <a:lnTo>
                  <a:pt x="4800" y="3200"/>
                </a:lnTo>
                <a:arcTo wR="300" hR="160" stAng="5400000" swAng="5400000"/>
                <a:lnTo>
                  <a:pt x="4500" y="2559"/>
                </a:lnTo>
                <a:lnTo>
                  <a:pt x="1920" y="2559"/>
                </a:lnTo>
                <a:lnTo>
                  <a:pt x="1920" y="3199"/>
                </a:lnTo>
                <a:close/>
                <a:moveTo>
                  <a:pt x="5100" y="799"/>
                </a:moveTo>
                <a:lnTo>
                  <a:pt x="5100" y="1280"/>
                </a:lnTo>
                <a:moveTo>
                  <a:pt x="4500" y="1120"/>
                </a:moveTo>
                <a:lnTo>
                  <a:pt x="4500" y="255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267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922320" y="3068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7763760" y="3475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组合 102"/>
          <p:cNvGrpSpPr/>
          <p:nvPr/>
        </p:nvGrpSpPr>
        <p:grpSpPr>
          <a:xfrm>
            <a:off x="1061640" y="1731960"/>
            <a:ext cx="7012800" cy="3317760"/>
            <a:chOff x="1061640" y="1731960"/>
            <a:chExt cx="7012800" cy="3317760"/>
          </a:xfrm>
        </p:grpSpPr>
        <p:sp>
          <p:nvSpPr>
            <p:cNvPr id="89" name="矩形 43"/>
            <p:cNvSpPr/>
            <p:nvPr/>
          </p:nvSpPr>
          <p:spPr>
            <a:xfrm>
              <a:off x="3924360" y="2712960"/>
              <a:ext cx="449280" cy="2252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a9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41"/>
            <p:cNvSpPr/>
            <p:nvPr/>
          </p:nvSpPr>
          <p:spPr>
            <a:xfrm>
              <a:off x="4821120" y="1815840"/>
              <a:ext cx="449280" cy="2252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a9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右箭头 12"/>
            <p:cNvSpPr/>
            <p:nvPr/>
          </p:nvSpPr>
          <p:spPr>
            <a:xfrm>
              <a:off x="4821120" y="1731960"/>
              <a:ext cx="1923840" cy="617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右箭头 58"/>
            <p:cNvSpPr/>
            <p:nvPr/>
          </p:nvSpPr>
          <p:spPr>
            <a:xfrm>
              <a:off x="3921120" y="2631960"/>
              <a:ext cx="2824200" cy="615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右箭头 59"/>
            <p:cNvSpPr/>
            <p:nvPr/>
          </p:nvSpPr>
          <p:spPr>
            <a:xfrm flipH="1">
              <a:off x="2446920" y="3533760"/>
              <a:ext cx="2825640" cy="615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右箭头 60"/>
            <p:cNvSpPr/>
            <p:nvPr/>
          </p:nvSpPr>
          <p:spPr>
            <a:xfrm flipH="1">
              <a:off x="2448720" y="4432320"/>
              <a:ext cx="1927080" cy="617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61"/>
            <p:cNvSpPr/>
            <p:nvPr/>
          </p:nvSpPr>
          <p:spPr>
            <a:xfrm>
              <a:off x="7253640" y="188640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此处输入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98"/>
            <p:cNvSpPr/>
            <p:nvPr/>
          </p:nvSpPr>
          <p:spPr>
            <a:xfrm>
              <a:off x="7253640" y="278568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此处输入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99"/>
            <p:cNvSpPr/>
            <p:nvPr/>
          </p:nvSpPr>
          <p:spPr>
            <a:xfrm>
              <a:off x="1061640" y="368208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此处输入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Box 100"/>
            <p:cNvSpPr/>
            <p:nvPr/>
          </p:nvSpPr>
          <p:spPr>
            <a:xfrm>
              <a:off x="1061640" y="458388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此处输入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组合 102"/>
          <p:cNvGrpSpPr/>
          <p:nvPr/>
        </p:nvGrpSpPr>
        <p:grpSpPr>
          <a:xfrm>
            <a:off x="650520" y="1320840"/>
            <a:ext cx="7842600" cy="4216320"/>
            <a:chOff x="650520" y="1320840"/>
            <a:chExt cx="7842600" cy="4216320"/>
          </a:xfrm>
        </p:grpSpPr>
        <p:sp>
          <p:nvSpPr>
            <p:cNvPr id="100" name="矩形 43"/>
            <p:cNvSpPr/>
            <p:nvPr/>
          </p:nvSpPr>
          <p:spPr>
            <a:xfrm>
              <a:off x="3443400" y="3200400"/>
              <a:ext cx="449280" cy="2252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a9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41"/>
            <p:cNvSpPr/>
            <p:nvPr/>
          </p:nvSpPr>
          <p:spPr>
            <a:xfrm>
              <a:off x="5240520" y="1404720"/>
              <a:ext cx="449280" cy="2252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a9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43"/>
            <p:cNvSpPr/>
            <p:nvPr/>
          </p:nvSpPr>
          <p:spPr>
            <a:xfrm>
              <a:off x="4340160" y="2305080"/>
              <a:ext cx="449280" cy="2254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a9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右箭头 12"/>
            <p:cNvSpPr/>
            <p:nvPr/>
          </p:nvSpPr>
          <p:spPr>
            <a:xfrm>
              <a:off x="5240520" y="1320840"/>
              <a:ext cx="1923840" cy="617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 38"/>
            <p:cNvSpPr/>
            <p:nvPr/>
          </p:nvSpPr>
          <p:spPr>
            <a:xfrm>
              <a:off x="3443400" y="3203640"/>
              <a:ext cx="2251080" cy="449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右箭头 58"/>
            <p:cNvSpPr/>
            <p:nvPr/>
          </p:nvSpPr>
          <p:spPr>
            <a:xfrm>
              <a:off x="4340160" y="2220840"/>
              <a:ext cx="2824200" cy="615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右箭头 59"/>
            <p:cNvSpPr/>
            <p:nvPr/>
          </p:nvSpPr>
          <p:spPr>
            <a:xfrm flipH="1">
              <a:off x="1965960" y="4021200"/>
              <a:ext cx="2825640" cy="615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右箭头 60"/>
            <p:cNvSpPr/>
            <p:nvPr/>
          </p:nvSpPr>
          <p:spPr>
            <a:xfrm flipH="1">
              <a:off x="1967760" y="4919760"/>
              <a:ext cx="1927080" cy="617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61"/>
            <p:cNvSpPr/>
            <p:nvPr/>
          </p:nvSpPr>
          <p:spPr>
            <a:xfrm>
              <a:off x="7672320" y="147528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此处输入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98"/>
            <p:cNvSpPr/>
            <p:nvPr/>
          </p:nvSpPr>
          <p:spPr>
            <a:xfrm>
              <a:off x="7672320" y="237492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此处输入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99"/>
            <p:cNvSpPr/>
            <p:nvPr/>
          </p:nvSpPr>
          <p:spPr>
            <a:xfrm>
              <a:off x="650520" y="417312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此处输入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100"/>
            <p:cNvSpPr/>
            <p:nvPr/>
          </p:nvSpPr>
          <p:spPr>
            <a:xfrm>
              <a:off x="650520" y="507492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此处输入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19:2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