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094-FE72-4316-A7F8-2D5689A6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0D9-AE71-4437-B9E1-9708F7F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3CF-10C9-4BEB-B9C4-75D8C8EA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894-7608-4C29-84B8-BB1460D0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E67-A919-4CC4-A9B1-24FB306A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0AD1-DD1B-4393-84CF-6C883CCB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8AE-409A-4F06-949A-8500828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73E2-8810-459A-B9E1-B1B2FF5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8CB2-78E0-41B4-8FA8-0858FDE9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8FBD-FB10-41E2-B409-552F153F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F16A-6B05-413D-94FB-D36FDAF8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CCC-0BFC-4C1B-AA5D-A0B9759C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B328-DDE2-4E5A-A57B-1E096BD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898-8A57-4208-A385-1BAFBA3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F071-3A37-49B9-AE65-D95979C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18B2-51E7-4693-97CD-0CCAD92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68A2-83CC-4F65-9465-122763AA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772-FD15-4AE9-8ACA-DA5370F0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ADB-ADE3-40E0-9C46-A24D85C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02B-6CC8-4860-B0A0-A6FE0593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B90-EC8A-45FF-BA62-C9F04B2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AEF-14E1-4267-9C18-F46F774C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3AA-13AA-46F6-9AB5-23BA8B3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E02-BE95-408D-8ED6-7ADD34A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B9B-24CC-4365-AF9B-447A6258BE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727-79C7-4D2B-B2D8-040CD6F70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EF8-2946-4CD2-84F1-D7386F7385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F133-37A5-4DD8-B3E9-4BC84624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apidppt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41280" y="4516560"/>
            <a:ext cx="8540640" cy="1420560"/>
            <a:chOff x="341280" y="4516560"/>
            <a:chExt cx="8540640" cy="142056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341280" y="4516560"/>
              <a:ext cx="85406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70040" y="4800240"/>
              <a:ext cx="58039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组合 4" descr=""/>
          <p:cNvPicPr/>
          <p:nvPr/>
        </p:nvPicPr>
        <p:blipFill>
          <a:blip r:embed="rId2"/>
          <a:stretch/>
        </p:blipFill>
        <p:spPr>
          <a:xfrm>
            <a:off x="3097080" y="2243160"/>
            <a:ext cx="2949840" cy="5853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1"/>
          <p:cNvSpPr/>
          <p:nvPr/>
        </p:nvSpPr>
        <p:spPr>
          <a:xfrm flipH="1">
            <a:off x="3843360" y="34369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15920" y="2666880"/>
            <a:ext cx="2184480" cy="459000"/>
            <a:chOff x="1015920" y="2666880"/>
            <a:chExt cx="2184480" cy="459000"/>
          </a:xfrm>
        </p:grpSpPr>
        <p:sp>
          <p:nvSpPr>
            <p:cNvPr id="88" name="TextBox 11"/>
            <p:cNvSpPr/>
            <p:nvPr/>
          </p:nvSpPr>
          <p:spPr>
            <a:xfrm flipH="1">
              <a:off x="1015920" y="26668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1"/>
            <p:cNvSpPr/>
            <p:nvPr/>
          </p:nvSpPr>
          <p:spPr>
            <a:xfrm flipH="1">
              <a:off x="2054160" y="26668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11"/>
          <p:cNvSpPr/>
          <p:nvPr/>
        </p:nvSpPr>
        <p:spPr>
          <a:xfrm flipH="1">
            <a:off x="1038240" y="22496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00840" y="2116080"/>
            <a:ext cx="2184480" cy="459000"/>
            <a:chOff x="6000840" y="2116080"/>
            <a:chExt cx="2184480" cy="459000"/>
          </a:xfrm>
        </p:grpSpPr>
        <p:sp>
          <p:nvSpPr>
            <p:cNvPr id="92" name="TextBox 11"/>
            <p:cNvSpPr/>
            <p:nvPr/>
          </p:nvSpPr>
          <p:spPr>
            <a:xfrm flipH="1">
              <a:off x="6000840" y="21160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1"/>
            <p:cNvSpPr/>
            <p:nvPr/>
          </p:nvSpPr>
          <p:spPr>
            <a:xfrm flipH="1">
              <a:off x="7039080" y="21160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1"/>
          <p:cNvSpPr/>
          <p:nvPr/>
        </p:nvSpPr>
        <p:spPr>
          <a:xfrm flipH="1">
            <a:off x="6022800" y="17002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26120" y="3887640"/>
            <a:ext cx="2184480" cy="459000"/>
            <a:chOff x="6126120" y="3887640"/>
            <a:chExt cx="2184480" cy="459000"/>
          </a:xfrm>
        </p:grpSpPr>
        <p:sp>
          <p:nvSpPr>
            <p:cNvPr id="96" name="TextBox 11"/>
            <p:cNvSpPr/>
            <p:nvPr/>
          </p:nvSpPr>
          <p:spPr>
            <a:xfrm flipH="1">
              <a:off x="6126120" y="38876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 flipH="1">
              <a:off x="7164360" y="38876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1"/>
          <p:cNvSpPr/>
          <p:nvPr/>
        </p:nvSpPr>
        <p:spPr>
          <a:xfrm flipH="1">
            <a:off x="6149880" y="347184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2160" y="4317840"/>
            <a:ext cx="2184480" cy="459000"/>
            <a:chOff x="992160" y="4317840"/>
            <a:chExt cx="2184480" cy="459000"/>
          </a:xfrm>
        </p:grpSpPr>
        <p:sp>
          <p:nvSpPr>
            <p:cNvPr id="100" name="TextBox 11"/>
            <p:cNvSpPr/>
            <p:nvPr/>
          </p:nvSpPr>
          <p:spPr>
            <a:xfrm flipH="1">
              <a:off x="992160" y="43178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1"/>
            <p:cNvSpPr/>
            <p:nvPr/>
          </p:nvSpPr>
          <p:spPr>
            <a:xfrm flipH="1">
              <a:off x="2030400" y="43178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1"/>
          <p:cNvSpPr/>
          <p:nvPr/>
        </p:nvSpPr>
        <p:spPr>
          <a:xfrm flipH="1">
            <a:off x="1014480" y="39006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6"/>
          <p:cNvSpPr/>
          <p:nvPr/>
        </p:nvSpPr>
        <p:spPr>
          <a:xfrm flipH="1">
            <a:off x="1037880" y="3130560"/>
            <a:ext cx="2268360" cy="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27"/>
          <p:cNvSpPr/>
          <p:nvPr/>
        </p:nvSpPr>
        <p:spPr>
          <a:xfrm flipH="1">
            <a:off x="1037880" y="4781520"/>
            <a:ext cx="2646360" cy="0"/>
          </a:xfrm>
          <a:prstGeom prst="line">
            <a:avLst/>
          </a:prstGeom>
          <a:ln w="1260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28"/>
          <p:cNvSpPr/>
          <p:nvPr/>
        </p:nvSpPr>
        <p:spPr>
          <a:xfrm flipH="1">
            <a:off x="5435280" y="2579760"/>
            <a:ext cx="284148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9"/>
          <p:cNvSpPr/>
          <p:nvPr/>
        </p:nvSpPr>
        <p:spPr>
          <a:xfrm flipH="1">
            <a:off x="5810040" y="4359240"/>
            <a:ext cx="2460600" cy="0"/>
          </a:xfrm>
          <a:prstGeom prst="line">
            <a:avLst/>
          </a:prstGeom>
          <a:ln w="1260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599004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四元素交替循环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1">
            <a:hlinkClick r:id="rId3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1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