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4D8-7684-4F10-B5A1-2943DC99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992-D637-4B52-A2CF-DE387C8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963-95B2-43CC-8144-3AA0DCBB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74B-501B-4EBF-BB97-CEF80BDD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F039-04A5-43AB-AA93-C265DAB5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8ED3-F7ED-4D2D-984D-C432FCF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3BFF-C63D-48A0-9222-60AE4C85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2862-F060-4F9B-849A-F3632D9E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B226-6B4A-490E-83E7-8C50283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435B-3566-4950-BB1C-D457EE5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FF4C-FE19-4B88-BFFA-4308B69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63D-160E-42D1-A20F-99C99DE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1D75-0163-42EE-8C6A-DDB362E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D0E-1E27-4725-97E1-F55DC83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E39-F8C3-493E-ADA0-311D528A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9CDD-1016-47F1-81EB-CCC835A5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0F57-41C1-4EC7-B2C5-C9B791DF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92F-88F0-498A-9FB0-88A7327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F8C-A8C2-4B5D-BA95-6ADE9401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B50-F968-4525-84E1-CE5D67E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0F8-7100-4AC0-9167-C3819C9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91A-BC4A-4E44-8125-7E0F49A0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225-E15F-4964-875B-F59FE94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EE6-C1B0-473A-85A5-0A817C4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5CB3-C63B-4905-A7F6-F9F08B3D29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A85F-8A59-413F-B098-9A4A85A1A1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A7E4-B956-44E1-A76B-0CB62294C0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7BBE-56F4-42CE-8AC3-9F83DD66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005280" y="4383000"/>
            <a:ext cx="3962160" cy="1554120"/>
            <a:chOff x="3005280" y="4383000"/>
            <a:chExt cx="3962160" cy="155412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3005280" y="4383000"/>
              <a:ext cx="39621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662280" y="4687920"/>
              <a:ext cx="2565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4"/>
          <p:cNvSpPr/>
          <p:nvPr/>
        </p:nvSpPr>
        <p:spPr>
          <a:xfrm>
            <a:off x="2987640" y="4695840"/>
            <a:ext cx="3916440" cy="1000080"/>
          </a:xfrm>
          <a:prstGeom prst="ellipse">
            <a:avLst/>
          </a:prstGeom>
          <a:noFill/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62200" y="1239840"/>
            <a:ext cx="4101840" cy="4484520"/>
            <a:chOff x="1762200" y="1239840"/>
            <a:chExt cx="4101840" cy="4484520"/>
          </a:xfrm>
        </p:grpSpPr>
        <p:sp>
          <p:nvSpPr>
            <p:cNvPr id="87" name="任意多边形 6"/>
            <p:cNvSpPr/>
            <p:nvPr/>
          </p:nvSpPr>
          <p:spPr>
            <a:xfrm>
              <a:off x="1762200" y="2143800"/>
              <a:ext cx="1140480" cy="266760"/>
            </a:xfrm>
            <a:custGeom>
              <a:avLst/>
              <a:gdLst/>
              <a:ahLst/>
              <a:rect l="l" t="t" r="r" b="b"/>
              <a:pathLst>
                <a:path w="1140977" h="267037">
                  <a:moveTo>
                    <a:pt x="469338" y="0"/>
                  </a:moveTo>
                  <a:cubicBezTo>
                    <a:pt x="312892" y="24276"/>
                    <a:pt x="204998" y="56644"/>
                    <a:pt x="0" y="267037"/>
                  </a:cubicBezTo>
                  <a:lnTo>
                    <a:pt x="695915" y="267037"/>
                  </a:lnTo>
                  <a:cubicBezTo>
                    <a:pt x="787625" y="137565"/>
                    <a:pt x="919794" y="64735"/>
                    <a:pt x="1140977" y="0"/>
                  </a:cubicBezTo>
                  <a:lnTo>
                    <a:pt x="4693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下箭头 3"/>
            <p:cNvSpPr/>
            <p:nvPr/>
          </p:nvSpPr>
          <p:spPr>
            <a:xfrm rot="20239200">
              <a:off x="2836080" y="1547640"/>
              <a:ext cx="2372040" cy="3868920"/>
            </a:xfrm>
            <a:custGeom>
              <a:avLst/>
              <a:gdLst/>
              <a:ahLst/>
              <a:rect l="l" t="t" r="r" b="b"/>
              <a:pathLst>
                <a:path w="2372736" h="3869531">
                  <a:moveTo>
                    <a:pt x="123164" y="45026"/>
                  </a:moveTo>
                  <a:lnTo>
                    <a:pt x="199212" y="77997"/>
                  </a:lnTo>
                  <a:lnTo>
                    <a:pt x="0" y="0"/>
                  </a:lnTo>
                  <a:cubicBezTo>
                    <a:pt x="42656" y="14265"/>
                    <a:pt x="83690" y="29286"/>
                    <a:pt x="123164" y="45026"/>
                  </a:cubicBezTo>
                  <a:close/>
                  <a:moveTo>
                    <a:pt x="735051" y="313125"/>
                  </a:moveTo>
                  <a:cubicBezTo>
                    <a:pt x="1855964" y="872993"/>
                    <a:pt x="1771001" y="1742820"/>
                    <a:pt x="1771051" y="2517415"/>
                  </a:cubicBezTo>
                  <a:lnTo>
                    <a:pt x="2079117" y="2352624"/>
                  </a:lnTo>
                  <a:lnTo>
                    <a:pt x="2066222" y="2364821"/>
                  </a:lnTo>
                  <a:lnTo>
                    <a:pt x="2074032" y="2361759"/>
                  </a:lnTo>
                  <a:lnTo>
                    <a:pt x="2086502" y="2359144"/>
                  </a:lnTo>
                  <a:lnTo>
                    <a:pt x="2372736" y="2334828"/>
                  </a:lnTo>
                  <a:lnTo>
                    <a:pt x="1599453" y="3869531"/>
                  </a:lnTo>
                  <a:lnTo>
                    <a:pt x="1392399" y="3843092"/>
                  </a:lnTo>
                  <a:cubicBezTo>
                    <a:pt x="1217792" y="3597241"/>
                    <a:pt x="695615" y="2641066"/>
                    <a:pt x="551811" y="2394422"/>
                  </a:cubicBezTo>
                  <a:lnTo>
                    <a:pt x="529574" y="2363226"/>
                  </a:lnTo>
                  <a:lnTo>
                    <a:pt x="754116" y="2250654"/>
                  </a:lnTo>
                  <a:lnTo>
                    <a:pt x="805440" y="2348027"/>
                  </a:lnTo>
                  <a:lnTo>
                    <a:pt x="1067227" y="2469139"/>
                  </a:lnTo>
                  <a:cubicBezTo>
                    <a:pt x="1070191" y="1727575"/>
                    <a:pt x="1335153" y="583112"/>
                    <a:pt x="199212" y="77997"/>
                  </a:cubicBezTo>
                  <a:cubicBezTo>
                    <a:pt x="366837" y="143627"/>
                    <a:pt x="567426" y="247495"/>
                    <a:pt x="735051" y="313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6762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下箭头 3"/>
            <p:cNvSpPr/>
            <p:nvPr/>
          </p:nvSpPr>
          <p:spPr>
            <a:xfrm rot="20239200">
              <a:off x="2979360" y="1567800"/>
              <a:ext cx="2236680" cy="3807360"/>
            </a:xfrm>
            <a:custGeom>
              <a:avLst/>
              <a:gdLst/>
              <a:ahLst/>
              <a:rect l="l" t="t" r="r" b="b"/>
              <a:pathLst>
                <a:path w="2237358" h="3807876">
                  <a:moveTo>
                    <a:pt x="598302" y="2189266"/>
                  </a:moveTo>
                  <a:lnTo>
                    <a:pt x="1139288" y="2439545"/>
                  </a:lnTo>
                  <a:cubicBezTo>
                    <a:pt x="1142414" y="1657349"/>
                    <a:pt x="1364975" y="456487"/>
                    <a:pt x="0" y="0"/>
                  </a:cubicBezTo>
                  <a:lnTo>
                    <a:pt x="728337" y="297791"/>
                  </a:lnTo>
                  <a:cubicBezTo>
                    <a:pt x="1849250" y="857659"/>
                    <a:pt x="1843062" y="1713226"/>
                    <a:pt x="1843112" y="2487821"/>
                  </a:cubicBezTo>
                  <a:lnTo>
                    <a:pt x="2237358" y="2275211"/>
                  </a:lnTo>
                  <a:lnTo>
                    <a:pt x="1459944" y="3807876"/>
                  </a:lnTo>
                  <a:lnTo>
                    <a:pt x="598302" y="2189266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6762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9"/>
          <p:cNvSpPr/>
          <p:nvPr/>
        </p:nvSpPr>
        <p:spPr>
          <a:xfrm flipH="1">
            <a:off x="1809000" y="2352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 flipH="1">
            <a:off x="5610600" y="4915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flipH="1">
            <a:off x="3420720" y="2241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 flipH="1">
            <a:off x="3868560" y="2711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 flipH="1">
            <a:off x="4129920" y="3181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 flipH="1">
            <a:off x="4376520" y="365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5"/>
          <p:cNvSpPr/>
          <p:nvPr/>
        </p:nvSpPr>
        <p:spPr>
          <a:xfrm>
            <a:off x="4110120" y="2411280"/>
            <a:ext cx="427824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6"/>
          <p:cNvSpPr/>
          <p:nvPr/>
        </p:nvSpPr>
        <p:spPr>
          <a:xfrm>
            <a:off x="4572000" y="2876400"/>
            <a:ext cx="381636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7"/>
          <p:cNvSpPr/>
          <p:nvPr/>
        </p:nvSpPr>
        <p:spPr>
          <a:xfrm>
            <a:off x="4859280" y="3343320"/>
            <a:ext cx="352908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8"/>
          <p:cNvSpPr/>
          <p:nvPr/>
        </p:nvSpPr>
        <p:spPr>
          <a:xfrm>
            <a:off x="5292720" y="3809880"/>
            <a:ext cx="3095640" cy="0"/>
          </a:xfrm>
          <a:prstGeom prst="line">
            <a:avLst/>
          </a:prstGeom>
          <a:ln w="648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7135200" y="24098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7135200" y="28828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7135200" y="33336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135200" y="38052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6541920" y="25560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箭头型时间轴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