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67A-A9CD-4476-B57D-20F5A2FE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312-2EBD-43A9-B26C-4023284B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947-3B9B-4C58-A39B-86268BC5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602-C887-40A5-AAF7-65FD50D3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744-8635-43F3-801B-73EA0C53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6F1-FDDE-4390-8AF4-F0EE994D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9A4-9818-4A6B-ABA6-4F15FB75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E67-4F12-44DE-BFA4-BF000B64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6A9-C4AF-4C27-8E1C-89225E62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E33-A3A2-44DF-8DD5-EF3440A1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0D3-6612-45B5-96D2-E248F78B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277-9D07-4D6A-A6E4-F69D9151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DB57-4996-4A6C-A63D-BC88329CB3D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9BCA-B8C0-46CD-8AB8-AAE261859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hyperlink" Target="http://www.rapidppt.com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94000" y="3681360"/>
            <a:ext cx="3547800" cy="1176480"/>
            <a:chOff x="1494000" y="3681360"/>
            <a:chExt cx="3547800" cy="1176480"/>
          </a:xfrm>
        </p:grpSpPr>
        <p:pic>
          <p:nvPicPr>
            <p:cNvPr id="42" name="椭圆 10" descr=""/>
            <p:cNvPicPr/>
            <p:nvPr/>
          </p:nvPicPr>
          <p:blipFill>
            <a:blip r:embed="rId1"/>
            <a:stretch/>
          </p:blipFill>
          <p:spPr>
            <a:xfrm>
              <a:off x="1494000" y="3681360"/>
              <a:ext cx="3547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2090160" y="3930480"/>
              <a:ext cx="2269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895480" y="4048200"/>
            <a:ext cx="3548160" cy="1182600"/>
            <a:chOff x="2895480" y="4048200"/>
            <a:chExt cx="3548160" cy="1182600"/>
          </a:xfrm>
        </p:grpSpPr>
        <p:pic>
          <p:nvPicPr>
            <p:cNvPr id="45" name="椭圆 10" descr=""/>
            <p:cNvPicPr/>
            <p:nvPr/>
          </p:nvPicPr>
          <p:blipFill>
            <a:blip r:embed="rId2"/>
            <a:stretch/>
          </p:blipFill>
          <p:spPr>
            <a:xfrm>
              <a:off x="2895480" y="4048200"/>
              <a:ext cx="3548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3493800" y="4302000"/>
              <a:ext cx="2270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224240" y="3681360"/>
            <a:ext cx="3548160" cy="1176480"/>
            <a:chOff x="4224240" y="3681360"/>
            <a:chExt cx="3548160" cy="1176480"/>
          </a:xfrm>
        </p:grpSpPr>
        <p:pic>
          <p:nvPicPr>
            <p:cNvPr id="48" name="椭圆 10" descr=""/>
            <p:cNvPicPr/>
            <p:nvPr/>
          </p:nvPicPr>
          <p:blipFill>
            <a:blip r:embed="rId3"/>
            <a:stretch/>
          </p:blipFill>
          <p:spPr>
            <a:xfrm>
              <a:off x="4224240" y="3681360"/>
              <a:ext cx="35481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4824360" y="3930480"/>
              <a:ext cx="2271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559480" y="4048200"/>
            <a:ext cx="3548160" cy="1182600"/>
            <a:chOff x="5559480" y="4048200"/>
            <a:chExt cx="3548160" cy="1182600"/>
          </a:xfrm>
        </p:grpSpPr>
        <p:pic>
          <p:nvPicPr>
            <p:cNvPr id="51" name="椭圆 10" descr=""/>
            <p:cNvPicPr/>
            <p:nvPr/>
          </p:nvPicPr>
          <p:blipFill>
            <a:blip r:embed="rId4"/>
            <a:stretch/>
          </p:blipFill>
          <p:spPr>
            <a:xfrm>
              <a:off x="5559480" y="4048200"/>
              <a:ext cx="3548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6159600" y="4302000"/>
              <a:ext cx="2270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22400" y="3949560"/>
            <a:ext cx="3547800" cy="1176480"/>
            <a:chOff x="122400" y="3949560"/>
            <a:chExt cx="3547800" cy="1176480"/>
          </a:xfrm>
        </p:grpSpPr>
        <p:pic>
          <p:nvPicPr>
            <p:cNvPr id="54" name="椭圆 10" descr=""/>
            <p:cNvPicPr/>
            <p:nvPr/>
          </p:nvPicPr>
          <p:blipFill>
            <a:blip r:embed="rId5"/>
            <a:stretch/>
          </p:blipFill>
          <p:spPr>
            <a:xfrm>
              <a:off x="122400" y="3949560"/>
              <a:ext cx="3547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721800" y="4200480"/>
              <a:ext cx="2269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739960" y="2708280"/>
            <a:ext cx="996840" cy="1784520"/>
            <a:chOff x="2739960" y="2708280"/>
            <a:chExt cx="996840" cy="1784520"/>
          </a:xfrm>
        </p:grpSpPr>
        <p:pic>
          <p:nvPicPr>
            <p:cNvPr id="57" name="圆角矩形 9" descr=""/>
            <p:cNvPicPr/>
            <p:nvPr/>
          </p:nvPicPr>
          <p:blipFill>
            <a:blip r:embed="rId6"/>
            <a:stretch/>
          </p:blipFill>
          <p:spPr>
            <a:xfrm>
              <a:off x="2739960" y="3836520"/>
              <a:ext cx="99684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圆角矩形 10" descr=""/>
            <p:cNvPicPr/>
            <p:nvPr/>
          </p:nvPicPr>
          <p:blipFill>
            <a:blip r:embed="rId7"/>
            <a:stretch/>
          </p:blipFill>
          <p:spPr>
            <a:xfrm>
              <a:off x="2744280" y="3830040"/>
              <a:ext cx="99252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椭圆 10"/>
            <p:cNvSpPr/>
            <p:nvPr/>
          </p:nvSpPr>
          <p:spPr>
            <a:xfrm>
              <a:off x="2912760" y="2708280"/>
              <a:ext cx="662760" cy="153576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d74e05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10"/>
            <p:cNvSpPr/>
            <p:nvPr/>
          </p:nvSpPr>
          <p:spPr>
            <a:xfrm>
              <a:off x="3062160" y="3054960"/>
              <a:ext cx="363960" cy="30096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0"/>
            <p:cNvSpPr/>
            <p:nvPr/>
          </p:nvSpPr>
          <p:spPr>
            <a:xfrm>
              <a:off x="2961000" y="3573720"/>
              <a:ext cx="567720" cy="29376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475240" y="2708280"/>
            <a:ext cx="996840" cy="1784520"/>
            <a:chOff x="5475240" y="2708280"/>
            <a:chExt cx="996840" cy="1784520"/>
          </a:xfrm>
        </p:grpSpPr>
        <p:pic>
          <p:nvPicPr>
            <p:cNvPr id="63" name="圆角矩形 15" descr=""/>
            <p:cNvPicPr/>
            <p:nvPr/>
          </p:nvPicPr>
          <p:blipFill>
            <a:blip r:embed="rId8"/>
            <a:stretch/>
          </p:blipFill>
          <p:spPr>
            <a:xfrm>
              <a:off x="5475240" y="3836520"/>
              <a:ext cx="99684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圆角矩形 16" descr=""/>
            <p:cNvPicPr/>
            <p:nvPr/>
          </p:nvPicPr>
          <p:blipFill>
            <a:blip r:embed="rId9"/>
            <a:stretch/>
          </p:blipFill>
          <p:spPr>
            <a:xfrm>
              <a:off x="5475240" y="3830040"/>
              <a:ext cx="99684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椭圆 10"/>
            <p:cNvSpPr/>
            <p:nvPr/>
          </p:nvSpPr>
          <p:spPr>
            <a:xfrm>
              <a:off x="5647320" y="2708280"/>
              <a:ext cx="662760" cy="153576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d74e05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0"/>
            <p:cNvSpPr/>
            <p:nvPr/>
          </p:nvSpPr>
          <p:spPr>
            <a:xfrm>
              <a:off x="5797080" y="3054960"/>
              <a:ext cx="363960" cy="30096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0"/>
            <p:cNvSpPr/>
            <p:nvPr/>
          </p:nvSpPr>
          <p:spPr>
            <a:xfrm>
              <a:off x="5695920" y="3573720"/>
              <a:ext cx="567720" cy="29376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任意多边形 20"/>
          <p:cNvSpPr/>
          <p:nvPr/>
        </p:nvSpPr>
        <p:spPr>
          <a:xfrm>
            <a:off x="641520" y="3807000"/>
            <a:ext cx="7613640" cy="682560"/>
          </a:xfrm>
          <a:custGeom>
            <a:avLst/>
            <a:gdLst/>
            <a:ahLst/>
            <a:rect l="l" t="t" r="r" b="b"/>
            <a:pathLst>
              <a:path w="7613650" h="682824">
                <a:moveTo>
                  <a:pt x="0" y="341738"/>
                </a:moveTo>
                <a:cubicBezTo>
                  <a:pt x="157692" y="222146"/>
                  <a:pt x="601133" y="-29888"/>
                  <a:pt x="1225550" y="2920"/>
                </a:cubicBezTo>
                <a:cubicBezTo>
                  <a:pt x="1823508" y="35728"/>
                  <a:pt x="2069042" y="611462"/>
                  <a:pt x="2543175" y="653795"/>
                </a:cubicBezTo>
                <a:cubicBezTo>
                  <a:pt x="3104092" y="649562"/>
                  <a:pt x="3469065" y="229857"/>
                  <a:pt x="3963307" y="235149"/>
                </a:cubicBezTo>
                <a:cubicBezTo>
                  <a:pt x="4616299" y="231974"/>
                  <a:pt x="4687359" y="672392"/>
                  <a:pt x="5393872" y="682824"/>
                </a:cubicBezTo>
                <a:cubicBezTo>
                  <a:pt x="6008461" y="610102"/>
                  <a:pt x="6205764" y="130524"/>
                  <a:pt x="6742339" y="53266"/>
                </a:cubicBezTo>
                <a:cubicBezTo>
                  <a:pt x="7158415" y="32099"/>
                  <a:pt x="7483777" y="273098"/>
                  <a:pt x="7613650" y="454677"/>
                </a:cubicBezTo>
              </a:path>
            </a:pathLst>
          </a:custGeom>
          <a:noFill/>
          <a:ln w="9360">
            <a:solidFill>
              <a:srgbClr val="262626"/>
            </a:solidFill>
            <a:prstDash val="sys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71600" y="3098880"/>
            <a:ext cx="968400" cy="1733400"/>
            <a:chOff x="1371600" y="3098880"/>
            <a:chExt cx="968400" cy="1733400"/>
          </a:xfrm>
        </p:grpSpPr>
        <p:pic>
          <p:nvPicPr>
            <p:cNvPr id="70" name="圆角矩形 22" descr=""/>
            <p:cNvPicPr/>
            <p:nvPr/>
          </p:nvPicPr>
          <p:blipFill>
            <a:blip r:embed="rId10"/>
            <a:stretch/>
          </p:blipFill>
          <p:spPr>
            <a:xfrm>
              <a:off x="137160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23" descr=""/>
            <p:cNvPicPr/>
            <p:nvPr/>
          </p:nvPicPr>
          <p:blipFill>
            <a:blip r:embed="rId11"/>
            <a:stretch/>
          </p:blipFill>
          <p:spPr>
            <a:xfrm>
              <a:off x="137592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椭圆 10"/>
            <p:cNvSpPr/>
            <p:nvPr/>
          </p:nvSpPr>
          <p:spPr>
            <a:xfrm>
              <a:off x="1541160" y="3098880"/>
              <a:ext cx="642960" cy="149220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c5134a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0"/>
            <p:cNvSpPr/>
            <p:nvPr/>
          </p:nvSpPr>
          <p:spPr>
            <a:xfrm>
              <a:off x="1685880" y="3435840"/>
              <a:ext cx="352800" cy="292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10"/>
            <p:cNvSpPr/>
            <p:nvPr/>
          </p:nvSpPr>
          <p:spPr>
            <a:xfrm>
              <a:off x="1587960" y="3939840"/>
              <a:ext cx="550440" cy="2854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179960" y="3098880"/>
            <a:ext cx="968400" cy="1733400"/>
            <a:chOff x="4179960" y="3098880"/>
            <a:chExt cx="968400" cy="1733400"/>
          </a:xfrm>
        </p:grpSpPr>
        <p:pic>
          <p:nvPicPr>
            <p:cNvPr id="76" name="圆角矩形 28" descr=""/>
            <p:cNvPicPr/>
            <p:nvPr/>
          </p:nvPicPr>
          <p:blipFill>
            <a:blip r:embed="rId12"/>
            <a:stretch/>
          </p:blipFill>
          <p:spPr>
            <a:xfrm>
              <a:off x="417996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圆角矩形 29" descr=""/>
            <p:cNvPicPr/>
            <p:nvPr/>
          </p:nvPicPr>
          <p:blipFill>
            <a:blip r:embed="rId13"/>
            <a:stretch/>
          </p:blipFill>
          <p:spPr>
            <a:xfrm>
              <a:off x="418428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椭圆 10"/>
            <p:cNvSpPr/>
            <p:nvPr/>
          </p:nvSpPr>
          <p:spPr>
            <a:xfrm>
              <a:off x="4348080" y="3098880"/>
              <a:ext cx="642960" cy="149220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c5134a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10"/>
            <p:cNvSpPr/>
            <p:nvPr/>
          </p:nvSpPr>
          <p:spPr>
            <a:xfrm>
              <a:off x="4492800" y="3435840"/>
              <a:ext cx="352800" cy="292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10"/>
            <p:cNvSpPr/>
            <p:nvPr/>
          </p:nvSpPr>
          <p:spPr>
            <a:xfrm>
              <a:off x="4394880" y="3939840"/>
              <a:ext cx="550440" cy="2854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843600" y="3098880"/>
            <a:ext cx="968400" cy="1733400"/>
            <a:chOff x="6843600" y="3098880"/>
            <a:chExt cx="968400" cy="1733400"/>
          </a:xfrm>
        </p:grpSpPr>
        <p:pic>
          <p:nvPicPr>
            <p:cNvPr id="82" name="圆角矩形 34" descr=""/>
            <p:cNvPicPr/>
            <p:nvPr/>
          </p:nvPicPr>
          <p:blipFill>
            <a:blip r:embed="rId14"/>
            <a:stretch/>
          </p:blipFill>
          <p:spPr>
            <a:xfrm>
              <a:off x="684360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圆角矩形 35" descr=""/>
            <p:cNvPicPr/>
            <p:nvPr/>
          </p:nvPicPr>
          <p:blipFill>
            <a:blip r:embed="rId15"/>
            <a:stretch/>
          </p:blipFill>
          <p:spPr>
            <a:xfrm>
              <a:off x="684792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椭圆 10"/>
            <p:cNvSpPr/>
            <p:nvPr/>
          </p:nvSpPr>
          <p:spPr>
            <a:xfrm>
              <a:off x="7012080" y="3098880"/>
              <a:ext cx="642960" cy="1492200"/>
            </a:xfrm>
            <a:custGeom>
              <a:avLst/>
              <a:gdLst/>
              <a:ahLst/>
              <a:rect l="l" t="t" r="r" b="b"/>
              <a:pathLst>
                <a:path w="1379162" h="2188338">
                  <a:moveTo>
                    <a:pt x="559510" y="52984"/>
                  </a:moveTo>
                  <a:cubicBezTo>
                    <a:pt x="593366" y="5359"/>
                    <a:pt x="731997" y="-37503"/>
                    <a:pt x="818240" y="52984"/>
                  </a:cubicBezTo>
                  <a:cubicBezTo>
                    <a:pt x="816162" y="50325"/>
                    <a:pt x="1282234" y="1585192"/>
                    <a:pt x="1375721" y="1894407"/>
                  </a:cubicBezTo>
                  <a:cubicBezTo>
                    <a:pt x="1378870" y="1898789"/>
                    <a:pt x="1379162" y="1903517"/>
                    <a:pt x="1379162" y="1908272"/>
                  </a:cubicBezTo>
                  <a:cubicBezTo>
                    <a:pt x="1379162" y="2062948"/>
                    <a:pt x="1070426" y="2188338"/>
                    <a:pt x="689581" y="2188338"/>
                  </a:cubicBezTo>
                  <a:cubicBezTo>
                    <a:pt x="308736" y="2188338"/>
                    <a:pt x="0" y="2062948"/>
                    <a:pt x="0" y="1908272"/>
                  </a:cubicBezTo>
                  <a:lnTo>
                    <a:pt x="559510" y="52984"/>
                  </a:lnTo>
                  <a:close/>
                </a:path>
              </a:pathLst>
            </a:custGeom>
            <a:gradFill rotWithShape="0">
              <a:gsLst>
                <a:gs pos="0">
                  <a:srgbClr val="be1247"/>
                </a:gs>
                <a:gs pos="100000">
                  <a:srgbClr val="c5134a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10"/>
            <p:cNvSpPr/>
            <p:nvPr/>
          </p:nvSpPr>
          <p:spPr>
            <a:xfrm>
              <a:off x="7156800" y="3435840"/>
              <a:ext cx="352800" cy="292320"/>
            </a:xfrm>
            <a:custGeom>
              <a:avLst/>
              <a:gdLst/>
              <a:ahLst/>
              <a:rect l="l" t="t" r="r" b="b"/>
              <a:pathLst>
                <a:path w="590834" h="334594">
                  <a:moveTo>
                    <a:pt x="86928" y="0"/>
                  </a:moveTo>
                  <a:cubicBezTo>
                    <a:pt x="160265" y="23782"/>
                    <a:pt x="240109" y="35684"/>
                    <a:pt x="323402" y="35684"/>
                  </a:cubicBezTo>
                  <a:cubicBezTo>
                    <a:pt x="387332" y="35684"/>
                    <a:pt x="449230" y="28672"/>
                    <a:pt x="507434" y="13120"/>
                  </a:cubicBezTo>
                  <a:cubicBezTo>
                    <a:pt x="531772" y="93575"/>
                    <a:pt x="560176" y="187373"/>
                    <a:pt x="590834" y="288543"/>
                  </a:cubicBezTo>
                  <a:cubicBezTo>
                    <a:pt x="499769" y="318822"/>
                    <a:pt x="400175" y="334594"/>
                    <a:pt x="296010" y="334594"/>
                  </a:cubicBezTo>
                  <a:cubicBezTo>
                    <a:pt x="191403" y="334594"/>
                    <a:pt x="91406" y="318688"/>
                    <a:pt x="0" y="288246"/>
                  </a:cubicBezTo>
                  <a:lnTo>
                    <a:pt x="86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0"/>
            <p:cNvSpPr/>
            <p:nvPr/>
          </p:nvSpPr>
          <p:spPr>
            <a:xfrm>
              <a:off x="7058880" y="3939840"/>
              <a:ext cx="550440" cy="285480"/>
            </a:xfrm>
            <a:custGeom>
              <a:avLst/>
              <a:gdLst/>
              <a:ahLst/>
              <a:rect l="l" t="t" r="r" b="b"/>
              <a:pathLst>
                <a:path w="1082218" h="392352">
                  <a:moveTo>
                    <a:pt x="92746" y="0"/>
                  </a:moveTo>
                  <a:cubicBezTo>
                    <a:pt x="229132" y="56158"/>
                    <a:pt x="381210" y="86960"/>
                    <a:pt x="541436" y="86960"/>
                  </a:cubicBezTo>
                  <a:cubicBezTo>
                    <a:pt x="701493" y="86960"/>
                    <a:pt x="853418" y="56223"/>
                    <a:pt x="989694" y="184"/>
                  </a:cubicBezTo>
                  <a:cubicBezTo>
                    <a:pt x="1021621" y="105469"/>
                    <a:pt x="1052999" y="208935"/>
                    <a:pt x="1082218" y="305289"/>
                  </a:cubicBezTo>
                  <a:cubicBezTo>
                    <a:pt x="917102" y="361516"/>
                    <a:pt x="732512" y="392352"/>
                    <a:pt x="537839" y="392352"/>
                  </a:cubicBezTo>
                  <a:cubicBezTo>
                    <a:pt x="345739" y="392352"/>
                    <a:pt x="163457" y="362325"/>
                    <a:pt x="0" y="307539"/>
                  </a:cubicBezTo>
                  <a:lnTo>
                    <a:pt x="927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6a6a6"/>
                </a:gs>
                <a:gs pos="100000">
                  <a:srgbClr val="a6a6a6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直接连接符 39"/>
          <p:cNvSpPr/>
          <p:nvPr/>
        </p:nvSpPr>
        <p:spPr>
          <a:xfrm>
            <a:off x="3240000" y="2036880"/>
            <a:ext cx="0" cy="66816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40"/>
          <p:cNvSpPr/>
          <p:nvPr/>
        </p:nvSpPr>
        <p:spPr>
          <a:xfrm>
            <a:off x="1862280" y="2535120"/>
            <a:ext cx="0" cy="57312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41"/>
          <p:cNvSpPr/>
          <p:nvPr/>
        </p:nvSpPr>
        <p:spPr>
          <a:xfrm>
            <a:off x="4667400" y="2492280"/>
            <a:ext cx="0" cy="5968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2"/>
          <p:cNvSpPr/>
          <p:nvPr/>
        </p:nvSpPr>
        <p:spPr>
          <a:xfrm>
            <a:off x="5972040" y="1974960"/>
            <a:ext cx="0" cy="7300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43"/>
          <p:cNvSpPr/>
          <p:nvPr/>
        </p:nvSpPr>
        <p:spPr>
          <a:xfrm>
            <a:off x="7337520" y="2514600"/>
            <a:ext cx="0" cy="5842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 flipH="1">
            <a:off x="120960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 flipH="1">
            <a:off x="2562120" y="151272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 flipH="1">
            <a:off x="401796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 flipH="1">
            <a:off x="5344560" y="1512720"/>
            <a:ext cx="130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 flipH="1">
            <a:off x="6681960" y="203688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9"/>
          <p:cNvSpPr/>
          <p:nvPr/>
        </p:nvSpPr>
        <p:spPr>
          <a:xfrm>
            <a:off x="5554800" y="26028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交通障碍警示具象场景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0">
            <a:hlinkClick r:id="rId16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538-5767-4098-91D9-EDD69AEB3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4:0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