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ECA4-8E7D-431F-974A-ECB76021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A780-8E98-408C-AC3C-82737A63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074-BA1B-4CBC-9A39-DFD771C9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4C10-E55E-478F-BD56-DF61EB1F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6F66-5C5A-4648-B214-893BADF6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FFAA-29C5-44EF-B87A-473F0E4B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FF34-BC66-44CB-93E9-C49AB5BB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951F-5A50-4557-B9B6-1B1021BE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FEB4-A101-4E0C-AAE9-0E8D9108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FF0-C3B3-47C5-B410-916665F8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DA4-A84E-4714-B9DB-8B5873F9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A2E-F9A6-4582-829C-F34DC432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EF71-578A-4C19-8092-54D8E82A48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CB21-EB2F-4DB2-B11B-FC479F3723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rcRect l="0" t="0" r="11111" b="6666"/>
          <a:stretch/>
        </p:blipFill>
        <p:spPr>
          <a:xfrm>
            <a:off x="0" y="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5334120"/>
            <a:ext cx="15228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5181480"/>
            <a:ext cx="15228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5181480"/>
            <a:ext cx="15228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9920" y="57913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[Presented b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7C2C-A91C-4EC1-8FA0-2F431BD8AB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57:3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