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540-1A2F-4F1D-BF0B-A210D253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670-29C0-40C7-8EAE-C7454733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5D0-8476-454E-8A52-92CA47C6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BDE-A013-4A3D-82B6-DF817AB2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645F-9BDC-40D5-9874-1F7C4CBF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04D4-CCAF-45AD-92B4-F1957EA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E353-B125-4B74-8EB3-FA8433A8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9C8-F013-46DB-A31D-CA78228A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9A7-4D65-45EC-A6CE-71BD5C7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8CF8-9AE3-4630-80FB-7816EEB0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D50-CF6B-4339-AF86-CD561D2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D80-5053-4E40-9786-2DD448CB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ECE7-F3A5-4F29-BD0E-A1A2695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7C5-8908-4192-8949-8A471A01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8692-9951-41FA-AD57-E617AB73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F59-3509-4275-8563-6A2579C5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FE2A-92B9-4E8B-93CE-BBE35BA7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066-8362-4A30-BCA7-CAB19844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2C8-3168-4EBF-9F8E-0527B1B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25F-7237-4FC2-9274-48AB6B4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EF7-3446-4CD8-AA9E-C807AC80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230-0AE1-42D1-B696-DC4A4A8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752-E6E9-44C8-9856-DD0F1C0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A8B-D2CD-491F-A264-B90FF070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5081-7128-4EDF-99EE-BA334B3E59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0DBC-9F66-40DE-A38C-583B817A8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FD11-189E-4774-A225-2D4876EBAC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7960"/>
            <a:ext cx="2895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C49-E6D1-40ED-B88E-0AC5D1FB0E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67859-1303130G15020.jpg"/>
          <p:cNvPicPr/>
          <p:nvPr/>
        </p:nvPicPr>
        <p:blipFill>
          <a:blip r:embed="rId1"/>
          <a:stretch/>
        </p:blipFill>
        <p:spPr>
          <a:xfrm>
            <a:off x="622440" y="0"/>
            <a:ext cx="6151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267859-1303130G92373.jpg"/>
          <p:cNvPicPr/>
          <p:nvPr/>
        </p:nvPicPr>
        <p:blipFill>
          <a:blip r:embed="rId1"/>
          <a:stretch/>
        </p:blipFill>
        <p:spPr>
          <a:xfrm>
            <a:off x="3424320" y="0"/>
            <a:ext cx="57020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318765-130Q10H14272.jpg"/>
          <p:cNvPicPr/>
          <p:nvPr/>
        </p:nvPicPr>
        <p:blipFill>
          <a:blip r:embed="rId1"/>
          <a:stretch/>
        </p:blipFill>
        <p:spPr>
          <a:xfrm>
            <a:off x="0" y="847800"/>
            <a:ext cx="6200640" cy="572292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318765-130Q10J50264.jpg"/>
          <p:cNvPicPr/>
          <p:nvPr/>
        </p:nvPicPr>
        <p:blipFill>
          <a:blip r:embed="rId1"/>
          <a:stretch/>
        </p:blipFill>
        <p:spPr>
          <a:xfrm>
            <a:off x="1523880" y="-1440"/>
            <a:ext cx="762012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2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