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800-6835-440D-B164-70B2C01C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63B-A1A6-4697-8B02-0C0FC38B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198-7663-4FE8-B9C6-A7428349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E15-F0A8-450B-9158-40F6B16B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793-4ECF-412B-8578-DE90484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3B3-7327-481E-A311-9237F239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B31-5790-4D5C-BDC8-A617158A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CBC-991F-4E75-84CF-09673055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6B7-4FC5-4AD1-B4F7-9F2E807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C8C-FE37-4676-B628-AE6CA95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9A1-DA1B-48D2-B900-9DADFA3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DF5-68C6-4AB9-88FD-0E74B26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FC1-5CAF-4061-8EEC-F0105533DF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7F0-4519-49BA-86A7-DE7C6DCBE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35712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扩散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83320" y="2342160"/>
            <a:ext cx="3485160" cy="3475440"/>
            <a:chOff x="2983320" y="2342160"/>
            <a:chExt cx="3485160" cy="3475440"/>
          </a:xfrm>
        </p:grpSpPr>
        <p:sp>
          <p:nvSpPr>
            <p:cNvPr id="43" name="等腰三角形 5"/>
            <p:cNvSpPr/>
            <p:nvPr/>
          </p:nvSpPr>
          <p:spPr>
            <a:xfrm rot="19422600">
              <a:off x="3345480" y="257220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5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正五边形 6"/>
            <p:cNvSpPr/>
            <p:nvPr/>
          </p:nvSpPr>
          <p:spPr>
            <a:xfrm>
              <a:off x="3745080" y="3127680"/>
              <a:ext cx="1799640" cy="1713960"/>
            </a:xfrm>
            <a:prstGeom prst="pentag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等腰三角形 7"/>
            <p:cNvSpPr/>
            <p:nvPr/>
          </p:nvSpPr>
          <p:spPr>
            <a:xfrm rot="2160000">
              <a:off x="4844880" y="257184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等腰三角形 8"/>
            <p:cNvSpPr/>
            <p:nvPr/>
          </p:nvSpPr>
          <p:spPr>
            <a:xfrm rot="754200">
              <a:off x="3071880" y="3805920"/>
              <a:ext cx="108432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6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等腰三角形 9"/>
            <p:cNvSpPr/>
            <p:nvPr/>
          </p:nvSpPr>
          <p:spPr>
            <a:xfrm rot="6478800">
              <a:off x="5313960" y="3999600"/>
              <a:ext cx="108468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0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等腰三角形 10"/>
            <p:cNvSpPr/>
            <p:nvPr/>
          </p:nvSpPr>
          <p:spPr>
            <a:xfrm rot="3633000">
              <a:off x="4243320" y="4647600"/>
              <a:ext cx="1084680" cy="93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7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线形标注 1 11"/>
          <p:cNvSpPr/>
          <p:nvPr/>
        </p:nvSpPr>
        <p:spPr>
          <a:xfrm>
            <a:off x="6858000" y="192888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114231"/>
              <a:gd name="adj4" fmla="val -79958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线形标注 1 12"/>
          <p:cNvSpPr/>
          <p:nvPr/>
        </p:nvSpPr>
        <p:spPr>
          <a:xfrm>
            <a:off x="7500960" y="385776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114231"/>
              <a:gd name="adj4" fmla="val -79958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线形标注 1 13"/>
          <p:cNvSpPr/>
          <p:nvPr/>
        </p:nvSpPr>
        <p:spPr>
          <a:xfrm>
            <a:off x="1071720" y="2071800"/>
            <a:ext cx="1500120" cy="642960"/>
          </a:xfrm>
          <a:prstGeom prst="borderCallout1">
            <a:avLst>
              <a:gd name="adj1" fmla="val 18750"/>
              <a:gd name="adj2" fmla="val -8333"/>
              <a:gd name="adj3" fmla="val 95152"/>
              <a:gd name="adj4" fmla="val 16979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线形标注 1 14"/>
          <p:cNvSpPr/>
          <p:nvPr/>
        </p:nvSpPr>
        <p:spPr>
          <a:xfrm>
            <a:off x="428760" y="4000680"/>
            <a:ext cx="1500120" cy="642600"/>
          </a:xfrm>
          <a:prstGeom prst="borderCallout1">
            <a:avLst>
              <a:gd name="adj1" fmla="val 18750"/>
              <a:gd name="adj2" fmla="val -8333"/>
              <a:gd name="adj3" fmla="val 95152"/>
              <a:gd name="adj4" fmla="val 16979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5"/>
          <p:cNvSpPr/>
          <p:nvPr/>
        </p:nvSpPr>
        <p:spPr>
          <a:xfrm>
            <a:off x="1857240" y="5929200"/>
            <a:ext cx="1500480" cy="642960"/>
          </a:xfrm>
          <a:prstGeom prst="borderCallout1">
            <a:avLst>
              <a:gd name="adj1" fmla="val 18750"/>
              <a:gd name="adj2" fmla="val -8333"/>
              <a:gd name="adj3" fmla="val -21046"/>
              <a:gd name="adj4" fmla="val 185402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A48-CF1D-4C9B-B5E8-1A1275947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8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