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D64-AA68-4496-8057-E08ACBA9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B39-0B7F-49B4-B846-202BBA6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DFE-DD37-4809-9636-5EA1D98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687-DBFF-40CC-A718-B9D9CB50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8E6-E343-4D06-A8EF-4FD1533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C78-501D-48D7-89A2-F8F64A0E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786-8851-4DAF-AB0E-F6FB8EC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49-2143-4A16-A6D0-91E2D6BA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953-5830-4E06-904A-D21D122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6AD-4DFD-4631-9B54-2903677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7BE-A9CA-454D-87D1-318FDF3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DE2-1582-4D15-A5DF-C03CA21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E1E-F9DE-4850-AA77-8356BDD3F1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8AA5-ABCA-441B-8234-C8B42789FA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2141640"/>
            <a:ext cx="9142560" cy="3448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9" descr="C:\Documents and Settings\Administrator\桌面\6655 (1) [转换].png"/>
          <p:cNvPicPr/>
          <p:nvPr/>
        </p:nvPicPr>
        <p:blipFill>
          <a:blip r:embed="rId2"/>
          <a:stretch/>
        </p:blipFill>
        <p:spPr>
          <a:xfrm>
            <a:off x="324000" y="2924280"/>
            <a:ext cx="8297640" cy="3270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"/>
          <p:cNvPicPr/>
          <p:nvPr/>
        </p:nvPicPr>
        <p:blipFill>
          <a:blip r:embed="rId3"/>
          <a:stretch/>
        </p:blipFill>
        <p:spPr>
          <a:xfrm>
            <a:off x="-14400" y="4916520"/>
            <a:ext cx="9156960" cy="1768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9" descr="C:\Documents and Settings\Administrator\桌面\6655 (1) [转换].png"/>
          <p:cNvPicPr/>
          <p:nvPr/>
        </p:nvPicPr>
        <p:blipFill>
          <a:blip r:embed="rId4"/>
          <a:stretch/>
        </p:blipFill>
        <p:spPr>
          <a:xfrm>
            <a:off x="3367080" y="4390920"/>
            <a:ext cx="1657440" cy="181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C:\Documents and Settings\Administrator\桌面\6655 (1) [转换].png"/>
          <p:cNvPicPr/>
          <p:nvPr/>
        </p:nvPicPr>
        <p:blipFill>
          <a:blip r:embed="rId5"/>
          <a:stretch/>
        </p:blipFill>
        <p:spPr>
          <a:xfrm>
            <a:off x="4897440" y="4573440"/>
            <a:ext cx="1619280" cy="163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C:\Documents and Settings\Administrator\桌面\6655 (1) [转换].png"/>
          <p:cNvPicPr/>
          <p:nvPr/>
        </p:nvPicPr>
        <p:blipFill>
          <a:blip r:embed="rId6"/>
          <a:stretch/>
        </p:blipFill>
        <p:spPr>
          <a:xfrm>
            <a:off x="6415200" y="4573440"/>
            <a:ext cx="1181160" cy="163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C:\Documents and Settings\Administrator\桌面\6655 (1) [转换].png"/>
          <p:cNvPicPr/>
          <p:nvPr/>
        </p:nvPicPr>
        <p:blipFill>
          <a:blip r:embed="rId7"/>
          <a:stretch/>
        </p:blipFill>
        <p:spPr>
          <a:xfrm>
            <a:off x="2071800" y="4194000"/>
            <a:ext cx="1365120" cy="201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C:\Documents and Settings\Administrator\桌面\6655 (1) [转换].png"/>
          <p:cNvPicPr/>
          <p:nvPr/>
        </p:nvPicPr>
        <p:blipFill>
          <a:blip r:embed="rId8"/>
          <a:stretch/>
        </p:blipFill>
        <p:spPr>
          <a:xfrm>
            <a:off x="7505640" y="4938840"/>
            <a:ext cx="1116000" cy="126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C:\Documents and Settings\Administrator\桌面\6655 (1) [转换].png"/>
          <p:cNvPicPr/>
          <p:nvPr/>
        </p:nvPicPr>
        <p:blipFill>
          <a:blip r:embed="rId9"/>
          <a:stretch/>
        </p:blipFill>
        <p:spPr>
          <a:xfrm>
            <a:off x="469800" y="4059360"/>
            <a:ext cx="1551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252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4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5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256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8A0-9204-408D-B952-C6E864B80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3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