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3.jpeg" ContentType="image/jpeg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4.png" ContentType="image/png"/>
  <Override PartName="/ppt/media/image12.gif" ContentType="image/gif"/>
  <Override PartName="/ppt/media/image8.wmf" ContentType="image/x-wmf"/>
  <Override PartName="/ppt/media/image13.wmf" ContentType="image/x-wmf"/>
  <Override PartName="/ppt/media/image31.png" ContentType="image/png"/>
  <Override PartName="/ppt/media/image4.png" ContentType="image/png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7B1-DC1C-4B37-B002-3BCF01C9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34D-D1EE-493F-BA90-7D66DE9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652-437D-4761-B38F-C46B3ED3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2D7-B07C-4126-8FAB-651C8A19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259-10C2-4D26-B266-BCE0FC2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EB1-DF82-4157-967F-913C722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80D-FBBC-4CFF-8317-1946B4C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3F6-C692-4883-8C5F-75050FF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FFC-A148-47EE-A88C-1AF2538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C41-CBCE-4513-8D08-C43BE6C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0C8-8473-4FCE-8943-D410AEF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A75-33AD-428D-A7C0-FFE26CC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43B3-94A5-4655-A173-422D57DE38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1E5B-6636-469E-8C84-403B6CCA6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jpeg"/><Relationship Id="rId7" Type="http://schemas.openxmlformats.org/officeDocument/2006/relationships/image" Target="../media/image30.wmf"/><Relationship Id="rId8" Type="http://schemas.openxmlformats.org/officeDocument/2006/relationships/image" Target="../media/image31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卡通物品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592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1800000" cy="148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465300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87640" y="213372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867280" y="2565360"/>
            <a:ext cx="2519640" cy="153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940360" y="549360"/>
            <a:ext cx="201636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934320" y="4648320"/>
            <a:ext cx="16016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39640" y="2349360"/>
            <a:ext cx="1944720" cy="1832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952880" y="5029200"/>
            <a:ext cx="1362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S00580_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981080" cy="13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0" y="30492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48360" y="2362320"/>
            <a:ext cx="2195640" cy="145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19720" y="228600"/>
            <a:ext cx="1523880" cy="133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2514600"/>
            <a:ext cx="1828800" cy="11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04920" y="457200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90920" y="4419720"/>
            <a:ext cx="1277640" cy="191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572000" y="472428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6858000" y="46483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562720" y="2438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1828800" y="2590920"/>
            <a:ext cx="117648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3733920" y="2438280"/>
            <a:ext cx="14475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2319480" cy="2260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276720" y="2971800"/>
            <a:ext cx="2133360" cy="212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553080" y="3200400"/>
            <a:ext cx="1770120" cy="173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858000" y="380880"/>
            <a:ext cx="1251000" cy="175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8600" y="5486400"/>
            <a:ext cx="266688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564000" y="5281560"/>
            <a:ext cx="24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300720" y="5445000"/>
            <a:ext cx="28432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E06-2713-4769-8662-E748EFDDC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6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