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4E7-9498-49F0-9DC2-FF953BA8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27F-07D1-473A-93B1-8899C8E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9B4-352D-4E9D-9638-279E3FA0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6C5-98E8-4748-A262-44D15DA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46F-4599-40BB-8164-2E21EC6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F6A-1B8C-44F8-8B97-8BA3944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230-E055-4B4F-B790-9F961502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C24-E68F-4A0D-B470-03B5EE8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BDE-84C0-4F76-88FD-F1E02F8D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354-493D-429B-811B-EA2B57F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063-2F85-4BEE-8354-1CE70C1A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EE0-C9FA-4524-887E-40EC702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938B-67FD-497F-8906-27BDA3E064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5FE9-D390-4855-817A-58ADA488A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 rot="1625400">
            <a:off x="2000160" y="4136760"/>
            <a:ext cx="10000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 rot="1625400">
            <a:off x="6241680" y="4147920"/>
            <a:ext cx="1000080" cy="4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 rot="19675200">
            <a:off x="4187520" y="4019040"/>
            <a:ext cx="10000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联动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2960" y="2708280"/>
            <a:ext cx="1643040" cy="1644480"/>
            <a:chOff x="642960" y="2708280"/>
            <a:chExt cx="1643040" cy="1644480"/>
          </a:xfrm>
        </p:grpSpPr>
        <p:sp>
          <p:nvSpPr>
            <p:cNvPr id="46" name="椭圆 8"/>
            <p:cNvSpPr/>
            <p:nvPr/>
          </p:nvSpPr>
          <p:spPr>
            <a:xfrm>
              <a:off x="642960" y="2708280"/>
              <a:ext cx="1643040" cy="1644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"/>
            <p:cNvSpPr/>
            <p:nvPr/>
          </p:nvSpPr>
          <p:spPr>
            <a:xfrm>
              <a:off x="672120" y="2737440"/>
              <a:ext cx="1584720" cy="158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10"/>
            <p:cNvSpPr/>
            <p:nvPr/>
          </p:nvSpPr>
          <p:spPr>
            <a:xfrm>
              <a:off x="720000" y="2785320"/>
              <a:ext cx="149724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29120" y="2638440"/>
            <a:ext cx="1643040" cy="1643040"/>
            <a:chOff x="4929120" y="2638440"/>
            <a:chExt cx="1643040" cy="1643040"/>
          </a:xfrm>
        </p:grpSpPr>
        <p:sp>
          <p:nvSpPr>
            <p:cNvPr id="50" name="椭圆 12"/>
            <p:cNvSpPr/>
            <p:nvPr/>
          </p:nvSpPr>
          <p:spPr>
            <a:xfrm>
              <a:off x="4929120" y="2638440"/>
              <a:ext cx="1643040" cy="16430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3"/>
            <p:cNvSpPr/>
            <p:nvPr/>
          </p:nvSpPr>
          <p:spPr>
            <a:xfrm>
              <a:off x="4958280" y="2667600"/>
              <a:ext cx="1584720" cy="158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4"/>
            <p:cNvSpPr/>
            <p:nvPr/>
          </p:nvSpPr>
          <p:spPr>
            <a:xfrm>
              <a:off x="5006160" y="2715480"/>
              <a:ext cx="1497240" cy="149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786040" y="3781440"/>
            <a:ext cx="1643040" cy="1643040"/>
            <a:chOff x="2786040" y="3781440"/>
            <a:chExt cx="1643040" cy="1643040"/>
          </a:xfrm>
        </p:grpSpPr>
        <p:sp>
          <p:nvSpPr>
            <p:cNvPr id="54" name="椭圆 16"/>
            <p:cNvSpPr/>
            <p:nvPr/>
          </p:nvSpPr>
          <p:spPr>
            <a:xfrm>
              <a:off x="2786040" y="3781440"/>
              <a:ext cx="1643040" cy="16430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7"/>
            <p:cNvSpPr/>
            <p:nvPr/>
          </p:nvSpPr>
          <p:spPr>
            <a:xfrm>
              <a:off x="2815200" y="3810600"/>
              <a:ext cx="1584720" cy="158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18"/>
            <p:cNvSpPr/>
            <p:nvPr/>
          </p:nvSpPr>
          <p:spPr>
            <a:xfrm>
              <a:off x="2863080" y="3858480"/>
              <a:ext cx="1497240" cy="149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858000" y="3994200"/>
            <a:ext cx="1643040" cy="1644480"/>
            <a:chOff x="6858000" y="3994200"/>
            <a:chExt cx="1643040" cy="1644480"/>
          </a:xfrm>
        </p:grpSpPr>
        <p:sp>
          <p:nvSpPr>
            <p:cNvPr id="58" name="椭圆 20"/>
            <p:cNvSpPr/>
            <p:nvPr/>
          </p:nvSpPr>
          <p:spPr>
            <a:xfrm>
              <a:off x="6858000" y="3994200"/>
              <a:ext cx="1643040" cy="1644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21"/>
            <p:cNvSpPr/>
            <p:nvPr/>
          </p:nvSpPr>
          <p:spPr>
            <a:xfrm>
              <a:off x="6887160" y="4023360"/>
              <a:ext cx="1584720" cy="1586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22"/>
            <p:cNvSpPr/>
            <p:nvPr/>
          </p:nvSpPr>
          <p:spPr>
            <a:xfrm>
              <a:off x="6935040" y="4071240"/>
              <a:ext cx="1497240" cy="1498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椭圆 23"/>
          <p:cNvSpPr/>
          <p:nvPr/>
        </p:nvSpPr>
        <p:spPr>
          <a:xfrm>
            <a:off x="785880" y="4565520"/>
            <a:ext cx="1428840" cy="142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4"/>
          <p:cNvSpPr/>
          <p:nvPr/>
        </p:nvSpPr>
        <p:spPr>
          <a:xfrm>
            <a:off x="2857680" y="5565600"/>
            <a:ext cx="1428480" cy="142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5"/>
          <p:cNvSpPr/>
          <p:nvPr/>
        </p:nvSpPr>
        <p:spPr>
          <a:xfrm>
            <a:off x="5072040" y="4422600"/>
            <a:ext cx="1428840" cy="142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6"/>
          <p:cNvSpPr/>
          <p:nvPr/>
        </p:nvSpPr>
        <p:spPr>
          <a:xfrm>
            <a:off x="7072200" y="5781600"/>
            <a:ext cx="1428840" cy="142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834840" y="4924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2906640" y="2422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5049720" y="492444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7192800" y="2352600"/>
            <a:ext cx="115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双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FBE-38E5-4921-AA6C-784C20369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2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