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03E5-14D5-4128-B03E-DCA4A684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2FDF-8596-49C5-9C80-E07B8D3F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D29B-85BE-41C9-8DA5-9EBC695F9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E910-FF32-4B9A-85D5-75308902A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186B-5337-45E8-855A-9C5637DEF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726B-34C3-4F1F-ABC7-F944ED0D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45DF-8EBF-4AD6-979E-F5A9A3DF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0830-7CE6-4F23-8D8A-C03C0872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9FEC-E2BC-48D5-8420-46B36F9E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BC8E-F8EB-45E2-BFEE-546CBBFC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7488-21B3-421F-8E74-70A26A46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C0B0-C486-4E6F-9999-BB333472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5DEB-80D7-4E02-BD29-61AEF467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5B8C-450F-41B3-B43E-C798188D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FCB8-FFC2-4D0B-A524-22978D2D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1A72-EFFD-41D4-87DF-72515424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069D-5270-4371-8069-843C0123C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6AD3-2495-4E2F-AB1F-82AE3248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95E5-DBA1-4DBB-A0EE-6E627D07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4E26-E85F-42B1-858D-A77E7EB7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11FD-43EB-48CA-BBD3-65BC89B0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4084-FF00-4292-ABBA-518E9679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8AE6-B3F8-43C3-B081-7605D1CB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DBA0-643E-48F1-95D7-58E4629E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A618-1472-48C1-8056-3A43A3D5129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5C05-96C7-4E50-A206-55F0E397E2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50D4-507F-42EC-B0DF-1D9B9D35228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05A3-96E8-4389-A9ED-6C7642C9D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46"/>
          <p:cNvGrpSpPr/>
          <p:nvPr/>
        </p:nvGrpSpPr>
        <p:grpSpPr>
          <a:xfrm>
            <a:off x="2924280" y="1798560"/>
            <a:ext cx="3198600" cy="3151440"/>
            <a:chOff x="2924280" y="1798560"/>
            <a:chExt cx="3198600" cy="3151440"/>
          </a:xfrm>
        </p:grpSpPr>
        <p:grpSp>
          <p:nvGrpSpPr>
            <p:cNvPr id="83" name="组合 26"/>
            <p:cNvGrpSpPr/>
            <p:nvPr/>
          </p:nvGrpSpPr>
          <p:grpSpPr>
            <a:xfrm>
              <a:off x="4829400" y="2130120"/>
              <a:ext cx="1293480" cy="1119600"/>
              <a:chOff x="4829400" y="2130120"/>
              <a:chExt cx="1293480" cy="1119600"/>
            </a:xfrm>
          </p:grpSpPr>
          <p:sp>
            <p:nvSpPr>
              <p:cNvPr id="84" name="Freeform 8"/>
              <p:cNvSpPr/>
              <p:nvPr/>
            </p:nvSpPr>
            <p:spPr>
              <a:xfrm>
                <a:off x="4829400" y="2130120"/>
                <a:ext cx="676800" cy="1040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4829400" y="3128040"/>
                <a:ext cx="1293480" cy="121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13"/>
              <p:cNvSpPr/>
              <p:nvPr/>
            </p:nvSpPr>
            <p:spPr>
              <a:xfrm>
                <a:off x="4914720" y="2130120"/>
                <a:ext cx="1208160" cy="1092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24"/>
              <p:cNvSpPr/>
              <p:nvPr/>
            </p:nvSpPr>
            <p:spPr>
              <a:xfrm>
                <a:off x="4930560" y="2138760"/>
                <a:ext cx="1189440" cy="1071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26"/>
              <p:cNvSpPr/>
              <p:nvPr/>
            </p:nvSpPr>
            <p:spPr>
              <a:xfrm>
                <a:off x="5063040" y="2138760"/>
                <a:ext cx="972000" cy="776520"/>
              </a:xfrm>
              <a:prstGeom prst="pie">
                <a:avLst/>
              </a:prstGeom>
              <a:solidFill>
                <a:srgbClr val="f2f2f2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组合 45"/>
            <p:cNvGrpSpPr/>
            <p:nvPr/>
          </p:nvGrpSpPr>
          <p:grpSpPr>
            <a:xfrm>
              <a:off x="2924280" y="1798560"/>
              <a:ext cx="3125520" cy="3151440"/>
              <a:chOff x="2924280" y="1798560"/>
              <a:chExt cx="3125520" cy="3151440"/>
            </a:xfrm>
          </p:grpSpPr>
          <p:sp>
            <p:nvSpPr>
              <p:cNvPr id="90" name="Freeform 6"/>
              <p:cNvSpPr/>
              <p:nvPr/>
            </p:nvSpPr>
            <p:spPr>
              <a:xfrm>
                <a:off x="5376960" y="3305160"/>
                <a:ext cx="379080" cy="846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7"/>
              <p:cNvSpPr/>
              <p:nvPr/>
            </p:nvSpPr>
            <p:spPr>
              <a:xfrm>
                <a:off x="4288680" y="2166120"/>
                <a:ext cx="917280" cy="267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>
                <a:off x="5063040" y="4497840"/>
                <a:ext cx="569880" cy="26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1"/>
              <p:cNvSpPr/>
              <p:nvPr/>
            </p:nvSpPr>
            <p:spPr>
              <a:xfrm>
                <a:off x="3554280" y="1826640"/>
                <a:ext cx="584640" cy="33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2"/>
              <p:cNvSpPr/>
              <p:nvPr/>
            </p:nvSpPr>
            <p:spPr>
              <a:xfrm>
                <a:off x="2924280" y="2179080"/>
                <a:ext cx="2062800" cy="2770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4"/>
              <p:cNvSpPr/>
              <p:nvPr/>
            </p:nvSpPr>
            <p:spPr>
              <a:xfrm>
                <a:off x="3029760" y="2193120"/>
                <a:ext cx="1957320" cy="2705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5"/>
              <p:cNvSpPr/>
              <p:nvPr/>
            </p:nvSpPr>
            <p:spPr>
              <a:xfrm>
                <a:off x="3829320" y="1853640"/>
                <a:ext cx="243000" cy="19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6"/>
              <p:cNvSpPr/>
              <p:nvPr/>
            </p:nvSpPr>
            <p:spPr>
              <a:xfrm>
                <a:off x="4996440" y="4205880"/>
                <a:ext cx="130680" cy="9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7"/>
              <p:cNvSpPr/>
              <p:nvPr/>
            </p:nvSpPr>
            <p:spPr>
              <a:xfrm>
                <a:off x="5218200" y="4518360"/>
                <a:ext cx="385560" cy="14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18"/>
              <p:cNvSpPr/>
              <p:nvPr/>
            </p:nvSpPr>
            <p:spPr>
              <a:xfrm>
                <a:off x="3924360" y="2372400"/>
                <a:ext cx="218880" cy="88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19"/>
              <p:cNvSpPr/>
              <p:nvPr/>
            </p:nvSpPr>
            <p:spPr>
              <a:xfrm>
                <a:off x="4344840" y="2150640"/>
                <a:ext cx="873000" cy="26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20"/>
              <p:cNvSpPr/>
              <p:nvPr/>
            </p:nvSpPr>
            <p:spPr>
              <a:xfrm>
                <a:off x="5439600" y="3305160"/>
                <a:ext cx="332280" cy="800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22"/>
              <p:cNvSpPr/>
              <p:nvPr/>
            </p:nvSpPr>
            <p:spPr>
              <a:xfrm>
                <a:off x="4987080" y="4662000"/>
                <a:ext cx="230760" cy="15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3044160" y="1798560"/>
                <a:ext cx="3005640" cy="30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7"/>
              <p:cNvSpPr/>
              <p:nvPr/>
            </p:nvSpPr>
            <p:spPr>
              <a:xfrm>
                <a:off x="3044160" y="1798560"/>
                <a:ext cx="2293920" cy="2113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矩形 1"/>
          <p:cNvSpPr/>
          <p:nvPr/>
        </p:nvSpPr>
        <p:spPr>
          <a:xfrm>
            <a:off x="6152400" y="255600"/>
            <a:ext cx="20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另类饼图包含关系</a:t>
            </a:r>
            <a:r>
              <a:rPr b="1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 flipH="1">
            <a:off x="6643800" y="137160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e1247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任意多边形 29"/>
          <p:cNvSpPr/>
          <p:nvPr/>
        </p:nvSpPr>
        <p:spPr>
          <a:xfrm flipH="1">
            <a:off x="5702400" y="1725480"/>
            <a:ext cx="2342880" cy="954360"/>
          </a:xfrm>
          <a:prstGeom prst="pie">
            <a:avLst/>
          </a:prstGeom>
          <a:noFill/>
          <a:ln w="6480">
            <a:solidFill>
              <a:srgbClr val="be1247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30"/>
          <p:cNvGrpSpPr/>
          <p:nvPr/>
        </p:nvGrpSpPr>
        <p:grpSpPr>
          <a:xfrm>
            <a:off x="5986080" y="1754280"/>
            <a:ext cx="2114640" cy="466560"/>
            <a:chOff x="5986080" y="1754280"/>
            <a:chExt cx="2114640" cy="466560"/>
          </a:xfrm>
        </p:grpSpPr>
        <p:sp>
          <p:nvSpPr>
            <p:cNvPr id="109" name="TextBox 11"/>
            <p:cNvSpPr/>
            <p:nvPr/>
          </p:nvSpPr>
          <p:spPr>
            <a:xfrm flipH="1">
              <a:off x="5985720" y="1761840"/>
              <a:ext cx="114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11"/>
            <p:cNvSpPr/>
            <p:nvPr/>
          </p:nvSpPr>
          <p:spPr>
            <a:xfrm flipH="1">
              <a:off x="6953760" y="1754280"/>
              <a:ext cx="114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Box 11"/>
          <p:cNvSpPr/>
          <p:nvPr/>
        </p:nvSpPr>
        <p:spPr>
          <a:xfrm flipH="1">
            <a:off x="1201680" y="411624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5a5a5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34"/>
          <p:cNvSpPr/>
          <p:nvPr/>
        </p:nvSpPr>
        <p:spPr>
          <a:xfrm flipV="1">
            <a:off x="1187280" y="3517920"/>
            <a:ext cx="2343240" cy="954000"/>
          </a:xfrm>
          <a:prstGeom prst="pie">
            <a:avLst/>
          </a:prstGeom>
          <a:noFill/>
          <a:ln w="6480">
            <a:solidFill>
              <a:srgbClr val="7f7f7f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组合 35"/>
          <p:cNvGrpSpPr/>
          <p:nvPr/>
        </p:nvGrpSpPr>
        <p:grpSpPr>
          <a:xfrm>
            <a:off x="1174320" y="4506840"/>
            <a:ext cx="2114640" cy="460800"/>
            <a:chOff x="1174320" y="4506840"/>
            <a:chExt cx="2114640" cy="460800"/>
          </a:xfrm>
        </p:grpSpPr>
        <p:sp>
          <p:nvSpPr>
            <p:cNvPr id="114" name="TextBox 11"/>
            <p:cNvSpPr/>
            <p:nvPr/>
          </p:nvSpPr>
          <p:spPr>
            <a:xfrm flipH="1">
              <a:off x="1173960" y="4506840"/>
              <a:ext cx="114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11"/>
            <p:cNvSpPr/>
            <p:nvPr/>
          </p:nvSpPr>
          <p:spPr>
            <a:xfrm flipH="1">
              <a:off x="2142000" y="4508640"/>
              <a:ext cx="114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9:2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