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933-A53A-40A0-B63A-EB4FC3B7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A7B-E2F2-4E6D-9D23-A1F9D5CA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35E-8197-4C8E-82BF-A21D271A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B3A-9141-40CC-952C-7D385F49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292F-4480-4737-98BF-7E030B60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2337-7D3E-44BF-BE46-61DFD08C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30FD-FC60-45D6-AFA8-9FAC138C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48FB-B77B-4CBF-8387-C02C5593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61A4-BBE4-4998-AA06-949C5942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B370-05D4-4DD1-BA97-5990C078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DA92-021C-4D77-8E10-3CD50B70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3E1-756A-41C3-8AC8-66590EDB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9CD1-C549-45C5-8AC4-E9775C9E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E744-4A5F-46D8-8EC8-A190943C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D5D8-2393-43E3-8026-3F40ECA4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00F7-EAAF-4649-98DF-A6E783C3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D3D4-B8F6-4E0C-81D2-CC60D5B9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E1850-F9D0-4A9D-9C0F-747E8DB3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B209C-670D-4B7D-9F40-1844FE41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4C43-0CE4-470B-A039-7C306905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25D7-9F23-42F1-B569-2DB6C5F4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16E4B-393C-42AB-BD33-F4243E46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20B-FBD5-4B97-A1D6-A7E5D82D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6D39-995B-44C4-9735-D3EC14F0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EA679-8D05-4ED5-B727-271C4C56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7F8C6-7E21-4627-BD26-45A700DD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6E180-EDDD-41DE-9B8D-AB392025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2FE2E-7A3E-48C8-AA71-AA0B3CD8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484E9-CEE1-4FC8-8887-F0D71356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80F53-5CA6-4ED7-9267-761E1CA9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DE3-495B-45AA-A98B-982F8425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211-FED8-4A52-8F2D-6F4593D7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A23-2357-40F9-BB96-EA02E3EC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B11-C7DD-422D-BD38-53A3604E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57D-BFCC-472D-9708-79B8E74D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0B7-6AFD-4AC8-81A6-B8B538FB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BD03-61C4-4083-B245-410A97A6A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F7B4-B551-4FB8-BD3D-164FDCB0A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-150840"/>
            <a:ext cx="9296280" cy="7008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11280" y="1413000"/>
            <a:ext cx="2448000" cy="370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481120" y="692280"/>
            <a:ext cx="3098880" cy="4646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8360" y="-457200"/>
            <a:ext cx="5867280" cy="611820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649520" y="0"/>
            <a:ext cx="7113600" cy="6858000"/>
            <a:chOff x="1649520" y="0"/>
            <a:chExt cx="7113600" cy="6858000"/>
          </a:xfrm>
        </p:grpSpPr>
        <p:sp>
          <p:nvSpPr>
            <p:cNvPr id="55" name=""/>
            <p:cNvSpPr/>
            <p:nvPr/>
          </p:nvSpPr>
          <p:spPr>
            <a:xfrm>
              <a:off x="1649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97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78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57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08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202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65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7002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476440" y="-2081160"/>
            <a:ext cx="1532160" cy="2081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3297240" y="-2460600"/>
            <a:ext cx="1531800" cy="2082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5977080" y="-2081160"/>
            <a:ext cx="1531800" cy="2081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6797520" y="-2460600"/>
            <a:ext cx="1532160" cy="20826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0" y="-598320"/>
            <a:ext cx="10980720" cy="4363920"/>
            <a:chOff x="0" y="-598320"/>
            <a:chExt cx="10980720" cy="4363920"/>
          </a:xfrm>
        </p:grpSpPr>
        <p:sp>
          <p:nvSpPr>
            <p:cNvPr id="76" name=""/>
            <p:cNvSpPr/>
            <p:nvPr/>
          </p:nvSpPr>
          <p:spPr>
            <a:xfrm>
              <a:off x="755640" y="3333600"/>
              <a:ext cx="431640" cy="43164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87280" y="3116160"/>
              <a:ext cx="648000" cy="64728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35280" y="2684880"/>
              <a:ext cx="1079280" cy="107856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16360" y="2037240"/>
              <a:ext cx="1726920" cy="172620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2360" y="1702440"/>
              <a:ext cx="2063880" cy="206280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00720" y="1126440"/>
              <a:ext cx="2609640" cy="260892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0360" y="308880"/>
              <a:ext cx="3456000" cy="345456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93080" y="-193680"/>
              <a:ext cx="3887640" cy="388620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0" y="-598320"/>
              <a:ext cx="9144000" cy="436392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754200" y="-192240"/>
            <a:ext cx="10225080" cy="3958920"/>
            <a:chOff x="754200" y="-192240"/>
            <a:chExt cx="10225080" cy="3958920"/>
          </a:xfrm>
        </p:grpSpPr>
        <p:sp>
          <p:nvSpPr>
            <p:cNvPr id="87" name=""/>
            <p:cNvSpPr/>
            <p:nvPr/>
          </p:nvSpPr>
          <p:spPr>
            <a:xfrm>
              <a:off x="754200" y="3335400"/>
              <a:ext cx="431640" cy="43128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85840" y="3117960"/>
              <a:ext cx="648000" cy="64728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840" y="2686320"/>
              <a:ext cx="1079280" cy="107892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14920" y="2038680"/>
              <a:ext cx="1726920" cy="172656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90920" y="1704240"/>
              <a:ext cx="2063880" cy="206244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9280" y="1127880"/>
              <a:ext cx="2609640" cy="260856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38920" y="310680"/>
              <a:ext cx="3456000" cy="345456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91640" y="-192240"/>
              <a:ext cx="3887640" cy="388620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38920" y="29376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1280" y="-208080"/>
            <a:ext cx="3888000" cy="38862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40200" y="4118040"/>
            <a:ext cx="1224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0291-DACE-44FD-A7CF-3179D7FC0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3059280" y="3716280"/>
            <a:ext cx="6145200" cy="198612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未知"/>
          <p:cNvSpPr/>
          <p:nvPr/>
        </p:nvSpPr>
        <p:spPr>
          <a:xfrm flipH="1" rot="21165600">
            <a:off x="106920" y="3645000"/>
            <a:ext cx="7056360" cy="241632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 flipH="1" rot="35400">
            <a:off x="11160" y="3987360"/>
            <a:ext cx="4751280" cy="144144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8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 flipH="1" rot="21165600">
            <a:off x="102600" y="3760920"/>
            <a:ext cx="6835680" cy="234792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>
            <a:off x="2556000" y="4006800"/>
            <a:ext cx="6648480" cy="223056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 rot="20833200">
            <a:off x="4287960" y="4170240"/>
            <a:ext cx="5038560" cy="100836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ffffff">
                  <a:alpha val="43137"/>
                </a:srgbClr>
              </a:gs>
            </a:gsLst>
            <a:lin ang="11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 flipH="1" rot="133200">
            <a:off x="-35280" y="4722480"/>
            <a:ext cx="5759280" cy="153180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9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2516040" y="3949560"/>
            <a:ext cx="6648480" cy="221616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398" t="4698" r="414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414" t="4698" r="398" b="4717"/>
          <a:stretch/>
        </p:blipFill>
        <p:spPr>
          <a:xfrm>
            <a:off x="-34920" y="-2556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2894400" y="2248920"/>
            <a:ext cx="740520" cy="847440"/>
            <a:chOff x="2894400" y="2248920"/>
            <a:chExt cx="740520" cy="847440"/>
          </a:xfrm>
        </p:grpSpPr>
        <p:grpSp>
          <p:nvGrpSpPr>
            <p:cNvPr id="156" name=""/>
            <p:cNvGrpSpPr/>
            <p:nvPr/>
          </p:nvGrpSpPr>
          <p:grpSpPr>
            <a:xfrm>
              <a:off x="3053160" y="2614680"/>
              <a:ext cx="410040" cy="442800"/>
              <a:chOff x="3053160" y="2614680"/>
              <a:chExt cx="410040" cy="442800"/>
            </a:xfrm>
          </p:grpSpPr>
          <p:sp>
            <p:nvSpPr>
              <p:cNvPr id="157" name="未知"/>
              <p:cNvSpPr/>
              <p:nvPr/>
            </p:nvSpPr>
            <p:spPr>
              <a:xfrm rot="3869400">
                <a:off x="3081240" y="269316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 rot="5914200">
                <a:off x="3075840" y="282132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 rot="6212400">
                <a:off x="3112920" y="275256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 rot="6212400">
                <a:off x="3080880" y="277920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983680" y="2535840"/>
              <a:ext cx="335520" cy="391320"/>
              <a:chOff x="2983680" y="2535840"/>
              <a:chExt cx="335520" cy="391320"/>
            </a:xfrm>
          </p:grpSpPr>
          <p:sp>
            <p:nvSpPr>
              <p:cNvPr id="162" name="未知"/>
              <p:cNvSpPr/>
              <p:nvPr/>
            </p:nvSpPr>
            <p:spPr>
              <a:xfrm rot="5910600">
                <a:off x="2974680" y="258804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 rot="7955400">
                <a:off x="2964960" y="272772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 rot="8253600">
                <a:off x="3045600" y="266400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 rot="8253600">
                <a:off x="3005640" y="266832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894400" y="2431800"/>
              <a:ext cx="442080" cy="454320"/>
              <a:chOff x="2894400" y="2431800"/>
              <a:chExt cx="442080" cy="454320"/>
            </a:xfrm>
          </p:grpSpPr>
          <p:sp>
            <p:nvSpPr>
              <p:cNvPr id="167" name="未知"/>
              <p:cNvSpPr/>
              <p:nvPr/>
            </p:nvSpPr>
            <p:spPr>
              <a:xfrm rot="7644000">
                <a:off x="2939040" y="251532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 rot="9688800">
                <a:off x="2921040" y="266112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未知"/>
              <p:cNvSpPr/>
              <p:nvPr/>
            </p:nvSpPr>
            <p:spPr>
              <a:xfrm rot="9987000">
                <a:off x="3030840" y="262008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 rot="9987000">
                <a:off x="2995560" y="260532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2903760" y="2342880"/>
              <a:ext cx="428400" cy="383400"/>
              <a:chOff x="2903760" y="2342880"/>
              <a:chExt cx="428400" cy="383400"/>
            </a:xfrm>
          </p:grpSpPr>
          <p:sp>
            <p:nvSpPr>
              <p:cNvPr id="172" name="未知"/>
              <p:cNvSpPr/>
              <p:nvPr/>
            </p:nvSpPr>
            <p:spPr>
              <a:xfrm rot="9694200">
                <a:off x="2939760" y="239112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 rot="11739000">
                <a:off x="2909880" y="253764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 rot="12037200">
                <a:off x="3034800" y="253800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 rot="12037200">
                <a:off x="3016080" y="250668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977200" y="2292120"/>
              <a:ext cx="418680" cy="372600"/>
              <a:chOff x="2977200" y="2292120"/>
              <a:chExt cx="418680" cy="372600"/>
            </a:xfrm>
          </p:grpSpPr>
          <p:sp>
            <p:nvSpPr>
              <p:cNvPr id="177" name="未知"/>
              <p:cNvSpPr/>
              <p:nvPr/>
            </p:nvSpPr>
            <p:spPr>
              <a:xfrm rot="11763000">
                <a:off x="3009960" y="233496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 rot="13807800">
                <a:off x="2970360" y="247536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 rot="14106000">
                <a:off x="3084120" y="251820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 rot="14106000">
                <a:off x="3088800" y="248292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054600" y="2248920"/>
              <a:ext cx="444600" cy="454680"/>
              <a:chOff x="3054600" y="2248920"/>
              <a:chExt cx="444600" cy="454680"/>
            </a:xfrm>
          </p:grpSpPr>
          <p:sp>
            <p:nvSpPr>
              <p:cNvPr id="182" name="未知"/>
              <p:cNvSpPr/>
              <p:nvPr/>
            </p:nvSpPr>
            <p:spPr>
              <a:xfrm rot="13857000">
                <a:off x="3100320" y="233316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 rot="15901800">
                <a:off x="3055680" y="246276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 rot="16200000">
                <a:off x="3136320" y="253512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 rot="16200000">
                <a:off x="3162240" y="250956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153960" y="2607120"/>
              <a:ext cx="428040" cy="386640"/>
              <a:chOff x="3153960" y="2607120"/>
              <a:chExt cx="428040" cy="386640"/>
            </a:xfrm>
          </p:grpSpPr>
          <p:sp>
            <p:nvSpPr>
              <p:cNvPr id="187" name="未知"/>
              <p:cNvSpPr/>
              <p:nvPr/>
            </p:nvSpPr>
            <p:spPr>
              <a:xfrm rot="1156800">
                <a:off x="3191400" y="265716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 rot="3201600">
                <a:off x="3180960" y="277128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rot="3500400">
                <a:off x="3169800" y="273348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 rot="3500400">
                <a:off x="3163680" y="277632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180960" y="2431800"/>
              <a:ext cx="453960" cy="448200"/>
              <a:chOff x="3180960" y="2431800"/>
              <a:chExt cx="453960" cy="448200"/>
            </a:xfrm>
          </p:grpSpPr>
          <p:sp>
            <p:nvSpPr>
              <p:cNvPr id="192" name="未知"/>
              <p:cNvSpPr/>
              <p:nvPr/>
            </p:nvSpPr>
            <p:spPr>
              <a:xfrm rot="19110000">
                <a:off x="3231360" y="251244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 rot="21154800">
                <a:off x="3202200" y="261936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未知"/>
              <p:cNvSpPr/>
              <p:nvPr/>
            </p:nvSpPr>
            <p:spPr>
              <a:xfrm rot="21453600">
                <a:off x="3186000" y="265680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 rot="21453600">
                <a:off x="3216600" y="268560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214440" y="2336400"/>
              <a:ext cx="383400" cy="425520"/>
              <a:chOff x="3214440" y="2336400"/>
              <a:chExt cx="383400" cy="425520"/>
            </a:xfrm>
          </p:grpSpPr>
          <p:sp>
            <p:nvSpPr>
              <p:cNvPr id="197" name="未知"/>
              <p:cNvSpPr/>
              <p:nvPr/>
            </p:nvSpPr>
            <p:spPr>
              <a:xfrm rot="17306400">
                <a:off x="3229560" y="240588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 rot="19351200">
                <a:off x="3190680" y="251712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 rot="19650000">
                <a:off x="3200400" y="258372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 rot="19650000">
                <a:off x="3239280" y="259380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3110400" y="2300760"/>
              <a:ext cx="376560" cy="424440"/>
              <a:chOff x="3110400" y="2300760"/>
              <a:chExt cx="376560" cy="424440"/>
            </a:xfrm>
          </p:grpSpPr>
          <p:sp>
            <p:nvSpPr>
              <p:cNvPr id="202" name="未知"/>
              <p:cNvSpPr/>
              <p:nvPr/>
            </p:nvSpPr>
            <p:spPr>
              <a:xfrm rot="15187200">
                <a:off x="3121920" y="236772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 rot="17232000">
                <a:off x="3077640" y="248976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 rot="17530800">
                <a:off x="3130560" y="256824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 rot="17530800">
                <a:off x="3165480" y="255492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3212280" y="2594520"/>
              <a:ext cx="384480" cy="306360"/>
              <a:chOff x="3212280" y="2594520"/>
              <a:chExt cx="384480" cy="306360"/>
            </a:xfrm>
          </p:grpSpPr>
          <p:sp>
            <p:nvSpPr>
              <p:cNvPr id="207" name="未知"/>
              <p:cNvSpPr/>
              <p:nvPr/>
            </p:nvSpPr>
            <p:spPr>
              <a:xfrm rot="21405000">
                <a:off x="3228840" y="260424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 rot="1849200">
                <a:off x="3213000" y="271296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 rot="2147400">
                <a:off x="3190680" y="270216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 rot="2147400">
                <a:off x="3199320" y="274464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2992680" y="2549880"/>
              <a:ext cx="393840" cy="434520"/>
              <a:chOff x="2992680" y="2549880"/>
              <a:chExt cx="393840" cy="434520"/>
            </a:xfrm>
          </p:grpSpPr>
          <p:sp>
            <p:nvSpPr>
              <p:cNvPr id="212" name="未知"/>
              <p:cNvSpPr/>
              <p:nvPr/>
            </p:nvSpPr>
            <p:spPr>
              <a:xfrm rot="4137000">
                <a:off x="3012840" y="262512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 rot="6181800">
                <a:off x="3007080" y="275508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 rot="6480000">
                <a:off x="3049920" y="268560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 rot="6480000">
                <a:off x="3016080" y="270936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104280" y="2643120"/>
              <a:ext cx="450720" cy="453240"/>
              <a:chOff x="3104280" y="2643120"/>
              <a:chExt cx="450720" cy="453240"/>
            </a:xfrm>
          </p:grpSpPr>
          <p:sp>
            <p:nvSpPr>
              <p:cNvPr id="217" name="未知"/>
              <p:cNvSpPr/>
              <p:nvPr/>
            </p:nvSpPr>
            <p:spPr>
              <a:xfrm rot="2797200">
                <a:off x="3152880" y="272664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 rot="4842000">
                <a:off x="3146760" y="284868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 rot="5140200">
                <a:off x="3161880" y="278748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 rot="5140200">
                <a:off x="3138120" y="282276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3117960" y="2530800"/>
              <a:ext cx="302760" cy="302760"/>
              <a:chOff x="3117960" y="2530800"/>
              <a:chExt cx="302760" cy="302760"/>
            </a:xfrm>
          </p:grpSpPr>
          <p:sp>
            <p:nvSpPr>
              <p:cNvPr id="222" name=""/>
              <p:cNvSpPr/>
              <p:nvPr/>
            </p:nvSpPr>
            <p:spPr>
              <a:xfrm rot="16200000">
                <a:off x="3117960" y="2530800"/>
                <a:ext cx="302760" cy="302760"/>
              </a:xfrm>
              <a:custGeom>
                <a:avLst/>
                <a:gdLst>
                  <a:gd name="textAreaLeft" fmla="*/ 70920 w 302760"/>
                  <a:gd name="textAreaRight" fmla="*/ 231840 w 302760"/>
                  <a:gd name="textAreaTop" fmla="*/ 70920 h 302760"/>
                  <a:gd name="textAreaBottom" fmla="*/ 231840 h 30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200000">
                <a:off x="3161880" y="2579040"/>
                <a:ext cx="201960" cy="2016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2437560" y="2459880"/>
            <a:ext cx="765720" cy="780120"/>
            <a:chOff x="2437560" y="2459880"/>
            <a:chExt cx="765720" cy="780120"/>
          </a:xfrm>
        </p:grpSpPr>
        <p:grpSp>
          <p:nvGrpSpPr>
            <p:cNvPr id="225" name=""/>
            <p:cNvGrpSpPr/>
            <p:nvPr/>
          </p:nvGrpSpPr>
          <p:grpSpPr>
            <a:xfrm>
              <a:off x="2742480" y="2705040"/>
              <a:ext cx="398880" cy="356760"/>
              <a:chOff x="2742480" y="2705040"/>
              <a:chExt cx="398880" cy="356760"/>
            </a:xfrm>
          </p:grpSpPr>
          <p:sp>
            <p:nvSpPr>
              <p:cNvPr id="226" name="未知"/>
              <p:cNvSpPr/>
              <p:nvPr/>
            </p:nvSpPr>
            <p:spPr>
              <a:xfrm rot="9707400">
                <a:off x="2775600" y="2749680"/>
                <a:ext cx="3290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 rot="11752200">
                <a:off x="2747880" y="2886480"/>
                <a:ext cx="37620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 rot="12051000">
                <a:off x="2864520" y="2886480"/>
                <a:ext cx="28188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 rot="12051000">
                <a:off x="2847960" y="2857680"/>
                <a:ext cx="28224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614680" y="2815920"/>
              <a:ext cx="416880" cy="424080"/>
              <a:chOff x="2614680" y="2815920"/>
              <a:chExt cx="416880" cy="424080"/>
            </a:xfrm>
          </p:grpSpPr>
          <p:sp>
            <p:nvSpPr>
              <p:cNvPr id="231" name="未知"/>
              <p:cNvSpPr/>
              <p:nvPr/>
            </p:nvSpPr>
            <p:spPr>
              <a:xfrm rot="13786800">
                <a:off x="2658240" y="289440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 rot="15831600">
                <a:off x="2615760" y="301572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 rot="16129800">
                <a:off x="2692440" y="308232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 rot="16129800">
                <a:off x="2715840" y="30585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2778480" y="2574000"/>
              <a:ext cx="417240" cy="424080"/>
              <a:chOff x="2778480" y="2574000"/>
              <a:chExt cx="417240" cy="424080"/>
            </a:xfrm>
          </p:grpSpPr>
          <p:sp>
            <p:nvSpPr>
              <p:cNvPr id="236" name="未知"/>
              <p:cNvSpPr/>
              <p:nvPr/>
            </p:nvSpPr>
            <p:spPr>
              <a:xfrm rot="7834200">
                <a:off x="2822400" y="265248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 rot="9879000">
                <a:off x="2804760" y="278820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 rot="10177200">
                <a:off x="2909160" y="275328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 rot="10177200">
                <a:off x="2877480" y="27381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437560" y="2647440"/>
              <a:ext cx="422640" cy="420480"/>
              <a:chOff x="2437560" y="2647440"/>
              <a:chExt cx="422640" cy="420480"/>
            </a:xfrm>
          </p:grpSpPr>
          <p:sp>
            <p:nvSpPr>
              <p:cNvPr id="241" name="未知"/>
              <p:cNvSpPr/>
              <p:nvPr/>
            </p:nvSpPr>
            <p:spPr>
              <a:xfrm rot="18982200">
                <a:off x="2484000" y="2724120"/>
                <a:ext cx="3290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 rot="21027600">
                <a:off x="2456640" y="2823480"/>
                <a:ext cx="37620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 rot="21325800">
                <a:off x="2442960" y="2860920"/>
                <a:ext cx="28188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 rot="21325800">
                <a:off x="2472120" y="2886840"/>
                <a:ext cx="28224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650680" y="2459880"/>
              <a:ext cx="385920" cy="414000"/>
              <a:chOff x="2650680" y="2459880"/>
              <a:chExt cx="385920" cy="414000"/>
            </a:xfrm>
          </p:grpSpPr>
          <p:sp>
            <p:nvSpPr>
              <p:cNvPr id="246" name="未知"/>
              <p:cNvSpPr/>
              <p:nvPr/>
            </p:nvSpPr>
            <p:spPr>
              <a:xfrm rot="3809400">
                <a:off x="2678760" y="253296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 rot="5854200">
                <a:off x="2673720" y="265284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 rot="6153000">
                <a:off x="2707560" y="258876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未知"/>
              <p:cNvSpPr/>
              <p:nvPr/>
            </p:nvSpPr>
            <p:spPr>
              <a:xfrm rot="6153000">
                <a:off x="2677320" y="26139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490840" y="2800080"/>
              <a:ext cx="337320" cy="382680"/>
              <a:chOff x="2490840" y="2800080"/>
              <a:chExt cx="337320" cy="382680"/>
            </a:xfrm>
          </p:grpSpPr>
          <p:sp>
            <p:nvSpPr>
              <p:cNvPr id="251" name="未知"/>
              <p:cNvSpPr/>
              <p:nvPr/>
            </p:nvSpPr>
            <p:spPr>
              <a:xfrm rot="17020800">
                <a:off x="2494800" y="2857680"/>
                <a:ext cx="3290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未知"/>
              <p:cNvSpPr/>
              <p:nvPr/>
            </p:nvSpPr>
            <p:spPr>
              <a:xfrm rot="19065000">
                <a:off x="2457720" y="2962080"/>
                <a:ext cx="37620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未知"/>
              <p:cNvSpPr/>
              <p:nvPr/>
            </p:nvSpPr>
            <p:spPr>
              <a:xfrm rot="19363800">
                <a:off x="2471760" y="3027600"/>
                <a:ext cx="28188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未知"/>
              <p:cNvSpPr/>
              <p:nvPr/>
            </p:nvSpPr>
            <p:spPr>
              <a:xfrm rot="19363800">
                <a:off x="2507760" y="3034080"/>
                <a:ext cx="28224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525040" y="2576160"/>
              <a:ext cx="387360" cy="343080"/>
              <a:chOff x="2525040" y="2576160"/>
              <a:chExt cx="387360" cy="343080"/>
            </a:xfrm>
          </p:grpSpPr>
          <p:sp>
            <p:nvSpPr>
              <p:cNvPr id="256" name="未知"/>
              <p:cNvSpPr/>
              <p:nvPr/>
            </p:nvSpPr>
            <p:spPr>
              <a:xfrm rot="899400">
                <a:off x="2553840" y="261396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未知"/>
              <p:cNvSpPr/>
              <p:nvPr/>
            </p:nvSpPr>
            <p:spPr>
              <a:xfrm rot="2944800">
                <a:off x="2543760" y="271908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未知"/>
              <p:cNvSpPr/>
              <p:nvPr/>
            </p:nvSpPr>
            <p:spPr>
              <a:xfrm rot="3243000">
                <a:off x="2530440" y="268812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未知"/>
              <p:cNvSpPr/>
              <p:nvPr/>
            </p:nvSpPr>
            <p:spPr>
              <a:xfrm rot="3243000">
                <a:off x="2526840" y="272880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765880" y="2820240"/>
              <a:ext cx="374400" cy="325440"/>
              <a:chOff x="2765880" y="2820240"/>
              <a:chExt cx="374400" cy="325440"/>
            </a:xfrm>
          </p:grpSpPr>
          <p:sp>
            <p:nvSpPr>
              <p:cNvPr id="261" name="未知"/>
              <p:cNvSpPr/>
              <p:nvPr/>
            </p:nvSpPr>
            <p:spPr>
              <a:xfrm rot="11463600">
                <a:off x="2788200" y="284940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 rot="13508400">
                <a:off x="2752560" y="298152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未知"/>
              <p:cNvSpPr/>
              <p:nvPr/>
            </p:nvSpPr>
            <p:spPr>
              <a:xfrm rot="13807200">
                <a:off x="2861640" y="301644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未知"/>
              <p:cNvSpPr/>
              <p:nvPr/>
            </p:nvSpPr>
            <p:spPr>
              <a:xfrm rot="13807200">
                <a:off x="2862720" y="298368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590920" y="2795400"/>
              <a:ext cx="353160" cy="396720"/>
              <a:chOff x="2590920" y="2795400"/>
              <a:chExt cx="353160" cy="396720"/>
            </a:xfrm>
          </p:grpSpPr>
          <p:sp>
            <p:nvSpPr>
              <p:cNvPr id="266" name="未知"/>
              <p:cNvSpPr/>
              <p:nvPr/>
            </p:nvSpPr>
            <p:spPr>
              <a:xfrm rot="15164400">
                <a:off x="2602440" y="285840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 rot="17208600">
                <a:off x="2560680" y="297252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 rot="17506800">
                <a:off x="2610720" y="304560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 rot="17506800">
                <a:off x="2643120" y="30333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831400" y="2462040"/>
              <a:ext cx="279000" cy="355320"/>
              <a:chOff x="2831400" y="2462040"/>
              <a:chExt cx="279000" cy="355320"/>
            </a:xfrm>
          </p:grpSpPr>
          <p:sp>
            <p:nvSpPr>
              <p:cNvPr id="271" name="未知"/>
              <p:cNvSpPr/>
              <p:nvPr/>
            </p:nvSpPr>
            <p:spPr>
              <a:xfrm rot="5278200">
                <a:off x="2806200" y="250632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 rot="7323000">
                <a:off x="2799000" y="263412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 rot="7621200">
                <a:off x="2861640" y="257004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 rot="7621200">
                <a:off x="2825640" y="258120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556000" y="2507040"/>
              <a:ext cx="423000" cy="419760"/>
              <a:chOff x="2556000" y="2507040"/>
              <a:chExt cx="423000" cy="419760"/>
            </a:xfrm>
          </p:grpSpPr>
          <p:sp>
            <p:nvSpPr>
              <p:cNvPr id="276" name="未知"/>
              <p:cNvSpPr/>
              <p:nvPr/>
            </p:nvSpPr>
            <p:spPr>
              <a:xfrm rot="2557200">
                <a:off x="2602440" y="258300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 rot="4602600">
                <a:off x="2597040" y="269568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 rot="4900200">
                <a:off x="2607120" y="264096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 rot="4900200">
                <a:off x="2586600" y="26751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448000" y="2628720"/>
              <a:ext cx="382320" cy="328680"/>
              <a:chOff x="2448000" y="2628720"/>
              <a:chExt cx="382320" cy="328680"/>
            </a:xfrm>
          </p:grpSpPr>
          <p:sp>
            <p:nvSpPr>
              <p:cNvPr id="281" name="未知"/>
              <p:cNvSpPr/>
              <p:nvPr/>
            </p:nvSpPr>
            <p:spPr>
              <a:xfrm rot="20898000">
                <a:off x="2476800" y="265932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 rot="1342200">
                <a:off x="2459520" y="275976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 rot="1640400">
                <a:off x="2437200" y="275976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 rot="1640400">
                <a:off x="2450160" y="27975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514960" y="2694600"/>
              <a:ext cx="403200" cy="421560"/>
              <a:chOff x="2514960" y="2694600"/>
              <a:chExt cx="403200" cy="421560"/>
            </a:xfrm>
          </p:grpSpPr>
          <p:sp>
            <p:nvSpPr>
              <p:cNvPr id="286" name="未知"/>
              <p:cNvSpPr/>
              <p:nvPr/>
            </p:nvSpPr>
            <p:spPr>
              <a:xfrm rot="18171600">
                <a:off x="2551680" y="277164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 rot="20216400">
                <a:off x="2519640" y="287352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 rot="20514000">
                <a:off x="2514960" y="292392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 rot="20514000">
                <a:off x="2548800" y="294228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84600" y="2654280"/>
              <a:ext cx="418680" cy="396000"/>
              <a:chOff x="2784600" y="2654280"/>
              <a:chExt cx="418680" cy="396000"/>
            </a:xfrm>
          </p:grpSpPr>
          <p:sp>
            <p:nvSpPr>
              <p:cNvPr id="291" name="未知"/>
              <p:cNvSpPr/>
              <p:nvPr/>
            </p:nvSpPr>
            <p:spPr>
              <a:xfrm rot="8996400">
                <a:off x="2829240" y="2718360"/>
                <a:ext cx="3290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 rot="11040600">
                <a:off x="2805120" y="2855520"/>
                <a:ext cx="37620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 rot="11338800">
                <a:off x="2919240" y="2841840"/>
                <a:ext cx="28188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 rot="11338800">
                <a:off x="2896200" y="2817000"/>
                <a:ext cx="28224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815920" y="2496240"/>
              <a:ext cx="385200" cy="413280"/>
              <a:chOff x="2815920" y="2496240"/>
              <a:chExt cx="385200" cy="413280"/>
            </a:xfrm>
          </p:grpSpPr>
          <p:sp>
            <p:nvSpPr>
              <p:cNvPr id="296" name="未知"/>
              <p:cNvSpPr/>
              <p:nvPr/>
            </p:nvSpPr>
            <p:spPr>
              <a:xfrm rot="6971400">
                <a:off x="2843640" y="256896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 rot="9016200">
                <a:off x="2830680" y="270288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 rot="9314400">
                <a:off x="2923200" y="265500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 rot="9314400">
                <a:off x="2888280" y="26481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643480" y="2643120"/>
              <a:ext cx="388440" cy="388080"/>
              <a:chOff x="2643480" y="2643120"/>
              <a:chExt cx="388440" cy="388080"/>
            </a:xfrm>
          </p:grpSpPr>
          <p:sp>
            <p:nvSpPr>
              <p:cNvPr id="301" name=""/>
              <p:cNvSpPr/>
              <p:nvPr/>
            </p:nvSpPr>
            <p:spPr>
              <a:xfrm rot="8901600">
                <a:off x="2696400" y="2695680"/>
                <a:ext cx="282240" cy="282240"/>
              </a:xfrm>
              <a:custGeom>
                <a:avLst/>
                <a:gdLst>
                  <a:gd name="textAreaLeft" fmla="*/ 66240 w 282240"/>
                  <a:gd name="textAreaRight" fmla="*/ 216000 w 282240"/>
                  <a:gd name="textAreaTop" fmla="*/ 66240 h 282240"/>
                  <a:gd name="textAreaBottom" fmla="*/ 216000 h 28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901600">
                <a:off x="2744640" y="2748600"/>
                <a:ext cx="188280" cy="18792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1614600" y="2347560"/>
            <a:ext cx="1270080" cy="1088640"/>
            <a:chOff x="1614600" y="2347560"/>
            <a:chExt cx="1270080" cy="1088640"/>
          </a:xfrm>
        </p:grpSpPr>
        <p:grpSp>
          <p:nvGrpSpPr>
            <p:cNvPr id="304" name=""/>
            <p:cNvGrpSpPr/>
            <p:nvPr/>
          </p:nvGrpSpPr>
          <p:grpSpPr>
            <a:xfrm>
              <a:off x="1865520" y="2542680"/>
              <a:ext cx="558000" cy="490680"/>
              <a:chOff x="1865520" y="2542680"/>
              <a:chExt cx="558000" cy="490680"/>
            </a:xfrm>
          </p:grpSpPr>
          <p:sp>
            <p:nvSpPr>
              <p:cNvPr id="305" name="未知"/>
              <p:cNvSpPr/>
              <p:nvPr/>
            </p:nvSpPr>
            <p:spPr>
              <a:xfrm rot="805800">
                <a:off x="1903680" y="2593080"/>
                <a:ext cx="480960" cy="38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 rot="2850600">
                <a:off x="1888920" y="2745720"/>
                <a:ext cx="54972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 rot="3148800">
                <a:off x="1868400" y="2703600"/>
                <a:ext cx="41220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 rot="3148800">
                <a:off x="1864800" y="2762640"/>
                <a:ext cx="41256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2173320" y="2421720"/>
              <a:ext cx="456840" cy="545040"/>
              <a:chOff x="2173320" y="2421720"/>
              <a:chExt cx="456840" cy="545040"/>
            </a:xfrm>
          </p:grpSpPr>
          <p:sp>
            <p:nvSpPr>
              <p:cNvPr id="310" name="未知"/>
              <p:cNvSpPr/>
              <p:nvPr/>
            </p:nvSpPr>
            <p:spPr>
              <a:xfrm rot="4885200">
                <a:off x="2161080" y="2503080"/>
                <a:ext cx="481320" cy="38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未知"/>
              <p:cNvSpPr/>
              <p:nvPr/>
            </p:nvSpPr>
            <p:spPr>
              <a:xfrm rot="6929400">
                <a:off x="2152080" y="2686320"/>
                <a:ext cx="55008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未知"/>
              <p:cNvSpPr/>
              <p:nvPr/>
            </p:nvSpPr>
            <p:spPr>
              <a:xfrm rot="7227600">
                <a:off x="2232360" y="2591280"/>
                <a:ext cx="4125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 rot="7227600">
                <a:off x="2181240" y="2613240"/>
                <a:ext cx="41292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1719720" y="2614320"/>
              <a:ext cx="581400" cy="518400"/>
              <a:chOff x="1719720" y="2614320"/>
              <a:chExt cx="581400" cy="518400"/>
            </a:xfrm>
          </p:grpSpPr>
          <p:sp>
            <p:nvSpPr>
              <p:cNvPr id="315" name="未知"/>
              <p:cNvSpPr/>
              <p:nvPr/>
            </p:nvSpPr>
            <p:spPr>
              <a:xfrm rot="20532600">
                <a:off x="1772280" y="2678400"/>
                <a:ext cx="480600" cy="390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 rot="977400">
                <a:off x="1743840" y="282420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未知"/>
              <p:cNvSpPr/>
              <p:nvPr/>
            </p:nvSpPr>
            <p:spPr>
              <a:xfrm rot="1275600">
                <a:off x="1711440" y="283500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 rot="1275600">
                <a:off x="1735560" y="288792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211480" y="2802600"/>
              <a:ext cx="559440" cy="481680"/>
              <a:chOff x="2211480" y="2802600"/>
              <a:chExt cx="559440" cy="481680"/>
            </a:xfrm>
          </p:grpSpPr>
          <p:sp>
            <p:nvSpPr>
              <p:cNvPr id="320" name="未知"/>
              <p:cNvSpPr/>
              <p:nvPr/>
            </p:nvSpPr>
            <p:spPr>
              <a:xfrm rot="10080600">
                <a:off x="2246400" y="2847960"/>
                <a:ext cx="480600" cy="390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 rot="12125400">
                <a:off x="2204280" y="304632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 rot="12423600">
                <a:off x="2373840" y="305748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 rot="12423600">
                <a:off x="2354400" y="301320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883520" y="2874600"/>
              <a:ext cx="431280" cy="514440"/>
              <a:chOff x="1883520" y="2874600"/>
              <a:chExt cx="431280" cy="514440"/>
            </a:xfrm>
          </p:grpSpPr>
          <p:sp>
            <p:nvSpPr>
              <p:cNvPr id="325" name="未知"/>
              <p:cNvSpPr/>
              <p:nvPr/>
            </p:nvSpPr>
            <p:spPr>
              <a:xfrm rot="16507800">
                <a:off x="1858320" y="2936880"/>
                <a:ext cx="481320" cy="38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 rot="18552600">
                <a:off x="1802160" y="3092760"/>
                <a:ext cx="55008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 rot="18850800">
                <a:off x="1836000" y="3194280"/>
                <a:ext cx="4125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rot="18850800">
                <a:off x="1889280" y="3195360"/>
                <a:ext cx="41292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2268720" y="2561760"/>
              <a:ext cx="615960" cy="615600"/>
              <a:chOff x="2268720" y="2561760"/>
              <a:chExt cx="615960" cy="615600"/>
            </a:xfrm>
          </p:grpSpPr>
          <p:sp>
            <p:nvSpPr>
              <p:cNvPr id="330" name="未知"/>
              <p:cNvSpPr/>
              <p:nvPr/>
            </p:nvSpPr>
            <p:spPr>
              <a:xfrm rot="8118600">
                <a:off x="2336040" y="2674080"/>
                <a:ext cx="480600" cy="390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 rot="10163400">
                <a:off x="2308680" y="287316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未知"/>
              <p:cNvSpPr/>
              <p:nvPr/>
            </p:nvSpPr>
            <p:spPr>
              <a:xfrm rot="10461600">
                <a:off x="2465640" y="282924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未知"/>
              <p:cNvSpPr/>
              <p:nvPr/>
            </p:nvSpPr>
            <p:spPr>
              <a:xfrm rot="10461600">
                <a:off x="2422080" y="280296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009880" y="2818440"/>
              <a:ext cx="613800" cy="617760"/>
              <a:chOff x="2009880" y="2818440"/>
              <a:chExt cx="613800" cy="617760"/>
            </a:xfrm>
          </p:grpSpPr>
          <p:sp>
            <p:nvSpPr>
              <p:cNvPr id="335" name="未知"/>
              <p:cNvSpPr/>
              <p:nvPr/>
            </p:nvSpPr>
            <p:spPr>
              <a:xfrm rot="13597800">
                <a:off x="2076120" y="2932200"/>
                <a:ext cx="481320" cy="38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未知"/>
              <p:cNvSpPr/>
              <p:nvPr/>
            </p:nvSpPr>
            <p:spPr>
              <a:xfrm rot="15642600">
                <a:off x="2014560" y="3110040"/>
                <a:ext cx="55008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未知"/>
              <p:cNvSpPr/>
              <p:nvPr/>
            </p:nvSpPr>
            <p:spPr>
              <a:xfrm rot="15940800">
                <a:off x="2131560" y="3205800"/>
                <a:ext cx="4125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未知"/>
              <p:cNvSpPr/>
              <p:nvPr/>
            </p:nvSpPr>
            <p:spPr>
              <a:xfrm rot="15940800">
                <a:off x="2163960" y="3168000"/>
                <a:ext cx="41292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1896120" y="2347560"/>
              <a:ext cx="617760" cy="612720"/>
              <a:chOff x="1896120" y="2347560"/>
              <a:chExt cx="617760" cy="612720"/>
            </a:xfrm>
          </p:grpSpPr>
          <p:sp>
            <p:nvSpPr>
              <p:cNvPr id="340" name="未知"/>
              <p:cNvSpPr/>
              <p:nvPr/>
            </p:nvSpPr>
            <p:spPr>
              <a:xfrm rot="2562000">
                <a:off x="1964160" y="2458800"/>
                <a:ext cx="481320" cy="38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 rot="4606800">
                <a:off x="1956240" y="2623680"/>
                <a:ext cx="55008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 rot="4905000">
                <a:off x="1970640" y="2543400"/>
                <a:ext cx="4125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 rot="4905000">
                <a:off x="1941480" y="2594160"/>
                <a:ext cx="41292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193480" y="2504160"/>
              <a:ext cx="497520" cy="562320"/>
              <a:chOff x="2193480" y="2504160"/>
              <a:chExt cx="497520" cy="562320"/>
            </a:xfrm>
          </p:grpSpPr>
          <p:sp>
            <p:nvSpPr>
              <p:cNvPr id="345" name="未知"/>
              <p:cNvSpPr/>
              <p:nvPr/>
            </p:nvSpPr>
            <p:spPr>
              <a:xfrm rot="6262200">
                <a:off x="2201760" y="2589840"/>
                <a:ext cx="480600" cy="390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 rot="8307000">
                <a:off x="2187000" y="278172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 rot="8605200">
                <a:off x="2305440" y="269928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 rot="8605200">
                <a:off x="2252160" y="270000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1632600" y="2761560"/>
              <a:ext cx="577080" cy="610920"/>
              <a:chOff x="1632600" y="2761560"/>
              <a:chExt cx="577080" cy="610920"/>
            </a:xfrm>
          </p:grpSpPr>
          <p:sp>
            <p:nvSpPr>
              <p:cNvPr id="350" name="未知"/>
              <p:cNvSpPr/>
              <p:nvPr/>
            </p:nvSpPr>
            <p:spPr>
              <a:xfrm rot="17976000">
                <a:off x="1680480" y="2871720"/>
                <a:ext cx="480600" cy="390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 rot="20020800">
                <a:off x="1632240" y="302076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 rot="20319000">
                <a:off x="1629720" y="309888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 rot="20319000">
                <a:off x="1680120" y="312300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979640" y="2844360"/>
              <a:ext cx="505080" cy="574200"/>
              <a:chOff x="1979640" y="2844360"/>
              <a:chExt cx="505080" cy="574200"/>
            </a:xfrm>
          </p:grpSpPr>
          <p:sp>
            <p:nvSpPr>
              <p:cNvPr id="355" name="未知"/>
              <p:cNvSpPr/>
              <p:nvPr/>
            </p:nvSpPr>
            <p:spPr>
              <a:xfrm rot="15255600">
                <a:off x="1991520" y="2933640"/>
                <a:ext cx="481320" cy="38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 rot="17300400">
                <a:off x="1930680" y="3098520"/>
                <a:ext cx="55008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 rot="17598600">
                <a:off x="2000160" y="3205800"/>
                <a:ext cx="4125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 rot="17598600">
                <a:off x="2048760" y="3188160"/>
                <a:ext cx="41292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2154600" y="2864520"/>
              <a:ext cx="585360" cy="530280"/>
              <a:chOff x="2154600" y="2864520"/>
              <a:chExt cx="585360" cy="530280"/>
            </a:xfrm>
          </p:grpSpPr>
          <p:sp>
            <p:nvSpPr>
              <p:cNvPr id="360" name="未知"/>
              <p:cNvSpPr/>
              <p:nvPr/>
            </p:nvSpPr>
            <p:spPr>
              <a:xfrm rot="11995800">
                <a:off x="2206440" y="2934720"/>
                <a:ext cx="481320" cy="38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未知"/>
              <p:cNvSpPr/>
              <p:nvPr/>
            </p:nvSpPr>
            <p:spPr>
              <a:xfrm rot="14040600">
                <a:off x="2150640" y="3124080"/>
                <a:ext cx="55008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 rot="14338800">
                <a:off x="2302560" y="3188160"/>
                <a:ext cx="4125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 rot="14338800">
                <a:off x="2311920" y="3140640"/>
                <a:ext cx="41292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2138400" y="2652840"/>
              <a:ext cx="602640" cy="559080"/>
              <a:chOff x="2138400" y="2652840"/>
              <a:chExt cx="602640" cy="559080"/>
            </a:xfrm>
          </p:grpSpPr>
          <p:sp>
            <p:nvSpPr>
              <p:cNvPr id="365" name="未知"/>
              <p:cNvSpPr/>
              <p:nvPr/>
            </p:nvSpPr>
            <p:spPr>
              <a:xfrm rot="9269400">
                <a:off x="2198880" y="2737080"/>
                <a:ext cx="480600" cy="390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未知"/>
              <p:cNvSpPr/>
              <p:nvPr/>
            </p:nvSpPr>
            <p:spPr>
              <a:xfrm rot="11314200">
                <a:off x="2162520" y="293652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未知"/>
              <p:cNvSpPr/>
              <p:nvPr/>
            </p:nvSpPr>
            <p:spPr>
              <a:xfrm rot="11612400">
                <a:off x="2330640" y="292428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 rot="11612400">
                <a:off x="2300400" y="288540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1805400" y="2584440"/>
              <a:ext cx="500400" cy="403200"/>
              <a:chOff x="1805400" y="2584440"/>
              <a:chExt cx="500400" cy="403200"/>
            </a:xfrm>
          </p:grpSpPr>
          <p:sp>
            <p:nvSpPr>
              <p:cNvPr id="370" name="未知"/>
              <p:cNvSpPr/>
              <p:nvPr/>
            </p:nvSpPr>
            <p:spPr>
              <a:xfrm rot="94200">
                <a:off x="1814760" y="2590920"/>
                <a:ext cx="480600" cy="390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 rot="2139000">
                <a:off x="1794960" y="274032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未知"/>
              <p:cNvSpPr/>
              <p:nvPr/>
            </p:nvSpPr>
            <p:spPr>
              <a:xfrm rot="2437200">
                <a:off x="1766520" y="271692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未知"/>
              <p:cNvSpPr/>
              <p:nvPr/>
            </p:nvSpPr>
            <p:spPr>
              <a:xfrm rot="2437200">
                <a:off x="1773360" y="277524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614600" y="2667240"/>
              <a:ext cx="614520" cy="586440"/>
              <a:chOff x="1614600" y="2667240"/>
              <a:chExt cx="614520" cy="586440"/>
            </a:xfrm>
          </p:grpSpPr>
          <p:sp>
            <p:nvSpPr>
              <p:cNvPr id="375" name="未知"/>
              <p:cNvSpPr/>
              <p:nvPr/>
            </p:nvSpPr>
            <p:spPr>
              <a:xfrm rot="19669800">
                <a:off x="1681560" y="2765160"/>
                <a:ext cx="480600" cy="390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 rot="114600">
                <a:off x="1646280" y="291096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 rot="412800">
                <a:off x="1618200" y="294660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 rot="412800">
                <a:off x="1653480" y="299196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2031120" y="2718360"/>
              <a:ext cx="411840" cy="412560"/>
              <a:chOff x="2031120" y="2718360"/>
              <a:chExt cx="411840" cy="412560"/>
            </a:xfrm>
          </p:grpSpPr>
          <p:sp>
            <p:nvSpPr>
              <p:cNvPr id="380" name=""/>
              <p:cNvSpPr/>
              <p:nvPr/>
            </p:nvSpPr>
            <p:spPr>
              <a:xfrm>
                <a:off x="2031120" y="2718360"/>
                <a:ext cx="411840" cy="412560"/>
              </a:xfrm>
              <a:custGeom>
                <a:avLst/>
                <a:gdLst>
                  <a:gd name="textAreaLeft" fmla="*/ 96480 w 411840"/>
                  <a:gd name="textAreaRight" fmla="*/ 315360 w 411840"/>
                  <a:gd name="textAreaTop" fmla="*/ 96840 h 412560"/>
                  <a:gd name="textAreaBottom" fmla="*/ 315720 h 41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102760" y="2778840"/>
                <a:ext cx="274680" cy="27504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947520" y="2714760"/>
            <a:ext cx="1792440" cy="1947240"/>
            <a:chOff x="947520" y="2714760"/>
            <a:chExt cx="1792440" cy="1947240"/>
          </a:xfrm>
        </p:grpSpPr>
        <p:grpSp>
          <p:nvGrpSpPr>
            <p:cNvPr id="383" name=""/>
            <p:cNvGrpSpPr/>
            <p:nvPr/>
          </p:nvGrpSpPr>
          <p:grpSpPr>
            <a:xfrm>
              <a:off x="1747440" y="3110400"/>
              <a:ext cx="979920" cy="983520"/>
              <a:chOff x="1747440" y="3110400"/>
              <a:chExt cx="979920" cy="983520"/>
            </a:xfrm>
          </p:grpSpPr>
          <p:sp>
            <p:nvSpPr>
              <p:cNvPr id="384" name="未知"/>
              <p:cNvSpPr/>
              <p:nvPr/>
            </p:nvSpPr>
            <p:spPr>
              <a:xfrm rot="18826800">
                <a:off x="1859400" y="3285360"/>
                <a:ext cx="75528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 rot="20871600">
                <a:off x="1793880" y="3523320"/>
                <a:ext cx="86328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 rot="21169800">
                <a:off x="1765800" y="361728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 rot="21169800">
                <a:off x="1835280" y="367560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1762920" y="2932200"/>
              <a:ext cx="795960" cy="885240"/>
              <a:chOff x="1762920" y="2932200"/>
              <a:chExt cx="795960" cy="885240"/>
            </a:xfrm>
          </p:grpSpPr>
          <p:sp>
            <p:nvSpPr>
              <p:cNvPr id="389" name="未知"/>
              <p:cNvSpPr/>
              <p:nvPr/>
            </p:nvSpPr>
            <p:spPr>
              <a:xfrm rot="17034600">
                <a:off x="1783080" y="3058200"/>
                <a:ext cx="75492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 rot="19078800">
                <a:off x="1697760" y="3306600"/>
                <a:ext cx="86292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未知"/>
              <p:cNvSpPr/>
              <p:nvPr/>
            </p:nvSpPr>
            <p:spPr>
              <a:xfrm rot="19377600">
                <a:off x="1729800" y="3457440"/>
                <a:ext cx="64692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 rot="19377600">
                <a:off x="1814760" y="3474360"/>
                <a:ext cx="64728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1298880" y="2714760"/>
              <a:ext cx="975600" cy="984960"/>
              <a:chOff x="1298880" y="2714760"/>
              <a:chExt cx="975600" cy="984960"/>
            </a:xfrm>
          </p:grpSpPr>
          <p:sp>
            <p:nvSpPr>
              <p:cNvPr id="394" name="未知"/>
              <p:cNvSpPr/>
              <p:nvPr/>
            </p:nvSpPr>
            <p:spPr>
              <a:xfrm rot="13688400">
                <a:off x="1409040" y="2890440"/>
                <a:ext cx="75528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 rot="15733200">
                <a:off x="1311840" y="3178440"/>
                <a:ext cx="86328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未知"/>
              <p:cNvSpPr/>
              <p:nvPr/>
            </p:nvSpPr>
            <p:spPr>
              <a:xfrm rot="16031400">
                <a:off x="1493280" y="333072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未知"/>
              <p:cNvSpPr/>
              <p:nvPr/>
            </p:nvSpPr>
            <p:spPr>
              <a:xfrm rot="16031400">
                <a:off x="1548000" y="327348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959400" y="2984400"/>
              <a:ext cx="890640" cy="789480"/>
              <a:chOff x="959400" y="2984400"/>
              <a:chExt cx="890640" cy="789480"/>
            </a:xfrm>
          </p:grpSpPr>
          <p:sp>
            <p:nvSpPr>
              <p:cNvPr id="399" name="未知"/>
              <p:cNvSpPr/>
              <p:nvPr/>
            </p:nvSpPr>
            <p:spPr>
              <a:xfrm rot="10003800">
                <a:off x="1022040" y="3062520"/>
                <a:ext cx="7552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未知"/>
              <p:cNvSpPr/>
              <p:nvPr/>
            </p:nvSpPr>
            <p:spPr>
              <a:xfrm rot="12048600">
                <a:off x="954720" y="338472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 rot="12346800">
                <a:off x="1222920" y="3397320"/>
                <a:ext cx="6472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未知"/>
              <p:cNvSpPr/>
              <p:nvPr/>
            </p:nvSpPr>
            <p:spPr>
              <a:xfrm rot="12346800">
                <a:off x="1191240" y="332676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1458360" y="3592440"/>
              <a:ext cx="981000" cy="982080"/>
              <a:chOff x="1458360" y="3592440"/>
              <a:chExt cx="981000" cy="982080"/>
            </a:xfrm>
          </p:grpSpPr>
          <p:sp>
            <p:nvSpPr>
              <p:cNvPr id="404" name="未知"/>
              <p:cNvSpPr/>
              <p:nvPr/>
            </p:nvSpPr>
            <p:spPr>
              <a:xfrm rot="2727600">
                <a:off x="1571040" y="3766680"/>
                <a:ext cx="75492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未知"/>
              <p:cNvSpPr/>
              <p:nvPr/>
            </p:nvSpPr>
            <p:spPr>
              <a:xfrm rot="4772400">
                <a:off x="1559880" y="4036680"/>
                <a:ext cx="86292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未知"/>
              <p:cNvSpPr/>
              <p:nvPr/>
            </p:nvSpPr>
            <p:spPr>
              <a:xfrm rot="5070600">
                <a:off x="1587240" y="3907440"/>
                <a:ext cx="64692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未知"/>
              <p:cNvSpPr/>
              <p:nvPr/>
            </p:nvSpPr>
            <p:spPr>
              <a:xfrm rot="5070600">
                <a:off x="1535760" y="3984840"/>
                <a:ext cx="6472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1143000" y="3644280"/>
              <a:ext cx="681480" cy="795240"/>
              <a:chOff x="1143000" y="3644280"/>
              <a:chExt cx="681480" cy="795240"/>
            </a:xfrm>
          </p:grpSpPr>
          <p:sp>
            <p:nvSpPr>
              <p:cNvPr id="409" name="未知"/>
              <p:cNvSpPr/>
              <p:nvPr/>
            </p:nvSpPr>
            <p:spPr>
              <a:xfrm rot="5628000">
                <a:off x="1105920" y="3725280"/>
                <a:ext cx="75492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未知"/>
              <p:cNvSpPr/>
              <p:nvPr/>
            </p:nvSpPr>
            <p:spPr>
              <a:xfrm rot="7672800">
                <a:off x="1087920" y="4030920"/>
                <a:ext cx="86292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未知"/>
              <p:cNvSpPr/>
              <p:nvPr/>
            </p:nvSpPr>
            <p:spPr>
              <a:xfrm rot="7971000">
                <a:off x="1246320" y="3888000"/>
                <a:ext cx="64692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未知"/>
              <p:cNvSpPr/>
              <p:nvPr/>
            </p:nvSpPr>
            <p:spPr>
              <a:xfrm rot="7971000">
                <a:off x="1160640" y="3904200"/>
                <a:ext cx="64728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951840" y="3355200"/>
              <a:ext cx="896040" cy="954000"/>
              <a:chOff x="951840" y="3355200"/>
              <a:chExt cx="896040" cy="954000"/>
            </a:xfrm>
          </p:grpSpPr>
          <p:sp>
            <p:nvSpPr>
              <p:cNvPr id="414" name="未知"/>
              <p:cNvSpPr/>
              <p:nvPr/>
            </p:nvSpPr>
            <p:spPr>
              <a:xfrm rot="6925800">
                <a:off x="1022040" y="3515400"/>
                <a:ext cx="7552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未知"/>
              <p:cNvSpPr/>
              <p:nvPr/>
            </p:nvSpPr>
            <p:spPr>
              <a:xfrm rot="8970600">
                <a:off x="992520" y="383292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未知"/>
              <p:cNvSpPr/>
              <p:nvPr/>
            </p:nvSpPr>
            <p:spPr>
              <a:xfrm rot="9268800">
                <a:off x="1203480" y="3719160"/>
                <a:ext cx="6472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未知"/>
              <p:cNvSpPr/>
              <p:nvPr/>
            </p:nvSpPr>
            <p:spPr>
              <a:xfrm rot="9268800">
                <a:off x="1121400" y="370296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1832400" y="3422520"/>
              <a:ext cx="907560" cy="816840"/>
              <a:chOff x="1832400" y="3422520"/>
              <a:chExt cx="907560" cy="816840"/>
            </a:xfrm>
          </p:grpSpPr>
          <p:sp>
            <p:nvSpPr>
              <p:cNvPr id="419" name="未知"/>
              <p:cNvSpPr/>
              <p:nvPr/>
            </p:nvSpPr>
            <p:spPr>
              <a:xfrm rot="20636400">
                <a:off x="1911960" y="3514320"/>
                <a:ext cx="7552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未知"/>
              <p:cNvSpPr/>
              <p:nvPr/>
            </p:nvSpPr>
            <p:spPr>
              <a:xfrm rot="1081200">
                <a:off x="1869120" y="375156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未知"/>
              <p:cNvSpPr/>
              <p:nvPr/>
            </p:nvSpPr>
            <p:spPr>
              <a:xfrm rot="1379400">
                <a:off x="1816920" y="3765960"/>
                <a:ext cx="6472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未知"/>
              <p:cNvSpPr/>
              <p:nvPr/>
            </p:nvSpPr>
            <p:spPr>
              <a:xfrm rot="1379400">
                <a:off x="1852560" y="385272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644480" y="3617280"/>
              <a:ext cx="876960" cy="771120"/>
              <a:chOff x="1644480" y="3617280"/>
              <a:chExt cx="876960" cy="771120"/>
            </a:xfrm>
          </p:grpSpPr>
          <p:sp>
            <p:nvSpPr>
              <p:cNvPr id="424" name="未知"/>
              <p:cNvSpPr/>
              <p:nvPr/>
            </p:nvSpPr>
            <p:spPr>
              <a:xfrm rot="805800">
                <a:off x="1704960" y="3696480"/>
                <a:ext cx="755280" cy="612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 rot="2850600">
                <a:off x="1680840" y="3936240"/>
                <a:ext cx="863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未知"/>
              <p:cNvSpPr/>
              <p:nvPr/>
            </p:nvSpPr>
            <p:spPr>
              <a:xfrm rot="3148800">
                <a:off x="1648800" y="3869280"/>
                <a:ext cx="64728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未知"/>
              <p:cNvSpPr/>
              <p:nvPr/>
            </p:nvSpPr>
            <p:spPr>
              <a:xfrm rot="3148800">
                <a:off x="1642680" y="396216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947520" y="3161880"/>
              <a:ext cx="1039680" cy="970920"/>
              <a:chOff x="947520" y="3161880"/>
              <a:chExt cx="1039680" cy="970920"/>
            </a:xfrm>
          </p:grpSpPr>
          <p:sp>
            <p:nvSpPr>
              <p:cNvPr id="429" name="未知"/>
              <p:cNvSpPr/>
              <p:nvPr/>
            </p:nvSpPr>
            <p:spPr>
              <a:xfrm rot="7717200">
                <a:off x="1219320" y="3179880"/>
                <a:ext cx="495720" cy="934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未知"/>
              <p:cNvSpPr/>
              <p:nvPr/>
            </p:nvSpPr>
            <p:spPr>
              <a:xfrm rot="9762000">
                <a:off x="1201680" y="3655080"/>
                <a:ext cx="566640" cy="10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未知"/>
              <p:cNvSpPr/>
              <p:nvPr/>
            </p:nvSpPr>
            <p:spPr>
              <a:xfrm rot="10060200">
                <a:off x="1344960" y="3552480"/>
                <a:ext cx="424800" cy="79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未知"/>
              <p:cNvSpPr/>
              <p:nvPr/>
            </p:nvSpPr>
            <p:spPr>
              <a:xfrm rot="10060200">
                <a:off x="1285920" y="3490920"/>
                <a:ext cx="42516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1463400" y="2839320"/>
              <a:ext cx="953280" cy="869400"/>
              <a:chOff x="1463400" y="2839320"/>
              <a:chExt cx="953280" cy="869400"/>
            </a:xfrm>
          </p:grpSpPr>
          <p:sp>
            <p:nvSpPr>
              <p:cNvPr id="434" name="未知"/>
              <p:cNvSpPr/>
              <p:nvPr/>
            </p:nvSpPr>
            <p:spPr>
              <a:xfrm rot="13857000">
                <a:off x="1758960" y="2806560"/>
                <a:ext cx="361440" cy="934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未知"/>
              <p:cNvSpPr/>
              <p:nvPr/>
            </p:nvSpPr>
            <p:spPr>
              <a:xfrm rot="15901800">
                <a:off x="1668600" y="3223080"/>
                <a:ext cx="412920" cy="10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未知"/>
              <p:cNvSpPr/>
              <p:nvPr/>
            </p:nvSpPr>
            <p:spPr>
              <a:xfrm rot="16200000">
                <a:off x="1819080" y="3306600"/>
                <a:ext cx="309600" cy="79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未知"/>
              <p:cNvSpPr/>
              <p:nvPr/>
            </p:nvSpPr>
            <p:spPr>
              <a:xfrm rot="16200000">
                <a:off x="1904400" y="3289320"/>
                <a:ext cx="30996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1269360" y="2999520"/>
              <a:ext cx="728640" cy="776160"/>
              <a:chOff x="1269360" y="2999520"/>
              <a:chExt cx="728640" cy="776160"/>
            </a:xfrm>
          </p:grpSpPr>
          <p:sp>
            <p:nvSpPr>
              <p:cNvPr id="439" name="未知"/>
              <p:cNvSpPr/>
              <p:nvPr/>
            </p:nvSpPr>
            <p:spPr>
              <a:xfrm rot="11895600">
                <a:off x="1354320" y="3071160"/>
                <a:ext cx="55836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未知"/>
              <p:cNvSpPr/>
              <p:nvPr/>
            </p:nvSpPr>
            <p:spPr>
              <a:xfrm rot="13940400">
                <a:off x="1279440" y="3378240"/>
                <a:ext cx="63792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未知"/>
              <p:cNvSpPr/>
              <p:nvPr/>
            </p:nvSpPr>
            <p:spPr>
              <a:xfrm rot="14238600">
                <a:off x="1473840" y="3442680"/>
                <a:ext cx="47844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未知"/>
              <p:cNvSpPr/>
              <p:nvPr/>
            </p:nvSpPr>
            <p:spPr>
              <a:xfrm rot="14238600">
                <a:off x="1496880" y="3380760"/>
                <a:ext cx="47880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1273320" y="3722400"/>
              <a:ext cx="871920" cy="939600"/>
              <a:chOff x="1273320" y="3722400"/>
              <a:chExt cx="871920" cy="939600"/>
            </a:xfrm>
          </p:grpSpPr>
          <p:sp>
            <p:nvSpPr>
              <p:cNvPr id="444" name="未知"/>
              <p:cNvSpPr/>
              <p:nvPr/>
            </p:nvSpPr>
            <p:spPr>
              <a:xfrm rot="4063800">
                <a:off x="1331640" y="3875760"/>
                <a:ext cx="7552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未知"/>
              <p:cNvSpPr/>
              <p:nvPr/>
            </p:nvSpPr>
            <p:spPr>
              <a:xfrm rot="6108000">
                <a:off x="1321200" y="416268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未知"/>
              <p:cNvSpPr/>
              <p:nvPr/>
            </p:nvSpPr>
            <p:spPr>
              <a:xfrm rot="6406200">
                <a:off x="1407600" y="4012920"/>
                <a:ext cx="6472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未知"/>
              <p:cNvSpPr/>
              <p:nvPr/>
            </p:nvSpPr>
            <p:spPr>
              <a:xfrm rot="6406200">
                <a:off x="1333800" y="406584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1474560" y="3362040"/>
              <a:ext cx="647280" cy="647280"/>
              <a:chOff x="1474560" y="3362040"/>
              <a:chExt cx="647280" cy="647280"/>
            </a:xfrm>
          </p:grpSpPr>
          <p:sp>
            <p:nvSpPr>
              <p:cNvPr id="449" name=""/>
              <p:cNvSpPr/>
              <p:nvPr/>
            </p:nvSpPr>
            <p:spPr>
              <a:xfrm>
                <a:off x="1474560" y="3362040"/>
                <a:ext cx="647280" cy="647280"/>
              </a:xfrm>
              <a:custGeom>
                <a:avLst/>
                <a:gdLst>
                  <a:gd name="textAreaLeft" fmla="*/ 151920 w 647280"/>
                  <a:gd name="textAreaRight" fmla="*/ 495360 w 647280"/>
                  <a:gd name="textAreaTop" fmla="*/ 151920 h 647280"/>
                  <a:gd name="textAreaBottom" fmla="*/ 4953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86880" y="3457080"/>
                <a:ext cx="431640" cy="43128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48600" y="2471400"/>
            <a:ext cx="2012040" cy="1789560"/>
            <a:chOff x="48600" y="2471400"/>
            <a:chExt cx="2012040" cy="1789560"/>
          </a:xfrm>
        </p:grpSpPr>
        <p:grpSp>
          <p:nvGrpSpPr>
            <p:cNvPr id="452" name=""/>
            <p:cNvGrpSpPr/>
            <p:nvPr/>
          </p:nvGrpSpPr>
          <p:grpSpPr>
            <a:xfrm>
              <a:off x="582480" y="3168000"/>
              <a:ext cx="972720" cy="951840"/>
              <a:chOff x="582480" y="3168000"/>
              <a:chExt cx="972720" cy="951840"/>
            </a:xfrm>
          </p:grpSpPr>
          <p:sp>
            <p:nvSpPr>
              <p:cNvPr id="453" name="未知"/>
              <p:cNvSpPr/>
              <p:nvPr/>
            </p:nvSpPr>
            <p:spPr>
              <a:xfrm rot="13149000">
                <a:off x="690840" y="3337200"/>
                <a:ext cx="75528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未知"/>
              <p:cNvSpPr/>
              <p:nvPr/>
            </p:nvSpPr>
            <p:spPr>
              <a:xfrm rot="15194400">
                <a:off x="596160" y="3622680"/>
                <a:ext cx="863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未知"/>
              <p:cNvSpPr/>
              <p:nvPr/>
            </p:nvSpPr>
            <p:spPr>
              <a:xfrm rot="15492600">
                <a:off x="797760" y="3761640"/>
                <a:ext cx="64728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未知"/>
              <p:cNvSpPr/>
              <p:nvPr/>
            </p:nvSpPr>
            <p:spPr>
              <a:xfrm rot="15492600">
                <a:off x="839160" y="369684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239400" y="3143520"/>
              <a:ext cx="808200" cy="902880"/>
              <a:chOff x="239400" y="3143520"/>
              <a:chExt cx="808200" cy="902880"/>
            </a:xfrm>
          </p:grpSpPr>
          <p:sp>
            <p:nvSpPr>
              <p:cNvPr id="458" name="未知"/>
              <p:cNvSpPr/>
              <p:nvPr/>
            </p:nvSpPr>
            <p:spPr>
              <a:xfrm rot="17227800">
                <a:off x="265680" y="328824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未知"/>
              <p:cNvSpPr/>
              <p:nvPr/>
            </p:nvSpPr>
            <p:spPr>
              <a:xfrm rot="19273200">
                <a:off x="182520" y="352764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未知"/>
              <p:cNvSpPr/>
              <p:nvPr/>
            </p:nvSpPr>
            <p:spPr>
              <a:xfrm rot="19571400">
                <a:off x="205560" y="367236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未知"/>
              <p:cNvSpPr/>
              <p:nvPr/>
            </p:nvSpPr>
            <p:spPr>
              <a:xfrm rot="19571400">
                <a:off x="288720" y="369144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897480" y="3257640"/>
              <a:ext cx="833040" cy="711000"/>
              <a:chOff x="897480" y="3257640"/>
              <a:chExt cx="833040" cy="711000"/>
            </a:xfrm>
          </p:grpSpPr>
          <p:sp>
            <p:nvSpPr>
              <p:cNvPr id="463" name="未知"/>
              <p:cNvSpPr/>
              <p:nvPr/>
            </p:nvSpPr>
            <p:spPr>
              <a:xfrm rot="11275800">
                <a:off x="936000" y="330660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未知"/>
              <p:cNvSpPr/>
              <p:nvPr/>
            </p:nvSpPr>
            <p:spPr>
              <a:xfrm rot="13320600">
                <a:off x="854640" y="361116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未知"/>
              <p:cNvSpPr/>
              <p:nvPr/>
            </p:nvSpPr>
            <p:spPr>
              <a:xfrm rot="13619400">
                <a:off x="1109880" y="368280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未知"/>
              <p:cNvSpPr/>
              <p:nvPr/>
            </p:nvSpPr>
            <p:spPr>
              <a:xfrm rot="13619400">
                <a:off x="1107000" y="360720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17160" y="2661480"/>
              <a:ext cx="879120" cy="774720"/>
              <a:chOff x="317160" y="2661480"/>
              <a:chExt cx="879120" cy="774720"/>
            </a:xfrm>
          </p:grpSpPr>
          <p:sp>
            <p:nvSpPr>
              <p:cNvPr id="468" name="未知"/>
              <p:cNvSpPr/>
              <p:nvPr/>
            </p:nvSpPr>
            <p:spPr>
              <a:xfrm rot="823800">
                <a:off x="378720" y="2742120"/>
                <a:ext cx="75528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未知"/>
              <p:cNvSpPr/>
              <p:nvPr/>
            </p:nvSpPr>
            <p:spPr>
              <a:xfrm rot="2868600">
                <a:off x="354600" y="2982960"/>
                <a:ext cx="863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未知"/>
              <p:cNvSpPr/>
              <p:nvPr/>
            </p:nvSpPr>
            <p:spPr>
              <a:xfrm rot="3166800">
                <a:off x="323280" y="2915280"/>
                <a:ext cx="64728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未知"/>
              <p:cNvSpPr/>
              <p:nvPr/>
            </p:nvSpPr>
            <p:spPr>
              <a:xfrm rot="3166800">
                <a:off x="316440" y="300816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909000" y="2707920"/>
              <a:ext cx="913680" cy="963000"/>
              <a:chOff x="909000" y="2707920"/>
              <a:chExt cx="913680" cy="963000"/>
            </a:xfrm>
          </p:grpSpPr>
          <p:sp>
            <p:nvSpPr>
              <p:cNvPr id="473" name="未知"/>
              <p:cNvSpPr/>
              <p:nvPr/>
            </p:nvSpPr>
            <p:spPr>
              <a:xfrm rot="7251000">
                <a:off x="987840" y="2882520"/>
                <a:ext cx="75564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未知"/>
              <p:cNvSpPr/>
              <p:nvPr/>
            </p:nvSpPr>
            <p:spPr>
              <a:xfrm rot="9295800">
                <a:off x="954000" y="319176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未知"/>
              <p:cNvSpPr/>
              <p:nvPr/>
            </p:nvSpPr>
            <p:spPr>
              <a:xfrm rot="9594000">
                <a:off x="1176840" y="308952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未知"/>
              <p:cNvSpPr/>
              <p:nvPr/>
            </p:nvSpPr>
            <p:spPr>
              <a:xfrm rot="9594000">
                <a:off x="1098000" y="306792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8600" y="2821680"/>
              <a:ext cx="919440" cy="825120"/>
              <a:chOff x="48600" y="2821680"/>
              <a:chExt cx="919440" cy="825120"/>
            </a:xfrm>
          </p:grpSpPr>
          <p:sp>
            <p:nvSpPr>
              <p:cNvPr id="478" name="未知"/>
              <p:cNvSpPr/>
              <p:nvPr/>
            </p:nvSpPr>
            <p:spPr>
              <a:xfrm rot="20461800">
                <a:off x="133560" y="2927520"/>
                <a:ext cx="75528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未知"/>
              <p:cNvSpPr/>
              <p:nvPr/>
            </p:nvSpPr>
            <p:spPr>
              <a:xfrm rot="906600">
                <a:off x="88920" y="3156840"/>
                <a:ext cx="863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未知"/>
              <p:cNvSpPr/>
              <p:nvPr/>
            </p:nvSpPr>
            <p:spPr>
              <a:xfrm rot="1205400">
                <a:off x="37800" y="3176640"/>
                <a:ext cx="64728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未知"/>
              <p:cNvSpPr/>
              <p:nvPr/>
            </p:nvSpPr>
            <p:spPr>
              <a:xfrm rot="1205400">
                <a:off x="77760" y="325908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649080" y="2586960"/>
              <a:ext cx="813240" cy="914400"/>
              <a:chOff x="649080" y="2586960"/>
              <a:chExt cx="813240" cy="914400"/>
            </a:xfrm>
          </p:grpSpPr>
          <p:sp>
            <p:nvSpPr>
              <p:cNvPr id="483" name="未知"/>
              <p:cNvSpPr/>
              <p:nvPr/>
            </p:nvSpPr>
            <p:spPr>
              <a:xfrm rot="4341600">
                <a:off x="677880" y="2741400"/>
                <a:ext cx="75564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未知"/>
              <p:cNvSpPr/>
              <p:nvPr/>
            </p:nvSpPr>
            <p:spPr>
              <a:xfrm rot="6385800">
                <a:off x="665280" y="302220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未知"/>
              <p:cNvSpPr/>
              <p:nvPr/>
            </p:nvSpPr>
            <p:spPr>
              <a:xfrm rot="6684000">
                <a:off x="766080" y="287172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未知"/>
              <p:cNvSpPr/>
              <p:nvPr/>
            </p:nvSpPr>
            <p:spPr>
              <a:xfrm rot="6684000">
                <a:off x="690840" y="291888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467640" y="3328200"/>
              <a:ext cx="847800" cy="932760"/>
              <a:chOff x="467640" y="3328200"/>
              <a:chExt cx="847800" cy="932760"/>
            </a:xfrm>
          </p:grpSpPr>
          <p:sp>
            <p:nvSpPr>
              <p:cNvPr id="488" name="未知"/>
              <p:cNvSpPr/>
              <p:nvPr/>
            </p:nvSpPr>
            <p:spPr>
              <a:xfrm rot="14905200">
                <a:off x="513360" y="348588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未知"/>
              <p:cNvSpPr/>
              <p:nvPr/>
            </p:nvSpPr>
            <p:spPr>
              <a:xfrm rot="16950000">
                <a:off x="416880" y="374976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未知"/>
              <p:cNvSpPr/>
              <p:nvPr/>
            </p:nvSpPr>
            <p:spPr>
              <a:xfrm rot="17248800">
                <a:off x="542880" y="391788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未知"/>
              <p:cNvSpPr/>
              <p:nvPr/>
            </p:nvSpPr>
            <p:spPr>
              <a:xfrm rot="17248800">
                <a:off x="615240" y="388260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167400" y="2958120"/>
              <a:ext cx="955440" cy="972720"/>
              <a:chOff x="167400" y="2958120"/>
              <a:chExt cx="955440" cy="972720"/>
            </a:xfrm>
          </p:grpSpPr>
          <p:sp>
            <p:nvSpPr>
              <p:cNvPr id="493" name="未知"/>
              <p:cNvSpPr/>
              <p:nvPr/>
            </p:nvSpPr>
            <p:spPr>
              <a:xfrm rot="18606000">
                <a:off x="267120" y="313812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未知"/>
              <p:cNvSpPr/>
              <p:nvPr/>
            </p:nvSpPr>
            <p:spPr>
              <a:xfrm rot="20650200">
                <a:off x="199440" y="336852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未知"/>
              <p:cNvSpPr/>
              <p:nvPr/>
            </p:nvSpPr>
            <p:spPr>
              <a:xfrm rot="20948400">
                <a:off x="176040" y="346896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未知"/>
              <p:cNvSpPr/>
              <p:nvPr/>
            </p:nvSpPr>
            <p:spPr>
              <a:xfrm rot="20948400">
                <a:off x="248760" y="352008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1090440" y="2935080"/>
              <a:ext cx="970200" cy="933840"/>
              <a:chOff x="1090440" y="2935080"/>
              <a:chExt cx="970200" cy="933840"/>
            </a:xfrm>
          </p:grpSpPr>
          <p:sp>
            <p:nvSpPr>
              <p:cNvPr id="498" name="未知"/>
              <p:cNvSpPr/>
              <p:nvPr/>
            </p:nvSpPr>
            <p:spPr>
              <a:xfrm rot="8719200">
                <a:off x="1197360" y="3095280"/>
                <a:ext cx="75564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未知"/>
              <p:cNvSpPr/>
              <p:nvPr/>
            </p:nvSpPr>
            <p:spPr>
              <a:xfrm rot="10764000">
                <a:off x="1146600" y="340920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未知"/>
              <p:cNvSpPr/>
              <p:nvPr/>
            </p:nvSpPr>
            <p:spPr>
              <a:xfrm rot="11062200">
                <a:off x="1405440" y="336492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未知"/>
              <p:cNvSpPr/>
              <p:nvPr/>
            </p:nvSpPr>
            <p:spPr>
              <a:xfrm rot="11062200">
                <a:off x="1346040" y="331308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808560" y="2678400"/>
              <a:ext cx="734400" cy="850320"/>
              <a:chOff x="808560" y="2678400"/>
              <a:chExt cx="734400" cy="850320"/>
            </a:xfrm>
          </p:grpSpPr>
          <p:sp>
            <p:nvSpPr>
              <p:cNvPr id="503" name="未知"/>
              <p:cNvSpPr/>
              <p:nvPr/>
            </p:nvSpPr>
            <p:spPr>
              <a:xfrm rot="5998800">
                <a:off x="797760" y="279720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未知"/>
              <p:cNvSpPr/>
              <p:nvPr/>
            </p:nvSpPr>
            <p:spPr>
              <a:xfrm rot="8043600">
                <a:off x="776160" y="309600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未知"/>
              <p:cNvSpPr/>
              <p:nvPr/>
            </p:nvSpPr>
            <p:spPr>
              <a:xfrm rot="8341800">
                <a:off x="952200" y="296100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未知"/>
              <p:cNvSpPr/>
              <p:nvPr/>
            </p:nvSpPr>
            <p:spPr>
              <a:xfrm rot="8341800">
                <a:off x="867240" y="296856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89520" y="2471400"/>
              <a:ext cx="966240" cy="968760"/>
              <a:chOff x="389520" y="2471400"/>
              <a:chExt cx="966240" cy="968760"/>
            </a:xfrm>
          </p:grpSpPr>
          <p:sp>
            <p:nvSpPr>
              <p:cNvPr id="508" name="未知"/>
              <p:cNvSpPr/>
              <p:nvPr/>
            </p:nvSpPr>
            <p:spPr>
              <a:xfrm rot="2739000">
                <a:off x="494640" y="264924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未知"/>
              <p:cNvSpPr/>
              <p:nvPr/>
            </p:nvSpPr>
            <p:spPr>
              <a:xfrm rot="4783800">
                <a:off x="482040" y="291024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未知"/>
              <p:cNvSpPr/>
              <p:nvPr/>
            </p:nvSpPr>
            <p:spPr>
              <a:xfrm rot="5082000">
                <a:off x="512640" y="277956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未知"/>
              <p:cNvSpPr/>
              <p:nvPr/>
            </p:nvSpPr>
            <p:spPr>
              <a:xfrm rot="5082000">
                <a:off x="462600" y="285696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349560" y="2930040"/>
              <a:ext cx="798120" cy="617040"/>
              <a:chOff x="349560" y="2930040"/>
              <a:chExt cx="798120" cy="617040"/>
            </a:xfrm>
          </p:grpSpPr>
          <p:sp>
            <p:nvSpPr>
              <p:cNvPr id="513" name="未知"/>
              <p:cNvSpPr/>
              <p:nvPr/>
            </p:nvSpPr>
            <p:spPr>
              <a:xfrm rot="12600">
                <a:off x="370800" y="293256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未知"/>
              <p:cNvSpPr/>
              <p:nvPr/>
            </p:nvSpPr>
            <p:spPr>
              <a:xfrm rot="2057400">
                <a:off x="339120" y="316692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未知"/>
              <p:cNvSpPr/>
              <p:nvPr/>
            </p:nvSpPr>
            <p:spPr>
              <a:xfrm rot="2355600">
                <a:off x="293040" y="313380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未知"/>
              <p:cNvSpPr/>
              <p:nvPr/>
            </p:nvSpPr>
            <p:spPr>
              <a:xfrm rot="2355600">
                <a:off x="307080" y="322596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717840" y="3262680"/>
              <a:ext cx="951840" cy="890640"/>
              <a:chOff x="717840" y="3262680"/>
              <a:chExt cx="951840" cy="890640"/>
            </a:xfrm>
          </p:grpSpPr>
          <p:sp>
            <p:nvSpPr>
              <p:cNvPr id="518" name="未知"/>
              <p:cNvSpPr/>
              <p:nvPr/>
            </p:nvSpPr>
            <p:spPr>
              <a:xfrm rot="12437400">
                <a:off x="815760" y="3401280"/>
                <a:ext cx="75528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未知"/>
              <p:cNvSpPr/>
              <p:nvPr/>
            </p:nvSpPr>
            <p:spPr>
              <a:xfrm rot="14482200">
                <a:off x="725760" y="3695040"/>
                <a:ext cx="863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未知"/>
              <p:cNvSpPr/>
              <p:nvPr/>
            </p:nvSpPr>
            <p:spPr>
              <a:xfrm rot="14781000">
                <a:off x="951120" y="3811320"/>
                <a:ext cx="64728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未知"/>
              <p:cNvSpPr/>
              <p:nvPr/>
            </p:nvSpPr>
            <p:spPr>
              <a:xfrm rot="14781000">
                <a:off x="976680" y="374040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1085040" y="3205080"/>
              <a:ext cx="843840" cy="693720"/>
              <a:chOff x="1085040" y="3205080"/>
              <a:chExt cx="843840" cy="693720"/>
            </a:xfrm>
          </p:grpSpPr>
          <p:sp>
            <p:nvSpPr>
              <p:cNvPr id="523" name="未知"/>
              <p:cNvSpPr/>
              <p:nvPr/>
            </p:nvSpPr>
            <p:spPr>
              <a:xfrm rot="10413000">
                <a:off x="1123920" y="324540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未知"/>
              <p:cNvSpPr/>
              <p:nvPr/>
            </p:nvSpPr>
            <p:spPr>
              <a:xfrm rot="12457800">
                <a:off x="1051920" y="355536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未知"/>
              <p:cNvSpPr/>
              <p:nvPr/>
            </p:nvSpPr>
            <p:spPr>
              <a:xfrm rot="12756600">
                <a:off x="1317960" y="358884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未知"/>
              <p:cNvSpPr/>
              <p:nvPr/>
            </p:nvSpPr>
            <p:spPr>
              <a:xfrm rot="12756600">
                <a:off x="1294200" y="351612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598320" y="2955960"/>
              <a:ext cx="864720" cy="864360"/>
              <a:chOff x="598320" y="2955960"/>
              <a:chExt cx="864720" cy="864360"/>
            </a:xfrm>
          </p:grpSpPr>
          <p:sp>
            <p:nvSpPr>
              <p:cNvPr id="528" name=""/>
              <p:cNvSpPr/>
              <p:nvPr/>
            </p:nvSpPr>
            <p:spPr>
              <a:xfrm rot="12343200">
                <a:off x="706680" y="3063960"/>
                <a:ext cx="647640" cy="647640"/>
              </a:xfrm>
              <a:custGeom>
                <a:avLst/>
                <a:gdLst>
                  <a:gd name="textAreaLeft" fmla="*/ 151920 w 647640"/>
                  <a:gd name="textAreaRight" fmla="*/ 495720 w 647640"/>
                  <a:gd name="textAreaTop" fmla="*/ 151920 h 647640"/>
                  <a:gd name="textAreaBottom" fmla="*/ 49572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2343200">
                <a:off x="804600" y="3181320"/>
                <a:ext cx="432000" cy="43164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5724360" y="5921280"/>
            <a:ext cx="936720" cy="936720"/>
            <a:chOff x="5724360" y="5921280"/>
            <a:chExt cx="936720" cy="936720"/>
          </a:xfrm>
        </p:grpSpPr>
        <p:sp>
          <p:nvSpPr>
            <p:cNvPr id="531" name=""/>
            <p:cNvSpPr/>
            <p:nvPr/>
          </p:nvSpPr>
          <p:spPr>
            <a:xfrm>
              <a:off x="5834520" y="6031440"/>
              <a:ext cx="715680" cy="715680"/>
            </a:xfrm>
            <a:prstGeom prst="donut">
              <a:avLst>
                <a:gd name="adj" fmla="val 8819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24360" y="5921280"/>
              <a:ext cx="936720" cy="936720"/>
            </a:xfrm>
            <a:prstGeom prst="donut">
              <a:avLst>
                <a:gd name="adj" fmla="val 3759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504120" y="5340240"/>
            <a:ext cx="913320" cy="989640"/>
            <a:chOff x="6504120" y="5340240"/>
            <a:chExt cx="913320" cy="989640"/>
          </a:xfrm>
        </p:grpSpPr>
        <p:grpSp>
          <p:nvGrpSpPr>
            <p:cNvPr id="534" name=""/>
            <p:cNvGrpSpPr/>
            <p:nvPr/>
          </p:nvGrpSpPr>
          <p:grpSpPr>
            <a:xfrm>
              <a:off x="6912000" y="5540760"/>
              <a:ext cx="498600" cy="500400"/>
              <a:chOff x="6912000" y="5540760"/>
              <a:chExt cx="498600" cy="500400"/>
            </a:xfrm>
          </p:grpSpPr>
          <p:sp>
            <p:nvSpPr>
              <p:cNvPr id="535" name="未知"/>
              <p:cNvSpPr/>
              <p:nvPr/>
            </p:nvSpPr>
            <p:spPr>
              <a:xfrm rot="18826800">
                <a:off x="6968880" y="5629680"/>
                <a:ext cx="38448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未知"/>
              <p:cNvSpPr/>
              <p:nvPr/>
            </p:nvSpPr>
            <p:spPr>
              <a:xfrm rot="20871600">
                <a:off x="6935040" y="575100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未知"/>
              <p:cNvSpPr/>
              <p:nvPr/>
            </p:nvSpPr>
            <p:spPr>
              <a:xfrm rot="21169800">
                <a:off x="6920640" y="579888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未知"/>
              <p:cNvSpPr/>
              <p:nvPr/>
            </p:nvSpPr>
            <p:spPr>
              <a:xfrm rot="21169800">
                <a:off x="6955920" y="582840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6919560" y="5450400"/>
              <a:ext cx="404640" cy="450360"/>
              <a:chOff x="6919560" y="5450400"/>
              <a:chExt cx="404640" cy="450360"/>
            </a:xfrm>
          </p:grpSpPr>
          <p:sp>
            <p:nvSpPr>
              <p:cNvPr id="540" name="未知"/>
              <p:cNvSpPr/>
              <p:nvPr/>
            </p:nvSpPr>
            <p:spPr>
              <a:xfrm rot="17034600">
                <a:off x="6929640" y="5514480"/>
                <a:ext cx="38412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未知"/>
              <p:cNvSpPr/>
              <p:nvPr/>
            </p:nvSpPr>
            <p:spPr>
              <a:xfrm rot="19078800">
                <a:off x="6886440" y="564084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未知"/>
              <p:cNvSpPr/>
              <p:nvPr/>
            </p:nvSpPr>
            <p:spPr>
              <a:xfrm rot="19377600">
                <a:off x="6902640" y="571716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未知"/>
              <p:cNvSpPr/>
              <p:nvPr/>
            </p:nvSpPr>
            <p:spPr>
              <a:xfrm rot="19377600">
                <a:off x="6945840" y="572580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6683400" y="5340240"/>
              <a:ext cx="496440" cy="501120"/>
              <a:chOff x="6683400" y="5340240"/>
              <a:chExt cx="496440" cy="501120"/>
            </a:xfrm>
          </p:grpSpPr>
          <p:sp>
            <p:nvSpPr>
              <p:cNvPr id="545" name="未知"/>
              <p:cNvSpPr/>
              <p:nvPr/>
            </p:nvSpPr>
            <p:spPr>
              <a:xfrm rot="13688400">
                <a:off x="6739200" y="542952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未知"/>
              <p:cNvSpPr/>
              <p:nvPr/>
            </p:nvSpPr>
            <p:spPr>
              <a:xfrm rot="15733200">
                <a:off x="6689880" y="557604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未知"/>
              <p:cNvSpPr/>
              <p:nvPr/>
            </p:nvSpPr>
            <p:spPr>
              <a:xfrm rot="16031400">
                <a:off x="6782400" y="565308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未知"/>
              <p:cNvSpPr/>
              <p:nvPr/>
            </p:nvSpPr>
            <p:spPr>
              <a:xfrm rot="16031400">
                <a:off x="6810120" y="562428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6510240" y="5476680"/>
              <a:ext cx="453240" cy="401400"/>
              <a:chOff x="6510240" y="5476680"/>
              <a:chExt cx="453240" cy="401400"/>
            </a:xfrm>
          </p:grpSpPr>
          <p:sp>
            <p:nvSpPr>
              <p:cNvPr id="550" name="未知"/>
              <p:cNvSpPr/>
              <p:nvPr/>
            </p:nvSpPr>
            <p:spPr>
              <a:xfrm rot="10003800">
                <a:off x="6541920" y="551628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未知"/>
              <p:cNvSpPr/>
              <p:nvPr/>
            </p:nvSpPr>
            <p:spPr>
              <a:xfrm rot="12048600">
                <a:off x="6508080" y="568008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未知"/>
              <p:cNvSpPr/>
              <p:nvPr/>
            </p:nvSpPr>
            <p:spPr>
              <a:xfrm rot="12346800">
                <a:off x="6644160" y="568656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未知"/>
              <p:cNvSpPr/>
              <p:nvPr/>
            </p:nvSpPr>
            <p:spPr>
              <a:xfrm rot="12346800">
                <a:off x="6627960" y="565092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6764400" y="5785920"/>
              <a:ext cx="498960" cy="499680"/>
              <a:chOff x="6764400" y="5785920"/>
              <a:chExt cx="498960" cy="499680"/>
            </a:xfrm>
          </p:grpSpPr>
          <p:sp>
            <p:nvSpPr>
              <p:cNvPr id="555" name="未知"/>
              <p:cNvSpPr/>
              <p:nvPr/>
            </p:nvSpPr>
            <p:spPr>
              <a:xfrm rot="2727600">
                <a:off x="6821640" y="587448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未知"/>
              <p:cNvSpPr/>
              <p:nvPr/>
            </p:nvSpPr>
            <p:spPr>
              <a:xfrm rot="4772400">
                <a:off x="6816240" y="6012000"/>
                <a:ext cx="43884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未知"/>
              <p:cNvSpPr/>
              <p:nvPr/>
            </p:nvSpPr>
            <p:spPr>
              <a:xfrm rot="5070600">
                <a:off x="6829920" y="5946120"/>
                <a:ext cx="32904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未知"/>
              <p:cNvSpPr/>
              <p:nvPr/>
            </p:nvSpPr>
            <p:spPr>
              <a:xfrm rot="5070600">
                <a:off x="6803640" y="598572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6603480" y="5812560"/>
              <a:ext cx="347040" cy="404640"/>
              <a:chOff x="6603480" y="5812560"/>
              <a:chExt cx="347040" cy="404640"/>
            </a:xfrm>
          </p:grpSpPr>
          <p:sp>
            <p:nvSpPr>
              <p:cNvPr id="560" name="未知"/>
              <p:cNvSpPr/>
              <p:nvPr/>
            </p:nvSpPr>
            <p:spPr>
              <a:xfrm rot="5628000">
                <a:off x="6584760" y="585360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未知"/>
              <p:cNvSpPr/>
              <p:nvPr/>
            </p:nvSpPr>
            <p:spPr>
              <a:xfrm rot="7672800">
                <a:off x="6575760" y="6008760"/>
                <a:ext cx="43884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未知"/>
              <p:cNvSpPr/>
              <p:nvPr/>
            </p:nvSpPr>
            <p:spPr>
              <a:xfrm rot="7971000">
                <a:off x="6656040" y="5936400"/>
                <a:ext cx="32904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未知"/>
              <p:cNvSpPr/>
              <p:nvPr/>
            </p:nvSpPr>
            <p:spPr>
              <a:xfrm rot="7971000">
                <a:off x="6612480" y="594432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6506280" y="5665680"/>
              <a:ext cx="455760" cy="485280"/>
              <a:chOff x="6506280" y="5665680"/>
              <a:chExt cx="455760" cy="485280"/>
            </a:xfrm>
          </p:grpSpPr>
          <p:sp>
            <p:nvSpPr>
              <p:cNvPr id="565" name="未知"/>
              <p:cNvSpPr/>
              <p:nvPr/>
            </p:nvSpPr>
            <p:spPr>
              <a:xfrm rot="6925800">
                <a:off x="6541560" y="574740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未知"/>
              <p:cNvSpPr/>
              <p:nvPr/>
            </p:nvSpPr>
            <p:spPr>
              <a:xfrm rot="8970600">
                <a:off x="6527160" y="590796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未知"/>
              <p:cNvSpPr/>
              <p:nvPr/>
            </p:nvSpPr>
            <p:spPr>
              <a:xfrm rot="9268800">
                <a:off x="6634080" y="585072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未知"/>
              <p:cNvSpPr/>
              <p:nvPr/>
            </p:nvSpPr>
            <p:spPr>
              <a:xfrm rot="9268800">
                <a:off x="6592680" y="584208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954840" y="5699880"/>
              <a:ext cx="462600" cy="415440"/>
              <a:chOff x="6954840" y="5699880"/>
              <a:chExt cx="462600" cy="415440"/>
            </a:xfrm>
          </p:grpSpPr>
          <p:sp>
            <p:nvSpPr>
              <p:cNvPr id="570" name="未知"/>
              <p:cNvSpPr/>
              <p:nvPr/>
            </p:nvSpPr>
            <p:spPr>
              <a:xfrm rot="20636400">
                <a:off x="6995520" y="574632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未知"/>
              <p:cNvSpPr/>
              <p:nvPr/>
            </p:nvSpPr>
            <p:spPr>
              <a:xfrm rot="1081200">
                <a:off x="6973560" y="586728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未知"/>
              <p:cNvSpPr/>
              <p:nvPr/>
            </p:nvSpPr>
            <p:spPr>
              <a:xfrm rot="1379400">
                <a:off x="6946920" y="587412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未知"/>
              <p:cNvSpPr/>
              <p:nvPr/>
            </p:nvSpPr>
            <p:spPr>
              <a:xfrm rot="1379400">
                <a:off x="6964920" y="591804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6859080" y="5798160"/>
              <a:ext cx="446040" cy="392400"/>
              <a:chOff x="6859080" y="5798160"/>
              <a:chExt cx="446040" cy="392400"/>
            </a:xfrm>
          </p:grpSpPr>
          <p:sp>
            <p:nvSpPr>
              <p:cNvPr id="575" name="未知"/>
              <p:cNvSpPr/>
              <p:nvPr/>
            </p:nvSpPr>
            <p:spPr>
              <a:xfrm rot="805800">
                <a:off x="6889680" y="5838480"/>
                <a:ext cx="384120" cy="311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未知"/>
              <p:cNvSpPr/>
              <p:nvPr/>
            </p:nvSpPr>
            <p:spPr>
              <a:xfrm rot="2850600">
                <a:off x="6877800" y="5960880"/>
                <a:ext cx="43920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未知"/>
              <p:cNvSpPr/>
              <p:nvPr/>
            </p:nvSpPr>
            <p:spPr>
              <a:xfrm rot="3148800">
                <a:off x="6861600" y="5927040"/>
                <a:ext cx="329400" cy="26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未知"/>
              <p:cNvSpPr/>
              <p:nvPr/>
            </p:nvSpPr>
            <p:spPr>
              <a:xfrm rot="3148800">
                <a:off x="6858360" y="5974200"/>
                <a:ext cx="32940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504120" y="5566680"/>
              <a:ext cx="529200" cy="494280"/>
              <a:chOff x="6504120" y="5566680"/>
              <a:chExt cx="529200" cy="494280"/>
            </a:xfrm>
          </p:grpSpPr>
          <p:sp>
            <p:nvSpPr>
              <p:cNvPr id="580" name="未知"/>
              <p:cNvSpPr/>
              <p:nvPr/>
            </p:nvSpPr>
            <p:spPr>
              <a:xfrm rot="7717200">
                <a:off x="6642360" y="5575680"/>
                <a:ext cx="252360" cy="475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未知"/>
              <p:cNvSpPr/>
              <p:nvPr/>
            </p:nvSpPr>
            <p:spPr>
              <a:xfrm rot="9762000">
                <a:off x="6633000" y="5817960"/>
                <a:ext cx="288720" cy="54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未知"/>
              <p:cNvSpPr/>
              <p:nvPr/>
            </p:nvSpPr>
            <p:spPr>
              <a:xfrm rot="10060200">
                <a:off x="6706080" y="5766120"/>
                <a:ext cx="216360" cy="40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未知"/>
              <p:cNvSpPr/>
              <p:nvPr/>
            </p:nvSpPr>
            <p:spPr>
              <a:xfrm rot="10060200">
                <a:off x="6676560" y="5734800"/>
                <a:ext cx="21636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767280" y="5402520"/>
              <a:ext cx="485280" cy="442440"/>
              <a:chOff x="6767280" y="5402520"/>
              <a:chExt cx="485280" cy="442440"/>
            </a:xfrm>
          </p:grpSpPr>
          <p:sp>
            <p:nvSpPr>
              <p:cNvPr id="585" name="未知"/>
              <p:cNvSpPr/>
              <p:nvPr/>
            </p:nvSpPr>
            <p:spPr>
              <a:xfrm rot="13857000">
                <a:off x="6917760" y="5385600"/>
                <a:ext cx="183600" cy="475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未知"/>
              <p:cNvSpPr/>
              <p:nvPr/>
            </p:nvSpPr>
            <p:spPr>
              <a:xfrm rot="15901800">
                <a:off x="6871320" y="5598000"/>
                <a:ext cx="209880" cy="54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未知"/>
              <p:cNvSpPr/>
              <p:nvPr/>
            </p:nvSpPr>
            <p:spPr>
              <a:xfrm rot="16200000">
                <a:off x="6948360" y="5640480"/>
                <a:ext cx="157320" cy="40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未知"/>
              <p:cNvSpPr/>
              <p:nvPr/>
            </p:nvSpPr>
            <p:spPr>
              <a:xfrm rot="16200000">
                <a:off x="6991560" y="5631840"/>
                <a:ext cx="15768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6667920" y="5484240"/>
              <a:ext cx="370800" cy="394920"/>
              <a:chOff x="6667920" y="5484240"/>
              <a:chExt cx="370800" cy="394920"/>
            </a:xfrm>
          </p:grpSpPr>
          <p:sp>
            <p:nvSpPr>
              <p:cNvPr id="590" name="未知"/>
              <p:cNvSpPr/>
              <p:nvPr/>
            </p:nvSpPr>
            <p:spPr>
              <a:xfrm rot="11895600">
                <a:off x="6711120" y="5520240"/>
                <a:ext cx="28404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未知"/>
              <p:cNvSpPr/>
              <p:nvPr/>
            </p:nvSpPr>
            <p:spPr>
              <a:xfrm rot="13940400">
                <a:off x="6673680" y="5677200"/>
                <a:ext cx="3243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未知"/>
              <p:cNvSpPr/>
              <p:nvPr/>
            </p:nvSpPr>
            <p:spPr>
              <a:xfrm rot="14238600">
                <a:off x="6772320" y="5709600"/>
                <a:ext cx="2433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未知"/>
              <p:cNvSpPr/>
              <p:nvPr/>
            </p:nvSpPr>
            <p:spPr>
              <a:xfrm rot="14238600">
                <a:off x="6783840" y="5678280"/>
                <a:ext cx="2433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6670440" y="5852160"/>
              <a:ext cx="443520" cy="477720"/>
              <a:chOff x="6670440" y="5852160"/>
              <a:chExt cx="443520" cy="477720"/>
            </a:xfrm>
          </p:grpSpPr>
          <p:sp>
            <p:nvSpPr>
              <p:cNvPr id="595" name="未知"/>
              <p:cNvSpPr/>
              <p:nvPr/>
            </p:nvSpPr>
            <p:spPr>
              <a:xfrm rot="4063800">
                <a:off x="6699960" y="592956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未知"/>
              <p:cNvSpPr/>
              <p:nvPr/>
            </p:nvSpPr>
            <p:spPr>
              <a:xfrm rot="6108000">
                <a:off x="6694560" y="607608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未知"/>
              <p:cNvSpPr/>
              <p:nvPr/>
            </p:nvSpPr>
            <p:spPr>
              <a:xfrm rot="6406200">
                <a:off x="6738480" y="600048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rot="6406200">
                <a:off x="6701040" y="602712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6772680" y="5668920"/>
              <a:ext cx="329400" cy="329040"/>
              <a:chOff x="6772680" y="5668920"/>
              <a:chExt cx="329400" cy="329040"/>
            </a:xfrm>
          </p:grpSpPr>
          <p:sp>
            <p:nvSpPr>
              <p:cNvPr id="600" name=""/>
              <p:cNvSpPr/>
              <p:nvPr/>
            </p:nvSpPr>
            <p:spPr>
              <a:xfrm>
                <a:off x="6772680" y="5668920"/>
                <a:ext cx="329400" cy="329040"/>
              </a:xfrm>
              <a:custGeom>
                <a:avLst/>
                <a:gdLst>
                  <a:gd name="textAreaLeft" fmla="*/ 77400 w 329400"/>
                  <a:gd name="textAreaRight" fmla="*/ 252000 w 329400"/>
                  <a:gd name="textAreaTop" fmla="*/ 77040 h 329040"/>
                  <a:gd name="textAreaBottom" fmla="*/ 252000 h 32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829920" y="5717160"/>
                <a:ext cx="219600" cy="21924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2" name=""/>
          <p:cNvGrpSpPr/>
          <p:nvPr/>
        </p:nvGrpSpPr>
        <p:grpSpPr>
          <a:xfrm>
            <a:off x="6217920" y="5850000"/>
            <a:ext cx="728640" cy="789480"/>
            <a:chOff x="6217920" y="5850000"/>
            <a:chExt cx="728640" cy="789480"/>
          </a:xfrm>
        </p:grpSpPr>
        <p:grpSp>
          <p:nvGrpSpPr>
            <p:cNvPr id="603" name=""/>
            <p:cNvGrpSpPr/>
            <p:nvPr/>
          </p:nvGrpSpPr>
          <p:grpSpPr>
            <a:xfrm>
              <a:off x="6543000" y="6010200"/>
              <a:ext cx="398160" cy="399600"/>
              <a:chOff x="6543000" y="6010200"/>
              <a:chExt cx="398160" cy="399600"/>
            </a:xfrm>
          </p:grpSpPr>
          <p:sp>
            <p:nvSpPr>
              <p:cNvPr id="604" name="未知"/>
              <p:cNvSpPr/>
              <p:nvPr/>
            </p:nvSpPr>
            <p:spPr>
              <a:xfrm rot="18826800">
                <a:off x="6588360" y="6081480"/>
                <a:ext cx="307080" cy="257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未知"/>
              <p:cNvSpPr/>
              <p:nvPr/>
            </p:nvSpPr>
            <p:spPr>
              <a:xfrm rot="20871600">
                <a:off x="6561720" y="6177600"/>
                <a:ext cx="35100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未知"/>
              <p:cNvSpPr/>
              <p:nvPr/>
            </p:nvSpPr>
            <p:spPr>
              <a:xfrm rot="21169800">
                <a:off x="6549840" y="6216480"/>
                <a:ext cx="26316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未知"/>
              <p:cNvSpPr/>
              <p:nvPr/>
            </p:nvSpPr>
            <p:spPr>
              <a:xfrm rot="21169800">
                <a:off x="6578280" y="6239880"/>
                <a:ext cx="26316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6549840" y="5937840"/>
              <a:ext cx="322920" cy="359280"/>
              <a:chOff x="6549840" y="5937840"/>
              <a:chExt cx="322920" cy="359280"/>
            </a:xfrm>
          </p:grpSpPr>
          <p:sp>
            <p:nvSpPr>
              <p:cNvPr id="609" name="未知"/>
              <p:cNvSpPr/>
              <p:nvPr/>
            </p:nvSpPr>
            <p:spPr>
              <a:xfrm rot="17034600">
                <a:off x="6557760" y="5988960"/>
                <a:ext cx="306720" cy="256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未知"/>
              <p:cNvSpPr/>
              <p:nvPr/>
            </p:nvSpPr>
            <p:spPr>
              <a:xfrm rot="19078800">
                <a:off x="6522840" y="6089760"/>
                <a:ext cx="35064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未知"/>
              <p:cNvSpPr/>
              <p:nvPr/>
            </p:nvSpPr>
            <p:spPr>
              <a:xfrm rot="19377600">
                <a:off x="6535800" y="6151320"/>
                <a:ext cx="26280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未知"/>
              <p:cNvSpPr/>
              <p:nvPr/>
            </p:nvSpPr>
            <p:spPr>
              <a:xfrm rot="19377600">
                <a:off x="6570360" y="6157800"/>
                <a:ext cx="263160" cy="14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6360840" y="5850000"/>
              <a:ext cx="396360" cy="399960"/>
              <a:chOff x="6360840" y="5850000"/>
              <a:chExt cx="396360" cy="399960"/>
            </a:xfrm>
          </p:grpSpPr>
          <p:sp>
            <p:nvSpPr>
              <p:cNvPr id="614" name="未知"/>
              <p:cNvSpPr/>
              <p:nvPr/>
            </p:nvSpPr>
            <p:spPr>
              <a:xfrm rot="13688400">
                <a:off x="6405480" y="5921280"/>
                <a:ext cx="306360" cy="25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未知"/>
              <p:cNvSpPr/>
              <p:nvPr/>
            </p:nvSpPr>
            <p:spPr>
              <a:xfrm rot="15733200">
                <a:off x="6365880" y="6038280"/>
                <a:ext cx="35028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未知"/>
              <p:cNvSpPr/>
              <p:nvPr/>
            </p:nvSpPr>
            <p:spPr>
              <a:xfrm rot="16031400">
                <a:off x="6439680" y="6099840"/>
                <a:ext cx="26280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未知"/>
              <p:cNvSpPr/>
              <p:nvPr/>
            </p:nvSpPr>
            <p:spPr>
              <a:xfrm rot="16031400">
                <a:off x="6461640" y="6076440"/>
                <a:ext cx="26280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6222600" y="5958720"/>
              <a:ext cx="362160" cy="320400"/>
              <a:chOff x="6222600" y="5958720"/>
              <a:chExt cx="362160" cy="320400"/>
            </a:xfrm>
          </p:grpSpPr>
          <p:sp>
            <p:nvSpPr>
              <p:cNvPr id="619" name="未知"/>
              <p:cNvSpPr/>
              <p:nvPr/>
            </p:nvSpPr>
            <p:spPr>
              <a:xfrm rot="10003800">
                <a:off x="6247800" y="5990400"/>
                <a:ext cx="307080" cy="256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未知"/>
              <p:cNvSpPr/>
              <p:nvPr/>
            </p:nvSpPr>
            <p:spPr>
              <a:xfrm rot="12048600">
                <a:off x="6220800" y="6121440"/>
                <a:ext cx="35100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未知"/>
              <p:cNvSpPr/>
              <p:nvPr/>
            </p:nvSpPr>
            <p:spPr>
              <a:xfrm rot="12346800">
                <a:off x="6329880" y="6126840"/>
                <a:ext cx="26316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未知"/>
              <p:cNvSpPr/>
              <p:nvPr/>
            </p:nvSpPr>
            <p:spPr>
              <a:xfrm rot="12346800">
                <a:off x="6316920" y="6098040"/>
                <a:ext cx="263160" cy="14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424920" y="6206040"/>
              <a:ext cx="398520" cy="398880"/>
              <a:chOff x="6424920" y="6206040"/>
              <a:chExt cx="398520" cy="398880"/>
            </a:xfrm>
          </p:grpSpPr>
          <p:sp>
            <p:nvSpPr>
              <p:cNvPr id="624" name="未知"/>
              <p:cNvSpPr/>
              <p:nvPr/>
            </p:nvSpPr>
            <p:spPr>
              <a:xfrm rot="2727600">
                <a:off x="6471000" y="6276600"/>
                <a:ext cx="306360" cy="25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未知"/>
              <p:cNvSpPr/>
              <p:nvPr/>
            </p:nvSpPr>
            <p:spPr>
              <a:xfrm rot="4772400">
                <a:off x="6466680" y="6386400"/>
                <a:ext cx="35028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未知"/>
              <p:cNvSpPr/>
              <p:nvPr/>
            </p:nvSpPr>
            <p:spPr>
              <a:xfrm rot="5070600">
                <a:off x="6477480" y="6333840"/>
                <a:ext cx="26280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未知"/>
              <p:cNvSpPr/>
              <p:nvPr/>
            </p:nvSpPr>
            <p:spPr>
              <a:xfrm rot="5070600">
                <a:off x="6456960" y="6365160"/>
                <a:ext cx="26280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297480" y="6227280"/>
              <a:ext cx="276840" cy="322560"/>
              <a:chOff x="6297480" y="6227280"/>
              <a:chExt cx="276840" cy="322560"/>
            </a:xfrm>
          </p:grpSpPr>
          <p:sp>
            <p:nvSpPr>
              <p:cNvPr id="629" name="未知"/>
              <p:cNvSpPr/>
              <p:nvPr/>
            </p:nvSpPr>
            <p:spPr>
              <a:xfrm rot="5628000">
                <a:off x="6282720" y="6259680"/>
                <a:ext cx="306360" cy="257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未知"/>
              <p:cNvSpPr/>
              <p:nvPr/>
            </p:nvSpPr>
            <p:spPr>
              <a:xfrm rot="7672800">
                <a:off x="6275520" y="6384240"/>
                <a:ext cx="35028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未知"/>
              <p:cNvSpPr/>
              <p:nvPr/>
            </p:nvSpPr>
            <p:spPr>
              <a:xfrm rot="7971000">
                <a:off x="6338880" y="6326280"/>
                <a:ext cx="26280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未知"/>
              <p:cNvSpPr/>
              <p:nvPr/>
            </p:nvSpPr>
            <p:spPr>
              <a:xfrm rot="7971000">
                <a:off x="6304320" y="6332400"/>
                <a:ext cx="26280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6219720" y="6109560"/>
              <a:ext cx="363600" cy="387360"/>
              <a:chOff x="6219720" y="6109560"/>
              <a:chExt cx="363600" cy="387360"/>
            </a:xfrm>
          </p:grpSpPr>
          <p:sp>
            <p:nvSpPr>
              <p:cNvPr id="634" name="未知"/>
              <p:cNvSpPr/>
              <p:nvPr/>
            </p:nvSpPr>
            <p:spPr>
              <a:xfrm rot="6925800">
                <a:off x="6247800" y="6174720"/>
                <a:ext cx="307080" cy="256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未知"/>
              <p:cNvSpPr/>
              <p:nvPr/>
            </p:nvSpPr>
            <p:spPr>
              <a:xfrm rot="8970600">
                <a:off x="6235920" y="6303600"/>
                <a:ext cx="35100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未知"/>
              <p:cNvSpPr/>
              <p:nvPr/>
            </p:nvSpPr>
            <p:spPr>
              <a:xfrm rot="9268800">
                <a:off x="6321600" y="6257160"/>
                <a:ext cx="26316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未知"/>
              <p:cNvSpPr/>
              <p:nvPr/>
            </p:nvSpPr>
            <p:spPr>
              <a:xfrm rot="9268800">
                <a:off x="6288840" y="6250680"/>
                <a:ext cx="263160" cy="14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6577560" y="6137280"/>
              <a:ext cx="369000" cy="331560"/>
              <a:chOff x="6577560" y="6137280"/>
              <a:chExt cx="369000" cy="331560"/>
            </a:xfrm>
          </p:grpSpPr>
          <p:sp>
            <p:nvSpPr>
              <p:cNvPr id="639" name="未知"/>
              <p:cNvSpPr/>
              <p:nvPr/>
            </p:nvSpPr>
            <p:spPr>
              <a:xfrm rot="20636400">
                <a:off x="6609600" y="6174720"/>
                <a:ext cx="307080" cy="256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未知"/>
              <p:cNvSpPr/>
              <p:nvPr/>
            </p:nvSpPr>
            <p:spPr>
              <a:xfrm rot="1081200">
                <a:off x="6592320" y="6270480"/>
                <a:ext cx="35100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未知"/>
              <p:cNvSpPr/>
              <p:nvPr/>
            </p:nvSpPr>
            <p:spPr>
              <a:xfrm rot="1379400">
                <a:off x="6571080" y="6276600"/>
                <a:ext cx="26316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未知"/>
              <p:cNvSpPr/>
              <p:nvPr/>
            </p:nvSpPr>
            <p:spPr>
              <a:xfrm rot="1379400">
                <a:off x="6585480" y="6311520"/>
                <a:ext cx="263160" cy="14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6500880" y="6216120"/>
              <a:ext cx="356040" cy="313200"/>
              <a:chOff x="6500880" y="6216120"/>
              <a:chExt cx="356040" cy="313200"/>
            </a:xfrm>
          </p:grpSpPr>
          <p:sp>
            <p:nvSpPr>
              <p:cNvPr id="644" name="未知"/>
              <p:cNvSpPr/>
              <p:nvPr/>
            </p:nvSpPr>
            <p:spPr>
              <a:xfrm rot="805800">
                <a:off x="6525720" y="6248160"/>
                <a:ext cx="306360" cy="248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未知"/>
              <p:cNvSpPr/>
              <p:nvPr/>
            </p:nvSpPr>
            <p:spPr>
              <a:xfrm rot="2850600">
                <a:off x="6515640" y="6345360"/>
                <a:ext cx="35028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未知"/>
              <p:cNvSpPr/>
              <p:nvPr/>
            </p:nvSpPr>
            <p:spPr>
              <a:xfrm rot="3148800">
                <a:off x="6503040" y="6318720"/>
                <a:ext cx="262800" cy="20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未知"/>
              <p:cNvSpPr/>
              <p:nvPr/>
            </p:nvSpPr>
            <p:spPr>
              <a:xfrm rot="3148800">
                <a:off x="6500160" y="6355800"/>
                <a:ext cx="26280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6217920" y="6031080"/>
              <a:ext cx="422280" cy="394200"/>
              <a:chOff x="6217920" y="6031080"/>
              <a:chExt cx="422280" cy="394200"/>
            </a:xfrm>
          </p:grpSpPr>
          <p:sp>
            <p:nvSpPr>
              <p:cNvPr id="649" name="未知"/>
              <p:cNvSpPr/>
              <p:nvPr/>
            </p:nvSpPr>
            <p:spPr>
              <a:xfrm rot="7717200">
                <a:off x="6328080" y="6038280"/>
                <a:ext cx="201600" cy="379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未知"/>
              <p:cNvSpPr/>
              <p:nvPr/>
            </p:nvSpPr>
            <p:spPr>
              <a:xfrm rot="9762000">
                <a:off x="6320520" y="6231600"/>
                <a:ext cx="23040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未知"/>
              <p:cNvSpPr/>
              <p:nvPr/>
            </p:nvSpPr>
            <p:spPr>
              <a:xfrm rot="10060200">
                <a:off x="6379200" y="6190560"/>
                <a:ext cx="172800" cy="32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未知"/>
              <p:cNvSpPr/>
              <p:nvPr/>
            </p:nvSpPr>
            <p:spPr>
              <a:xfrm rot="10060200">
                <a:off x="6355440" y="6165000"/>
                <a:ext cx="17280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6427800" y="5900040"/>
              <a:ext cx="387000" cy="353160"/>
              <a:chOff x="6427800" y="5900040"/>
              <a:chExt cx="387000" cy="353160"/>
            </a:xfrm>
          </p:grpSpPr>
          <p:sp>
            <p:nvSpPr>
              <p:cNvPr id="654" name="未知"/>
              <p:cNvSpPr/>
              <p:nvPr/>
            </p:nvSpPr>
            <p:spPr>
              <a:xfrm rot="13857000">
                <a:off x="6548040" y="5886720"/>
                <a:ext cx="146520" cy="3798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未知"/>
              <p:cNvSpPr/>
              <p:nvPr/>
            </p:nvSpPr>
            <p:spPr>
              <a:xfrm rot="15901800">
                <a:off x="6510960" y="6055920"/>
                <a:ext cx="16776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未知"/>
              <p:cNvSpPr/>
              <p:nvPr/>
            </p:nvSpPr>
            <p:spPr>
              <a:xfrm rot="16200000">
                <a:off x="6572160" y="6089760"/>
                <a:ext cx="125640" cy="32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未知"/>
              <p:cNvSpPr/>
              <p:nvPr/>
            </p:nvSpPr>
            <p:spPr>
              <a:xfrm rot="16200000">
                <a:off x="6606720" y="6082920"/>
                <a:ext cx="12564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6348960" y="5965560"/>
              <a:ext cx="295560" cy="315000"/>
              <a:chOff x="6348960" y="5965560"/>
              <a:chExt cx="295560" cy="315000"/>
            </a:xfrm>
          </p:grpSpPr>
          <p:sp>
            <p:nvSpPr>
              <p:cNvPr id="659" name="未知"/>
              <p:cNvSpPr/>
              <p:nvPr/>
            </p:nvSpPr>
            <p:spPr>
              <a:xfrm rot="11895600">
                <a:off x="6383160" y="5994360"/>
                <a:ext cx="226440" cy="257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未知"/>
              <p:cNvSpPr/>
              <p:nvPr/>
            </p:nvSpPr>
            <p:spPr>
              <a:xfrm rot="13940400">
                <a:off x="6352560" y="6119280"/>
                <a:ext cx="25884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未知"/>
              <p:cNvSpPr/>
              <p:nvPr/>
            </p:nvSpPr>
            <p:spPr>
              <a:xfrm rot="14238600">
                <a:off x="6431760" y="6144840"/>
                <a:ext cx="19404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未知"/>
              <p:cNvSpPr/>
              <p:nvPr/>
            </p:nvSpPr>
            <p:spPr>
              <a:xfrm rot="14238600">
                <a:off x="6441120" y="6119640"/>
                <a:ext cx="19440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6350400" y="6258600"/>
              <a:ext cx="354240" cy="380880"/>
              <a:chOff x="6350400" y="6258600"/>
              <a:chExt cx="354240" cy="380880"/>
            </a:xfrm>
          </p:grpSpPr>
          <p:sp>
            <p:nvSpPr>
              <p:cNvPr id="664" name="未知"/>
              <p:cNvSpPr/>
              <p:nvPr/>
            </p:nvSpPr>
            <p:spPr>
              <a:xfrm rot="4063800">
                <a:off x="6374160" y="6320520"/>
                <a:ext cx="306360" cy="257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未知"/>
              <p:cNvSpPr/>
              <p:nvPr/>
            </p:nvSpPr>
            <p:spPr>
              <a:xfrm rot="6108000">
                <a:off x="6370200" y="6437160"/>
                <a:ext cx="35028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未知"/>
              <p:cNvSpPr/>
              <p:nvPr/>
            </p:nvSpPr>
            <p:spPr>
              <a:xfrm rot="6406200">
                <a:off x="6404400" y="6376680"/>
                <a:ext cx="26280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未知"/>
              <p:cNvSpPr/>
              <p:nvPr/>
            </p:nvSpPr>
            <p:spPr>
              <a:xfrm rot="6406200">
                <a:off x="6374880" y="6397920"/>
                <a:ext cx="26280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6432120" y="6112800"/>
              <a:ext cx="263160" cy="262800"/>
              <a:chOff x="6432120" y="6112800"/>
              <a:chExt cx="263160" cy="262800"/>
            </a:xfrm>
          </p:grpSpPr>
          <p:sp>
            <p:nvSpPr>
              <p:cNvPr id="669" name=""/>
              <p:cNvSpPr/>
              <p:nvPr/>
            </p:nvSpPr>
            <p:spPr>
              <a:xfrm>
                <a:off x="6432120" y="6112800"/>
                <a:ext cx="263160" cy="262800"/>
              </a:xfrm>
              <a:custGeom>
                <a:avLst/>
                <a:gdLst>
                  <a:gd name="textAreaLeft" fmla="*/ 61560 w 263160"/>
                  <a:gd name="textAreaRight" fmla="*/ 201600 w 263160"/>
                  <a:gd name="textAreaTop" fmla="*/ 61560 h 262800"/>
                  <a:gd name="textAreaBottom" fmla="*/ 201240 h 26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477840" y="6151320"/>
                <a:ext cx="175680" cy="17496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1" name=""/>
          <p:cNvGrpSpPr/>
          <p:nvPr/>
        </p:nvGrpSpPr>
        <p:grpSpPr>
          <a:xfrm>
            <a:off x="6602760" y="4272120"/>
            <a:ext cx="1925280" cy="1872720"/>
            <a:chOff x="6602760" y="4272120"/>
            <a:chExt cx="1925280" cy="1872720"/>
          </a:xfrm>
        </p:grpSpPr>
        <p:grpSp>
          <p:nvGrpSpPr>
            <p:cNvPr id="672" name=""/>
            <p:cNvGrpSpPr/>
            <p:nvPr/>
          </p:nvGrpSpPr>
          <p:grpSpPr>
            <a:xfrm>
              <a:off x="7110360" y="5078880"/>
              <a:ext cx="888840" cy="979200"/>
              <a:chOff x="7110360" y="5078880"/>
              <a:chExt cx="888840" cy="979200"/>
            </a:xfrm>
          </p:grpSpPr>
          <p:sp>
            <p:nvSpPr>
              <p:cNvPr id="673" name="未知"/>
              <p:cNvSpPr/>
              <p:nvPr/>
            </p:nvSpPr>
            <p:spPr>
              <a:xfrm rot="3869400">
                <a:off x="7161120" y="5267160"/>
                <a:ext cx="786600" cy="609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未知"/>
              <p:cNvSpPr/>
              <p:nvPr/>
            </p:nvSpPr>
            <p:spPr>
              <a:xfrm rot="5914200">
                <a:off x="7148160" y="554004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未知"/>
              <p:cNvSpPr/>
              <p:nvPr/>
            </p:nvSpPr>
            <p:spPr>
              <a:xfrm rot="6213000">
                <a:off x="7233120" y="538668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未知"/>
              <p:cNvSpPr/>
              <p:nvPr/>
            </p:nvSpPr>
            <p:spPr>
              <a:xfrm rot="6213000">
                <a:off x="7163640" y="544608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6863400" y="4952880"/>
              <a:ext cx="742320" cy="839160"/>
              <a:chOff x="6863400" y="4952880"/>
              <a:chExt cx="742320" cy="839160"/>
            </a:xfrm>
          </p:grpSpPr>
          <p:sp>
            <p:nvSpPr>
              <p:cNvPr id="678" name="未知"/>
              <p:cNvSpPr/>
              <p:nvPr/>
            </p:nvSpPr>
            <p:spPr>
              <a:xfrm rot="5910600">
                <a:off x="6858000" y="5053320"/>
                <a:ext cx="752760" cy="637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未知"/>
              <p:cNvSpPr/>
              <p:nvPr/>
            </p:nvSpPr>
            <p:spPr>
              <a:xfrm rot="7955400">
                <a:off x="6838200" y="536400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未知"/>
              <p:cNvSpPr/>
              <p:nvPr/>
            </p:nvSpPr>
            <p:spPr>
              <a:xfrm rot="8253600">
                <a:off x="7007760" y="522576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未知"/>
              <p:cNvSpPr/>
              <p:nvPr/>
            </p:nvSpPr>
            <p:spPr>
              <a:xfrm rot="8253600">
                <a:off x="6921720" y="523440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6602760" y="4713120"/>
              <a:ext cx="964080" cy="985680"/>
              <a:chOff x="6602760" y="4713120"/>
              <a:chExt cx="964080" cy="985680"/>
            </a:xfrm>
          </p:grpSpPr>
          <p:sp>
            <p:nvSpPr>
              <p:cNvPr id="683" name="未知"/>
              <p:cNvSpPr/>
              <p:nvPr/>
            </p:nvSpPr>
            <p:spPr>
              <a:xfrm rot="7644000">
                <a:off x="6708240" y="4887000"/>
                <a:ext cx="752760" cy="637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未知"/>
              <p:cNvSpPr/>
              <p:nvPr/>
            </p:nvSpPr>
            <p:spPr>
              <a:xfrm rot="9688800">
                <a:off x="6670440" y="521028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未知"/>
              <p:cNvSpPr/>
              <p:nvPr/>
            </p:nvSpPr>
            <p:spPr>
              <a:xfrm rot="9987000">
                <a:off x="6904080" y="512064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未知"/>
              <p:cNvSpPr/>
              <p:nvPr/>
            </p:nvSpPr>
            <p:spPr>
              <a:xfrm rot="9987000">
                <a:off x="6828840" y="508788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6796440" y="4482000"/>
              <a:ext cx="919440" cy="843120"/>
              <a:chOff x="6796440" y="4482000"/>
              <a:chExt cx="919440" cy="843120"/>
            </a:xfrm>
          </p:grpSpPr>
          <p:sp>
            <p:nvSpPr>
              <p:cNvPr id="688" name="未知"/>
              <p:cNvSpPr/>
              <p:nvPr/>
            </p:nvSpPr>
            <p:spPr>
              <a:xfrm rot="9694200">
                <a:off x="6877800" y="4584240"/>
                <a:ext cx="752760" cy="637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未知"/>
              <p:cNvSpPr/>
              <p:nvPr/>
            </p:nvSpPr>
            <p:spPr>
              <a:xfrm rot="11739000">
                <a:off x="6814080" y="490968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未知"/>
              <p:cNvSpPr/>
              <p:nvPr/>
            </p:nvSpPr>
            <p:spPr>
              <a:xfrm rot="12037200">
                <a:off x="7081560" y="490788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未知"/>
              <p:cNvSpPr/>
              <p:nvPr/>
            </p:nvSpPr>
            <p:spPr>
              <a:xfrm rot="12037200">
                <a:off x="7043040" y="483984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938640" y="4372560"/>
              <a:ext cx="924480" cy="810000"/>
              <a:chOff x="6938640" y="4372560"/>
              <a:chExt cx="924480" cy="810000"/>
            </a:xfrm>
          </p:grpSpPr>
          <p:sp>
            <p:nvSpPr>
              <p:cNvPr id="693" name="未知"/>
              <p:cNvSpPr/>
              <p:nvPr/>
            </p:nvSpPr>
            <p:spPr>
              <a:xfrm rot="11763000">
                <a:off x="7007400" y="4469040"/>
                <a:ext cx="786600" cy="609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未知"/>
              <p:cNvSpPr/>
              <p:nvPr/>
            </p:nvSpPr>
            <p:spPr>
              <a:xfrm rot="13807800">
                <a:off x="6920280" y="476820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未知"/>
              <p:cNvSpPr/>
              <p:nvPr/>
            </p:nvSpPr>
            <p:spPr>
              <a:xfrm rot="14106000">
                <a:off x="7173000" y="486540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未知"/>
              <p:cNvSpPr/>
              <p:nvPr/>
            </p:nvSpPr>
            <p:spPr>
              <a:xfrm rot="14106000">
                <a:off x="7180560" y="478764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7110360" y="4272120"/>
              <a:ext cx="968760" cy="994680"/>
              <a:chOff x="7110360" y="4272120"/>
              <a:chExt cx="968760" cy="994680"/>
            </a:xfrm>
          </p:grpSpPr>
          <p:sp>
            <p:nvSpPr>
              <p:cNvPr id="698" name="未知"/>
              <p:cNvSpPr/>
              <p:nvPr/>
            </p:nvSpPr>
            <p:spPr>
              <a:xfrm rot="13857000">
                <a:off x="7201080" y="4464360"/>
                <a:ext cx="786600" cy="609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未知"/>
              <p:cNvSpPr/>
              <p:nvPr/>
            </p:nvSpPr>
            <p:spPr>
              <a:xfrm rot="15901800">
                <a:off x="7102800" y="474084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未知"/>
              <p:cNvSpPr/>
              <p:nvPr/>
            </p:nvSpPr>
            <p:spPr>
              <a:xfrm rot="16200000">
                <a:off x="7279920" y="490212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未知"/>
              <p:cNvSpPr/>
              <p:nvPr/>
            </p:nvSpPr>
            <p:spPr>
              <a:xfrm rot="16200000">
                <a:off x="7335360" y="484452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7317720" y="5068800"/>
              <a:ext cx="943560" cy="841320"/>
              <a:chOff x="7317720" y="5068800"/>
              <a:chExt cx="943560" cy="841320"/>
            </a:xfrm>
          </p:grpSpPr>
          <p:sp>
            <p:nvSpPr>
              <p:cNvPr id="703" name="未知"/>
              <p:cNvSpPr/>
              <p:nvPr/>
            </p:nvSpPr>
            <p:spPr>
              <a:xfrm rot="1156800">
                <a:off x="7396200" y="5187600"/>
                <a:ext cx="786600" cy="609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未知"/>
              <p:cNvSpPr/>
              <p:nvPr/>
            </p:nvSpPr>
            <p:spPr>
              <a:xfrm rot="3201600">
                <a:off x="7372440" y="542952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未知"/>
              <p:cNvSpPr/>
              <p:nvPr/>
            </p:nvSpPr>
            <p:spPr>
              <a:xfrm rot="3499800">
                <a:off x="7350480" y="534312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未知"/>
              <p:cNvSpPr/>
              <p:nvPr/>
            </p:nvSpPr>
            <p:spPr>
              <a:xfrm rot="3499800">
                <a:off x="7337160" y="543708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7541640" y="4651200"/>
              <a:ext cx="986400" cy="976320"/>
              <a:chOff x="7541640" y="4651200"/>
              <a:chExt cx="986400" cy="976320"/>
            </a:xfrm>
          </p:grpSpPr>
          <p:sp>
            <p:nvSpPr>
              <p:cNvPr id="708" name="未知"/>
              <p:cNvSpPr/>
              <p:nvPr/>
            </p:nvSpPr>
            <p:spPr>
              <a:xfrm rot="19110000">
                <a:off x="7658280" y="4820400"/>
                <a:ext cx="752760" cy="637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未知"/>
              <p:cNvSpPr/>
              <p:nvPr/>
            </p:nvSpPr>
            <p:spPr>
              <a:xfrm rot="21154800">
                <a:off x="7596720" y="505872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未知"/>
              <p:cNvSpPr/>
              <p:nvPr/>
            </p:nvSpPr>
            <p:spPr>
              <a:xfrm rot="21453000">
                <a:off x="7561800" y="514152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未知"/>
              <p:cNvSpPr/>
              <p:nvPr/>
            </p:nvSpPr>
            <p:spPr>
              <a:xfrm rot="21453000">
                <a:off x="7627320" y="520632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7450920" y="4476960"/>
              <a:ext cx="843120" cy="915840"/>
              <a:chOff x="7450920" y="4476960"/>
              <a:chExt cx="843120" cy="915840"/>
            </a:xfrm>
          </p:grpSpPr>
          <p:sp>
            <p:nvSpPr>
              <p:cNvPr id="713" name="未知"/>
              <p:cNvSpPr/>
              <p:nvPr/>
            </p:nvSpPr>
            <p:spPr>
              <a:xfrm rot="17306400">
                <a:off x="7495920" y="4615920"/>
                <a:ext cx="752760" cy="637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未知"/>
              <p:cNvSpPr/>
              <p:nvPr/>
            </p:nvSpPr>
            <p:spPr>
              <a:xfrm rot="19351800">
                <a:off x="7413120" y="486432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未知"/>
              <p:cNvSpPr/>
              <p:nvPr/>
            </p:nvSpPr>
            <p:spPr>
              <a:xfrm rot="19649400">
                <a:off x="7434360" y="500904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未知"/>
              <p:cNvSpPr/>
              <p:nvPr/>
            </p:nvSpPr>
            <p:spPr>
              <a:xfrm rot="19649400">
                <a:off x="7518240" y="503316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7447320" y="4320000"/>
              <a:ext cx="642240" cy="847080"/>
              <a:chOff x="7447320" y="4320000"/>
              <a:chExt cx="642240" cy="847080"/>
            </a:xfrm>
          </p:grpSpPr>
          <p:sp>
            <p:nvSpPr>
              <p:cNvPr id="718" name="未知"/>
              <p:cNvSpPr/>
              <p:nvPr/>
            </p:nvSpPr>
            <p:spPr>
              <a:xfrm rot="16059600">
                <a:off x="7374960" y="4435560"/>
                <a:ext cx="786600" cy="610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未知"/>
              <p:cNvSpPr/>
              <p:nvPr/>
            </p:nvSpPr>
            <p:spPr>
              <a:xfrm rot="18104400">
                <a:off x="7281000" y="468576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未知"/>
              <p:cNvSpPr/>
              <p:nvPr/>
            </p:nvSpPr>
            <p:spPr>
              <a:xfrm rot="18402600">
                <a:off x="7354440" y="485532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未知"/>
              <p:cNvSpPr/>
              <p:nvPr/>
            </p:nvSpPr>
            <p:spPr>
              <a:xfrm rot="18402600">
                <a:off x="7438680" y="484416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7457400" y="5036760"/>
              <a:ext cx="822960" cy="679680"/>
              <a:chOff x="7457400" y="5036760"/>
              <a:chExt cx="822960" cy="679680"/>
            </a:xfrm>
          </p:grpSpPr>
          <p:sp>
            <p:nvSpPr>
              <p:cNvPr id="723" name="未知"/>
              <p:cNvSpPr/>
              <p:nvPr/>
            </p:nvSpPr>
            <p:spPr>
              <a:xfrm rot="21405000">
                <a:off x="7494840" y="5057640"/>
                <a:ext cx="752760" cy="637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未知"/>
              <p:cNvSpPr/>
              <p:nvPr/>
            </p:nvSpPr>
            <p:spPr>
              <a:xfrm rot="1849200">
                <a:off x="7461720" y="530064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未知"/>
              <p:cNvSpPr/>
              <p:nvPr/>
            </p:nvSpPr>
            <p:spPr>
              <a:xfrm rot="2148000">
                <a:off x="7412040" y="527940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未知"/>
              <p:cNvSpPr/>
              <p:nvPr/>
            </p:nvSpPr>
            <p:spPr>
              <a:xfrm rot="2148000">
                <a:off x="7429320" y="537264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7004520" y="5109840"/>
              <a:ext cx="671400" cy="863280"/>
              <a:chOff x="7004520" y="5109840"/>
              <a:chExt cx="671400" cy="863280"/>
            </a:xfrm>
          </p:grpSpPr>
          <p:sp>
            <p:nvSpPr>
              <p:cNvPr id="728" name="未知"/>
              <p:cNvSpPr/>
              <p:nvPr/>
            </p:nvSpPr>
            <p:spPr>
              <a:xfrm rot="5119200">
                <a:off x="6946560" y="5241240"/>
                <a:ext cx="786600" cy="609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未知"/>
              <p:cNvSpPr/>
              <p:nvPr/>
            </p:nvSpPr>
            <p:spPr>
              <a:xfrm rot="7164000">
                <a:off x="6929280" y="552924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未知"/>
              <p:cNvSpPr/>
              <p:nvPr/>
            </p:nvSpPr>
            <p:spPr>
              <a:xfrm rot="7462200">
                <a:off x="7074360" y="537624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未知"/>
              <p:cNvSpPr/>
              <p:nvPr/>
            </p:nvSpPr>
            <p:spPr>
              <a:xfrm rot="7462200">
                <a:off x="6990840" y="540828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7217280" y="5153760"/>
              <a:ext cx="983880" cy="991080"/>
              <a:chOff x="7217280" y="5153760"/>
              <a:chExt cx="983880" cy="991080"/>
            </a:xfrm>
          </p:grpSpPr>
          <p:sp>
            <p:nvSpPr>
              <p:cNvPr id="733" name="未知"/>
              <p:cNvSpPr/>
              <p:nvPr/>
            </p:nvSpPr>
            <p:spPr>
              <a:xfrm rot="2797200">
                <a:off x="7315920" y="5343840"/>
                <a:ext cx="786600" cy="610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未知"/>
              <p:cNvSpPr/>
              <p:nvPr/>
            </p:nvSpPr>
            <p:spPr>
              <a:xfrm rot="4842000">
                <a:off x="7301520" y="560412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未知"/>
              <p:cNvSpPr/>
              <p:nvPr/>
            </p:nvSpPr>
            <p:spPr>
              <a:xfrm rot="5140200">
                <a:off x="7338240" y="546660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未知"/>
              <p:cNvSpPr/>
              <p:nvPr/>
            </p:nvSpPr>
            <p:spPr>
              <a:xfrm rot="5140200">
                <a:off x="7287120" y="554508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7276680" y="4818960"/>
              <a:ext cx="644040" cy="673920"/>
              <a:chOff x="7276680" y="4818960"/>
              <a:chExt cx="644040" cy="673920"/>
            </a:xfrm>
          </p:grpSpPr>
          <p:sp>
            <p:nvSpPr>
              <p:cNvPr id="738" name=""/>
              <p:cNvSpPr/>
              <p:nvPr/>
            </p:nvSpPr>
            <p:spPr>
              <a:xfrm rot="16200000">
                <a:off x="7261560" y="4833720"/>
                <a:ext cx="673920" cy="644040"/>
              </a:xfrm>
              <a:custGeom>
                <a:avLst/>
                <a:gdLst>
                  <a:gd name="textAreaLeft" fmla="*/ 158040 w 673920"/>
                  <a:gd name="textAreaRight" fmla="*/ 515880 w 673920"/>
                  <a:gd name="textAreaTop" fmla="*/ 151200 h 644040"/>
                  <a:gd name="textAreaBottom" fmla="*/ 492840 h 644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6200000">
                <a:off x="7360920" y="4936320"/>
                <a:ext cx="449640" cy="42912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0" name=""/>
          <p:cNvGrpSpPr/>
          <p:nvPr/>
        </p:nvGrpSpPr>
        <p:grpSpPr>
          <a:xfrm>
            <a:off x="7756560" y="4313520"/>
            <a:ext cx="1404720" cy="1527120"/>
            <a:chOff x="7756560" y="4313520"/>
            <a:chExt cx="1404720" cy="1527120"/>
          </a:xfrm>
        </p:grpSpPr>
        <p:grpSp>
          <p:nvGrpSpPr>
            <p:cNvPr id="741" name=""/>
            <p:cNvGrpSpPr/>
            <p:nvPr/>
          </p:nvGrpSpPr>
          <p:grpSpPr>
            <a:xfrm>
              <a:off x="8383680" y="4624200"/>
              <a:ext cx="767880" cy="770760"/>
              <a:chOff x="8383680" y="4624200"/>
              <a:chExt cx="767880" cy="770760"/>
            </a:xfrm>
          </p:grpSpPr>
          <p:sp>
            <p:nvSpPr>
              <p:cNvPr id="742" name="未知"/>
              <p:cNvSpPr/>
              <p:nvPr/>
            </p:nvSpPr>
            <p:spPr>
              <a:xfrm rot="18826800">
                <a:off x="8471520" y="4761360"/>
                <a:ext cx="59184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未知"/>
              <p:cNvSpPr/>
              <p:nvPr/>
            </p:nvSpPr>
            <p:spPr>
              <a:xfrm rot="20871600">
                <a:off x="8420400" y="4947480"/>
                <a:ext cx="67644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未知"/>
              <p:cNvSpPr/>
              <p:nvPr/>
            </p:nvSpPr>
            <p:spPr>
              <a:xfrm rot="21169800">
                <a:off x="8397720" y="502128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未知"/>
              <p:cNvSpPr/>
              <p:nvPr/>
            </p:nvSpPr>
            <p:spPr>
              <a:xfrm rot="21169800">
                <a:off x="8452440" y="506664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8395920" y="4484160"/>
              <a:ext cx="624240" cy="694080"/>
              <a:chOff x="8395920" y="4484160"/>
              <a:chExt cx="624240" cy="694080"/>
            </a:xfrm>
          </p:grpSpPr>
          <p:sp>
            <p:nvSpPr>
              <p:cNvPr id="747" name="未知"/>
              <p:cNvSpPr/>
              <p:nvPr/>
            </p:nvSpPr>
            <p:spPr>
              <a:xfrm rot="17034600">
                <a:off x="8411760" y="4582800"/>
                <a:ext cx="59184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未知"/>
              <p:cNvSpPr/>
              <p:nvPr/>
            </p:nvSpPr>
            <p:spPr>
              <a:xfrm rot="19078800">
                <a:off x="8345160" y="4777560"/>
                <a:ext cx="67644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未知"/>
              <p:cNvSpPr/>
              <p:nvPr/>
            </p:nvSpPr>
            <p:spPr>
              <a:xfrm rot="19377600">
                <a:off x="8370000" y="489600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未知"/>
              <p:cNvSpPr/>
              <p:nvPr/>
            </p:nvSpPr>
            <p:spPr>
              <a:xfrm rot="19377600">
                <a:off x="8436600" y="490932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8031960" y="4313520"/>
              <a:ext cx="765000" cy="772200"/>
              <a:chOff x="8031960" y="4313520"/>
              <a:chExt cx="765000" cy="772200"/>
            </a:xfrm>
          </p:grpSpPr>
          <p:sp>
            <p:nvSpPr>
              <p:cNvPr id="752" name="未知"/>
              <p:cNvSpPr/>
              <p:nvPr/>
            </p:nvSpPr>
            <p:spPr>
              <a:xfrm rot="13688400">
                <a:off x="8118360" y="4451040"/>
                <a:ext cx="59220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未知"/>
              <p:cNvSpPr/>
              <p:nvPr/>
            </p:nvSpPr>
            <p:spPr>
              <a:xfrm rot="15733200">
                <a:off x="8041680" y="4676760"/>
                <a:ext cx="67716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未知"/>
              <p:cNvSpPr/>
              <p:nvPr/>
            </p:nvSpPr>
            <p:spPr>
              <a:xfrm rot="16031400">
                <a:off x="8184240" y="4796640"/>
                <a:ext cx="50760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未知"/>
              <p:cNvSpPr/>
              <p:nvPr/>
            </p:nvSpPr>
            <p:spPr>
              <a:xfrm rot="16031400">
                <a:off x="8227080" y="4751280"/>
                <a:ext cx="50796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7765920" y="4524480"/>
              <a:ext cx="698040" cy="618840"/>
              <a:chOff x="7765920" y="4524480"/>
              <a:chExt cx="698040" cy="618840"/>
            </a:xfrm>
          </p:grpSpPr>
          <p:sp>
            <p:nvSpPr>
              <p:cNvPr id="757" name="未知"/>
              <p:cNvSpPr/>
              <p:nvPr/>
            </p:nvSpPr>
            <p:spPr>
              <a:xfrm rot="10003800">
                <a:off x="7814880" y="4585680"/>
                <a:ext cx="59184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未知"/>
              <p:cNvSpPr/>
              <p:nvPr/>
            </p:nvSpPr>
            <p:spPr>
              <a:xfrm rot="12048600">
                <a:off x="7761960" y="4838040"/>
                <a:ext cx="67644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未知"/>
              <p:cNvSpPr/>
              <p:nvPr/>
            </p:nvSpPr>
            <p:spPr>
              <a:xfrm rot="12346800">
                <a:off x="7972560" y="484848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未知"/>
              <p:cNvSpPr/>
              <p:nvPr/>
            </p:nvSpPr>
            <p:spPr>
              <a:xfrm rot="12346800">
                <a:off x="7948080" y="479304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8156880" y="5001840"/>
              <a:ext cx="769320" cy="770400"/>
              <a:chOff x="8156880" y="5001840"/>
              <a:chExt cx="769320" cy="770400"/>
            </a:xfrm>
          </p:grpSpPr>
          <p:sp>
            <p:nvSpPr>
              <p:cNvPr id="762" name="未知"/>
              <p:cNvSpPr/>
              <p:nvPr/>
            </p:nvSpPr>
            <p:spPr>
              <a:xfrm rot="2727600">
                <a:off x="8245080" y="5138640"/>
                <a:ext cx="59220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未知"/>
              <p:cNvSpPr/>
              <p:nvPr/>
            </p:nvSpPr>
            <p:spPr>
              <a:xfrm rot="4772400">
                <a:off x="8236080" y="5350320"/>
                <a:ext cx="67680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未知"/>
              <p:cNvSpPr/>
              <p:nvPr/>
            </p:nvSpPr>
            <p:spPr>
              <a:xfrm rot="5070600">
                <a:off x="8258040" y="524880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未知"/>
              <p:cNvSpPr/>
              <p:nvPr/>
            </p:nvSpPr>
            <p:spPr>
              <a:xfrm rot="5070600">
                <a:off x="8217720" y="5309280"/>
                <a:ext cx="50760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7909920" y="5042160"/>
              <a:ext cx="534240" cy="623880"/>
              <a:chOff x="7909920" y="5042160"/>
              <a:chExt cx="534240" cy="623880"/>
            </a:xfrm>
          </p:grpSpPr>
          <p:sp>
            <p:nvSpPr>
              <p:cNvPr id="767" name="未知"/>
              <p:cNvSpPr/>
              <p:nvPr/>
            </p:nvSpPr>
            <p:spPr>
              <a:xfrm rot="5628000">
                <a:off x="7880760" y="5105880"/>
                <a:ext cx="592200" cy="496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未知"/>
              <p:cNvSpPr/>
              <p:nvPr/>
            </p:nvSpPr>
            <p:spPr>
              <a:xfrm rot="7672800">
                <a:off x="7866720" y="5345640"/>
                <a:ext cx="67680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未知"/>
              <p:cNvSpPr/>
              <p:nvPr/>
            </p:nvSpPr>
            <p:spPr>
              <a:xfrm rot="7971000">
                <a:off x="7991280" y="523368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未知"/>
              <p:cNvSpPr/>
              <p:nvPr/>
            </p:nvSpPr>
            <p:spPr>
              <a:xfrm rot="7971000">
                <a:off x="7923960" y="5245920"/>
                <a:ext cx="50760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7759800" y="4815720"/>
              <a:ext cx="702360" cy="747720"/>
              <a:chOff x="7759800" y="4815720"/>
              <a:chExt cx="702360" cy="747720"/>
            </a:xfrm>
          </p:grpSpPr>
          <p:sp>
            <p:nvSpPr>
              <p:cNvPr id="772" name="未知"/>
              <p:cNvSpPr/>
              <p:nvPr/>
            </p:nvSpPr>
            <p:spPr>
              <a:xfrm rot="6925800">
                <a:off x="7814880" y="4941000"/>
                <a:ext cx="59184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未知"/>
              <p:cNvSpPr/>
              <p:nvPr/>
            </p:nvSpPr>
            <p:spPr>
              <a:xfrm rot="8970600">
                <a:off x="7791480" y="5189400"/>
                <a:ext cx="67644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未知"/>
              <p:cNvSpPr/>
              <p:nvPr/>
            </p:nvSpPr>
            <p:spPr>
              <a:xfrm rot="9268800">
                <a:off x="7957080" y="510084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未知"/>
              <p:cNvSpPr/>
              <p:nvPr/>
            </p:nvSpPr>
            <p:spPr>
              <a:xfrm rot="9268800">
                <a:off x="7893000" y="508788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8449920" y="4868640"/>
              <a:ext cx="711360" cy="640800"/>
              <a:chOff x="8449920" y="4868640"/>
              <a:chExt cx="711360" cy="640800"/>
            </a:xfrm>
          </p:grpSpPr>
          <p:sp>
            <p:nvSpPr>
              <p:cNvPr id="777" name="未知"/>
              <p:cNvSpPr/>
              <p:nvPr/>
            </p:nvSpPr>
            <p:spPr>
              <a:xfrm rot="20636400">
                <a:off x="8512200" y="4940640"/>
                <a:ext cx="59184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未知"/>
              <p:cNvSpPr/>
              <p:nvPr/>
            </p:nvSpPr>
            <p:spPr>
              <a:xfrm rot="1081200">
                <a:off x="8479080" y="5126760"/>
                <a:ext cx="67644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未知"/>
              <p:cNvSpPr/>
              <p:nvPr/>
            </p:nvSpPr>
            <p:spPr>
              <a:xfrm rot="1379400">
                <a:off x="8438040" y="513756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未知"/>
              <p:cNvSpPr/>
              <p:nvPr/>
            </p:nvSpPr>
            <p:spPr>
              <a:xfrm rot="1379400">
                <a:off x="8465760" y="520560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8302680" y="5021280"/>
              <a:ext cx="687600" cy="604440"/>
              <a:chOff x="8302680" y="5021280"/>
              <a:chExt cx="687600" cy="604440"/>
            </a:xfrm>
          </p:grpSpPr>
          <p:sp>
            <p:nvSpPr>
              <p:cNvPr id="782" name="未知"/>
              <p:cNvSpPr/>
              <p:nvPr/>
            </p:nvSpPr>
            <p:spPr>
              <a:xfrm rot="805800">
                <a:off x="8350200" y="5083200"/>
                <a:ext cx="592200" cy="47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未知"/>
              <p:cNvSpPr/>
              <p:nvPr/>
            </p:nvSpPr>
            <p:spPr>
              <a:xfrm rot="2850600">
                <a:off x="8331480" y="5271840"/>
                <a:ext cx="67716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未知"/>
              <p:cNvSpPr/>
              <p:nvPr/>
            </p:nvSpPr>
            <p:spPr>
              <a:xfrm rot="3148800">
                <a:off x="8305920" y="5218920"/>
                <a:ext cx="507600" cy="40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未知"/>
              <p:cNvSpPr/>
              <p:nvPr/>
            </p:nvSpPr>
            <p:spPr>
              <a:xfrm rot="3148800">
                <a:off x="8301600" y="5291640"/>
                <a:ext cx="5079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7756560" y="4664520"/>
              <a:ext cx="815040" cy="761040"/>
              <a:chOff x="7756560" y="4664520"/>
              <a:chExt cx="815040" cy="761040"/>
            </a:xfrm>
          </p:grpSpPr>
          <p:sp>
            <p:nvSpPr>
              <p:cNvPr id="787" name="未知"/>
              <p:cNvSpPr/>
              <p:nvPr/>
            </p:nvSpPr>
            <p:spPr>
              <a:xfrm rot="7717200">
                <a:off x="7969680" y="4678560"/>
                <a:ext cx="388800" cy="732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未知"/>
              <p:cNvSpPr/>
              <p:nvPr/>
            </p:nvSpPr>
            <p:spPr>
              <a:xfrm rot="9762000">
                <a:off x="7956000" y="5051160"/>
                <a:ext cx="444240" cy="84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未知"/>
              <p:cNvSpPr/>
              <p:nvPr/>
            </p:nvSpPr>
            <p:spPr>
              <a:xfrm rot="10060200">
                <a:off x="8067960" y="4970520"/>
                <a:ext cx="333360" cy="62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未知"/>
              <p:cNvSpPr/>
              <p:nvPr/>
            </p:nvSpPr>
            <p:spPr>
              <a:xfrm rot="10060200">
                <a:off x="8021880" y="4922640"/>
                <a:ext cx="333360" cy="41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8160840" y="4411440"/>
              <a:ext cx="747360" cy="681480"/>
              <a:chOff x="8160840" y="4411440"/>
              <a:chExt cx="747360" cy="681480"/>
            </a:xfrm>
          </p:grpSpPr>
          <p:sp>
            <p:nvSpPr>
              <p:cNvPr id="792" name="未知"/>
              <p:cNvSpPr/>
              <p:nvPr/>
            </p:nvSpPr>
            <p:spPr>
              <a:xfrm rot="13857000">
                <a:off x="8392320" y="4385880"/>
                <a:ext cx="283680" cy="732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未知"/>
              <p:cNvSpPr/>
              <p:nvPr/>
            </p:nvSpPr>
            <p:spPr>
              <a:xfrm rot="15901800">
                <a:off x="8321760" y="4712040"/>
                <a:ext cx="324000" cy="84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未知"/>
              <p:cNvSpPr/>
              <p:nvPr/>
            </p:nvSpPr>
            <p:spPr>
              <a:xfrm rot="16200000">
                <a:off x="8439840" y="4777920"/>
                <a:ext cx="243000" cy="62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未知"/>
              <p:cNvSpPr/>
              <p:nvPr/>
            </p:nvSpPr>
            <p:spPr>
              <a:xfrm rot="16200000">
                <a:off x="8506440" y="4764240"/>
                <a:ext cx="243000" cy="41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8008560" y="4537080"/>
              <a:ext cx="571680" cy="608400"/>
              <a:chOff x="8008560" y="4537080"/>
              <a:chExt cx="571680" cy="608400"/>
            </a:xfrm>
          </p:grpSpPr>
          <p:sp>
            <p:nvSpPr>
              <p:cNvPr id="797" name="未知"/>
              <p:cNvSpPr/>
              <p:nvPr/>
            </p:nvSpPr>
            <p:spPr>
              <a:xfrm rot="11895600">
                <a:off x="8075160" y="4592880"/>
                <a:ext cx="438120" cy="496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未知"/>
              <p:cNvSpPr/>
              <p:nvPr/>
            </p:nvSpPr>
            <p:spPr>
              <a:xfrm rot="13940400">
                <a:off x="8017200" y="4834080"/>
                <a:ext cx="50040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未知"/>
              <p:cNvSpPr/>
              <p:nvPr/>
            </p:nvSpPr>
            <p:spPr>
              <a:xfrm rot="14238600">
                <a:off x="8169480" y="4884840"/>
                <a:ext cx="37548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未知"/>
              <p:cNvSpPr/>
              <p:nvPr/>
            </p:nvSpPr>
            <p:spPr>
              <a:xfrm rot="14238600">
                <a:off x="8187480" y="4836240"/>
                <a:ext cx="37548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8012160" y="5103720"/>
              <a:ext cx="683280" cy="736920"/>
              <a:chOff x="8012160" y="5103720"/>
              <a:chExt cx="683280" cy="736920"/>
            </a:xfrm>
          </p:grpSpPr>
          <p:sp>
            <p:nvSpPr>
              <p:cNvPr id="802" name="未知"/>
              <p:cNvSpPr/>
              <p:nvPr/>
            </p:nvSpPr>
            <p:spPr>
              <a:xfrm rot="4063800">
                <a:off x="8057520" y="5224320"/>
                <a:ext cx="592200" cy="496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未知"/>
              <p:cNvSpPr/>
              <p:nvPr/>
            </p:nvSpPr>
            <p:spPr>
              <a:xfrm rot="6108000">
                <a:off x="8049240" y="5448960"/>
                <a:ext cx="67716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未知"/>
              <p:cNvSpPr/>
              <p:nvPr/>
            </p:nvSpPr>
            <p:spPr>
              <a:xfrm rot="6406200">
                <a:off x="8117280" y="5331600"/>
                <a:ext cx="50760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未知"/>
              <p:cNvSpPr/>
              <p:nvPr/>
            </p:nvSpPr>
            <p:spPr>
              <a:xfrm rot="6406200">
                <a:off x="8059320" y="5373360"/>
                <a:ext cx="50796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8169840" y="4821120"/>
              <a:ext cx="507240" cy="507600"/>
              <a:chOff x="8169840" y="4821120"/>
              <a:chExt cx="507240" cy="507600"/>
            </a:xfrm>
          </p:grpSpPr>
          <p:sp>
            <p:nvSpPr>
              <p:cNvPr id="807" name=""/>
              <p:cNvSpPr/>
              <p:nvPr/>
            </p:nvSpPr>
            <p:spPr>
              <a:xfrm>
                <a:off x="8169840" y="4821120"/>
                <a:ext cx="507240" cy="507600"/>
              </a:xfrm>
              <a:custGeom>
                <a:avLst/>
                <a:gdLst>
                  <a:gd name="textAreaLeft" fmla="*/ 119160 w 507240"/>
                  <a:gd name="textAreaRight" fmla="*/ 388080 w 507240"/>
                  <a:gd name="textAreaTop" fmla="*/ 119160 h 507600"/>
                  <a:gd name="textAreaBottom" fmla="*/ 388440 h 50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258040" y="4895640"/>
                <a:ext cx="338400" cy="33804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9" name=""/>
          <p:cNvGrpSpPr/>
          <p:nvPr/>
        </p:nvGrpSpPr>
        <p:grpSpPr>
          <a:xfrm>
            <a:off x="7731720" y="2991960"/>
            <a:ext cx="1827360" cy="1924920"/>
            <a:chOff x="7731720" y="2991960"/>
            <a:chExt cx="1827360" cy="1924920"/>
          </a:xfrm>
        </p:grpSpPr>
        <p:grpSp>
          <p:nvGrpSpPr>
            <p:cNvPr id="810" name=""/>
            <p:cNvGrpSpPr/>
            <p:nvPr/>
          </p:nvGrpSpPr>
          <p:grpSpPr>
            <a:xfrm>
              <a:off x="8552520" y="3376800"/>
              <a:ext cx="986400" cy="991080"/>
              <a:chOff x="8552520" y="3376800"/>
              <a:chExt cx="986400" cy="991080"/>
            </a:xfrm>
          </p:grpSpPr>
          <p:sp>
            <p:nvSpPr>
              <p:cNvPr id="811" name="未知"/>
              <p:cNvSpPr/>
              <p:nvPr/>
            </p:nvSpPr>
            <p:spPr>
              <a:xfrm rot="18826800">
                <a:off x="8656200" y="3562200"/>
                <a:ext cx="778320" cy="6202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未知"/>
              <p:cNvSpPr/>
              <p:nvPr/>
            </p:nvSpPr>
            <p:spPr>
              <a:xfrm rot="20871600">
                <a:off x="8588880" y="3794760"/>
                <a:ext cx="88956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未知"/>
              <p:cNvSpPr/>
              <p:nvPr/>
            </p:nvSpPr>
            <p:spPr>
              <a:xfrm rot="21169800">
                <a:off x="8559000" y="3888000"/>
                <a:ext cx="6670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未知"/>
              <p:cNvSpPr/>
              <p:nvPr/>
            </p:nvSpPr>
            <p:spPr>
              <a:xfrm rot="21169800">
                <a:off x="8630640" y="3944520"/>
                <a:ext cx="6674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8572680" y="3197160"/>
              <a:ext cx="788760" cy="904320"/>
              <a:chOff x="8572680" y="3197160"/>
              <a:chExt cx="788760" cy="904320"/>
            </a:xfrm>
          </p:grpSpPr>
          <p:sp>
            <p:nvSpPr>
              <p:cNvPr id="816" name="未知"/>
              <p:cNvSpPr/>
              <p:nvPr/>
            </p:nvSpPr>
            <p:spPr>
              <a:xfrm rot="17034600">
                <a:off x="8578080" y="3339360"/>
                <a:ext cx="777960" cy="619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未知"/>
              <p:cNvSpPr/>
              <p:nvPr/>
            </p:nvSpPr>
            <p:spPr>
              <a:xfrm rot="19078800">
                <a:off x="8490960" y="3582720"/>
                <a:ext cx="88920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未知"/>
              <p:cNvSpPr/>
              <p:nvPr/>
            </p:nvSpPr>
            <p:spPr>
              <a:xfrm rot="19377600">
                <a:off x="8521920" y="3735000"/>
                <a:ext cx="66672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未知"/>
              <p:cNvSpPr/>
              <p:nvPr/>
            </p:nvSpPr>
            <p:spPr>
              <a:xfrm rot="19377600">
                <a:off x="8607600" y="3749400"/>
                <a:ext cx="66708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8091000" y="2991960"/>
              <a:ext cx="979560" cy="986400"/>
              <a:chOff x="8091000" y="2991960"/>
              <a:chExt cx="979560" cy="986400"/>
            </a:xfrm>
          </p:grpSpPr>
          <p:sp>
            <p:nvSpPr>
              <p:cNvPr id="821" name="未知"/>
              <p:cNvSpPr/>
              <p:nvPr/>
            </p:nvSpPr>
            <p:spPr>
              <a:xfrm rot="13688400">
                <a:off x="8210880" y="3158640"/>
                <a:ext cx="739800" cy="652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未知"/>
              <p:cNvSpPr/>
              <p:nvPr/>
            </p:nvSpPr>
            <p:spPr>
              <a:xfrm rot="15733200">
                <a:off x="8113320" y="3456000"/>
                <a:ext cx="84564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未知"/>
              <p:cNvSpPr/>
              <p:nvPr/>
            </p:nvSpPr>
            <p:spPr>
              <a:xfrm rot="16031400">
                <a:off x="8295120" y="3605040"/>
                <a:ext cx="63396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未知"/>
              <p:cNvSpPr/>
              <p:nvPr/>
            </p:nvSpPr>
            <p:spPr>
              <a:xfrm rot="16031400">
                <a:off x="8350920" y="3549240"/>
                <a:ext cx="63432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7731720" y="3262680"/>
              <a:ext cx="912600" cy="781920"/>
              <a:chOff x="7731720" y="3262680"/>
              <a:chExt cx="912600" cy="781920"/>
            </a:xfrm>
          </p:grpSpPr>
          <p:sp>
            <p:nvSpPr>
              <p:cNvPr id="826" name="未知"/>
              <p:cNvSpPr/>
              <p:nvPr/>
            </p:nvSpPr>
            <p:spPr>
              <a:xfrm rot="10003800">
                <a:off x="7792560" y="3343680"/>
                <a:ext cx="778320" cy="619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rot="12048600">
                <a:off x="7723800" y="3659040"/>
                <a:ext cx="88956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未知"/>
              <p:cNvSpPr/>
              <p:nvPr/>
            </p:nvSpPr>
            <p:spPr>
              <a:xfrm rot="12346800">
                <a:off x="7998840" y="3675240"/>
                <a:ext cx="6670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未知"/>
              <p:cNvSpPr/>
              <p:nvPr/>
            </p:nvSpPr>
            <p:spPr>
              <a:xfrm rot="12346800">
                <a:off x="7964640" y="3604320"/>
                <a:ext cx="6674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8256960" y="3852000"/>
              <a:ext cx="983520" cy="984960"/>
              <a:chOff x="8256960" y="3852000"/>
              <a:chExt cx="983520" cy="984960"/>
            </a:xfrm>
          </p:grpSpPr>
          <p:sp>
            <p:nvSpPr>
              <p:cNvPr id="831" name="未知"/>
              <p:cNvSpPr/>
              <p:nvPr/>
            </p:nvSpPr>
            <p:spPr>
              <a:xfrm rot="2727600">
                <a:off x="8378640" y="4017960"/>
                <a:ext cx="739440" cy="652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未知"/>
              <p:cNvSpPr/>
              <p:nvPr/>
            </p:nvSpPr>
            <p:spPr>
              <a:xfrm rot="4772400">
                <a:off x="8370000" y="4295880"/>
                <a:ext cx="84528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未知"/>
              <p:cNvSpPr/>
              <p:nvPr/>
            </p:nvSpPr>
            <p:spPr>
              <a:xfrm rot="5070600">
                <a:off x="8393760" y="4170600"/>
                <a:ext cx="63360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未知"/>
              <p:cNvSpPr/>
              <p:nvPr/>
            </p:nvSpPr>
            <p:spPr>
              <a:xfrm rot="5070600">
                <a:off x="8340120" y="4246920"/>
                <a:ext cx="63396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7919640" y="3913560"/>
              <a:ext cx="699840" cy="780840"/>
              <a:chOff x="7919640" y="3913560"/>
              <a:chExt cx="699840" cy="780840"/>
            </a:xfrm>
          </p:grpSpPr>
          <p:sp>
            <p:nvSpPr>
              <p:cNvPr id="836" name="未知"/>
              <p:cNvSpPr/>
              <p:nvPr/>
            </p:nvSpPr>
            <p:spPr>
              <a:xfrm rot="5628000">
                <a:off x="7899480" y="3977640"/>
                <a:ext cx="739440" cy="652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未知"/>
              <p:cNvSpPr/>
              <p:nvPr/>
            </p:nvSpPr>
            <p:spPr>
              <a:xfrm rot="7672800">
                <a:off x="7883640" y="4291560"/>
                <a:ext cx="84528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未知"/>
              <p:cNvSpPr/>
              <p:nvPr/>
            </p:nvSpPr>
            <p:spPr>
              <a:xfrm rot="7971000">
                <a:off x="8036640" y="4150440"/>
                <a:ext cx="63360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未知"/>
              <p:cNvSpPr/>
              <p:nvPr/>
            </p:nvSpPr>
            <p:spPr>
              <a:xfrm rot="7971000">
                <a:off x="7950240" y="4164480"/>
                <a:ext cx="63396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7734600" y="3614040"/>
              <a:ext cx="894240" cy="969120"/>
              <a:chOff x="7734600" y="3614040"/>
              <a:chExt cx="894240" cy="969120"/>
            </a:xfrm>
          </p:grpSpPr>
          <p:sp>
            <p:nvSpPr>
              <p:cNvPr id="841" name="未知"/>
              <p:cNvSpPr/>
              <p:nvPr/>
            </p:nvSpPr>
            <p:spPr>
              <a:xfrm rot="6925800">
                <a:off x="7792560" y="3788640"/>
                <a:ext cx="778320" cy="619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未知"/>
              <p:cNvSpPr/>
              <p:nvPr/>
            </p:nvSpPr>
            <p:spPr>
              <a:xfrm rot="8970600">
                <a:off x="7760880" y="4098960"/>
                <a:ext cx="88956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未知"/>
              <p:cNvSpPr/>
              <p:nvPr/>
            </p:nvSpPr>
            <p:spPr>
              <a:xfrm rot="9268800">
                <a:off x="7979760" y="3984480"/>
                <a:ext cx="6670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未知"/>
              <p:cNvSpPr/>
              <p:nvPr/>
            </p:nvSpPr>
            <p:spPr>
              <a:xfrm rot="9268800">
                <a:off x="7896600" y="3970440"/>
                <a:ext cx="6674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8629200" y="3691800"/>
              <a:ext cx="929880" cy="811080"/>
              <a:chOff x="8629200" y="3691800"/>
              <a:chExt cx="929880" cy="811080"/>
            </a:xfrm>
          </p:grpSpPr>
          <p:sp>
            <p:nvSpPr>
              <p:cNvPr id="846" name="未知"/>
              <p:cNvSpPr/>
              <p:nvPr/>
            </p:nvSpPr>
            <p:spPr>
              <a:xfrm rot="20636400">
                <a:off x="8709840" y="3787200"/>
                <a:ext cx="778320" cy="619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未知"/>
              <p:cNvSpPr/>
              <p:nvPr/>
            </p:nvSpPr>
            <p:spPr>
              <a:xfrm rot="1081200">
                <a:off x="8665200" y="4019760"/>
                <a:ext cx="88956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未知"/>
              <p:cNvSpPr/>
              <p:nvPr/>
            </p:nvSpPr>
            <p:spPr>
              <a:xfrm rot="1379400">
                <a:off x="8612640" y="4030560"/>
                <a:ext cx="6670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未知"/>
              <p:cNvSpPr/>
              <p:nvPr/>
            </p:nvSpPr>
            <p:spPr>
              <a:xfrm rot="1379400">
                <a:off x="8650800" y="4116600"/>
                <a:ext cx="6674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8452800" y="3871440"/>
              <a:ext cx="866520" cy="786240"/>
              <a:chOff x="8452800" y="3871440"/>
              <a:chExt cx="866520" cy="786240"/>
            </a:xfrm>
          </p:grpSpPr>
          <p:sp>
            <p:nvSpPr>
              <p:cNvPr id="851" name="未知"/>
              <p:cNvSpPr/>
              <p:nvPr/>
            </p:nvSpPr>
            <p:spPr>
              <a:xfrm rot="805800">
                <a:off x="8516160" y="3948480"/>
                <a:ext cx="739800" cy="631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未知"/>
              <p:cNvSpPr/>
              <p:nvPr/>
            </p:nvSpPr>
            <p:spPr>
              <a:xfrm rot="2850600">
                <a:off x="8494200" y="4196880"/>
                <a:ext cx="84564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未知"/>
              <p:cNvSpPr/>
              <p:nvPr/>
            </p:nvSpPr>
            <p:spPr>
              <a:xfrm rot="3148800">
                <a:off x="8460000" y="4133520"/>
                <a:ext cx="63396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未知"/>
              <p:cNvSpPr/>
              <p:nvPr/>
            </p:nvSpPr>
            <p:spPr>
              <a:xfrm rot="3148800">
                <a:off x="8451720" y="4226760"/>
                <a:ext cx="63432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7734240" y="3431880"/>
              <a:ext cx="1034280" cy="970920"/>
              <a:chOff x="7734240" y="3431880"/>
              <a:chExt cx="1034280" cy="970920"/>
            </a:xfrm>
          </p:grpSpPr>
          <p:sp>
            <p:nvSpPr>
              <p:cNvPr id="856" name="未知"/>
              <p:cNvSpPr/>
              <p:nvPr/>
            </p:nvSpPr>
            <p:spPr>
              <a:xfrm rot="7717200">
                <a:off x="7995600" y="3459600"/>
                <a:ext cx="511200" cy="915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未知"/>
              <p:cNvSpPr/>
              <p:nvPr/>
            </p:nvSpPr>
            <p:spPr>
              <a:xfrm rot="9762000">
                <a:off x="7976880" y="3924720"/>
                <a:ext cx="584280" cy="10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未知"/>
              <p:cNvSpPr/>
              <p:nvPr/>
            </p:nvSpPr>
            <p:spPr>
              <a:xfrm rot="10060200">
                <a:off x="8125560" y="3823920"/>
                <a:ext cx="438120" cy="77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未知"/>
              <p:cNvSpPr/>
              <p:nvPr/>
            </p:nvSpPr>
            <p:spPr>
              <a:xfrm rot="10060200">
                <a:off x="8065440" y="3763440"/>
                <a:ext cx="4384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8253360" y="3110040"/>
              <a:ext cx="971280" cy="882000"/>
              <a:chOff x="8253360" y="3110040"/>
              <a:chExt cx="971280" cy="882000"/>
            </a:xfrm>
          </p:grpSpPr>
          <p:sp>
            <p:nvSpPr>
              <p:cNvPr id="861" name="未知"/>
              <p:cNvSpPr/>
              <p:nvPr/>
            </p:nvSpPr>
            <p:spPr>
              <a:xfrm rot="13857000">
                <a:off x="8561880" y="3069360"/>
                <a:ext cx="354240" cy="963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未知"/>
              <p:cNvSpPr/>
              <p:nvPr/>
            </p:nvSpPr>
            <p:spPr>
              <a:xfrm rot="15901800">
                <a:off x="8469720" y="3498480"/>
                <a:ext cx="404640" cy="110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未知"/>
              <p:cNvSpPr/>
              <p:nvPr/>
            </p:nvSpPr>
            <p:spPr>
              <a:xfrm rot="16200000">
                <a:off x="8622360" y="3581280"/>
                <a:ext cx="303480" cy="82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未知"/>
              <p:cNvSpPr/>
              <p:nvPr/>
            </p:nvSpPr>
            <p:spPr>
              <a:xfrm rot="16200000">
                <a:off x="8710200" y="3565440"/>
                <a:ext cx="30348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8061840" y="3267000"/>
              <a:ext cx="723600" cy="790920"/>
              <a:chOff x="8061840" y="3267000"/>
              <a:chExt cx="723600" cy="790920"/>
            </a:xfrm>
          </p:grpSpPr>
          <p:sp>
            <p:nvSpPr>
              <p:cNvPr id="866" name="未知"/>
              <p:cNvSpPr/>
              <p:nvPr/>
            </p:nvSpPr>
            <p:spPr>
              <a:xfrm rot="11895600">
                <a:off x="8150040" y="3336120"/>
                <a:ext cx="546840" cy="652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未知"/>
              <p:cNvSpPr/>
              <p:nvPr/>
            </p:nvSpPr>
            <p:spPr>
              <a:xfrm rot="13940400">
                <a:off x="8075880" y="3652560"/>
                <a:ext cx="62496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未知"/>
              <p:cNvSpPr/>
              <p:nvPr/>
            </p:nvSpPr>
            <p:spPr>
              <a:xfrm rot="14238600">
                <a:off x="8268480" y="3714120"/>
                <a:ext cx="46872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未知"/>
              <p:cNvSpPr/>
              <p:nvPr/>
            </p:nvSpPr>
            <p:spPr>
              <a:xfrm rot="14238600">
                <a:off x="8294040" y="3652560"/>
                <a:ext cx="46872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8059680" y="3985200"/>
              <a:ext cx="884160" cy="931680"/>
              <a:chOff x="8059680" y="3985200"/>
              <a:chExt cx="884160" cy="931680"/>
            </a:xfrm>
          </p:grpSpPr>
          <p:sp>
            <p:nvSpPr>
              <p:cNvPr id="871" name="未知"/>
              <p:cNvSpPr/>
              <p:nvPr/>
            </p:nvSpPr>
            <p:spPr>
              <a:xfrm rot="4063800">
                <a:off x="8131680" y="4124880"/>
                <a:ext cx="739800" cy="652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未知"/>
              <p:cNvSpPr/>
              <p:nvPr/>
            </p:nvSpPr>
            <p:spPr>
              <a:xfrm rot="6108000">
                <a:off x="8123400" y="4420080"/>
                <a:ext cx="84564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未知"/>
              <p:cNvSpPr/>
              <p:nvPr/>
            </p:nvSpPr>
            <p:spPr>
              <a:xfrm rot="6406200">
                <a:off x="8204400" y="4273200"/>
                <a:ext cx="63396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未知"/>
              <p:cNvSpPr/>
              <p:nvPr/>
            </p:nvSpPr>
            <p:spPr>
              <a:xfrm rot="6406200">
                <a:off x="8129520" y="4324680"/>
                <a:ext cx="63432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8259120" y="3637440"/>
              <a:ext cx="667080" cy="633960"/>
              <a:chOff x="8259120" y="3637440"/>
              <a:chExt cx="667080" cy="633960"/>
            </a:xfrm>
          </p:grpSpPr>
          <p:sp>
            <p:nvSpPr>
              <p:cNvPr id="876" name=""/>
              <p:cNvSpPr/>
              <p:nvPr/>
            </p:nvSpPr>
            <p:spPr>
              <a:xfrm>
                <a:off x="8259120" y="3637440"/>
                <a:ext cx="667080" cy="633960"/>
              </a:xfrm>
              <a:custGeom>
                <a:avLst/>
                <a:gdLst>
                  <a:gd name="textAreaLeft" fmla="*/ 156600 w 667080"/>
                  <a:gd name="textAreaRight" fmla="*/ 510480 w 667080"/>
                  <a:gd name="textAreaTop" fmla="*/ 148680 h 633960"/>
                  <a:gd name="textAreaBottom" fmla="*/ 485280 h 63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375040" y="3730680"/>
                <a:ext cx="444960" cy="422280"/>
              </a:xfrm>
              <a:prstGeom prst="ellips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-87480" y="3068640"/>
            <a:ext cx="8928360" cy="576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8408880" y="3218760"/>
            <a:ext cx="252360" cy="3690000"/>
            <a:chOff x="8408880" y="3218760"/>
            <a:chExt cx="252360" cy="3690000"/>
          </a:xfrm>
        </p:grpSpPr>
        <p:sp>
          <p:nvSpPr>
            <p:cNvPr id="916" name=""/>
            <p:cNvSpPr/>
            <p:nvPr/>
          </p:nvSpPr>
          <p:spPr>
            <a:xfrm rot="16215000">
              <a:off x="83127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088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8193240" y="3218760"/>
            <a:ext cx="252360" cy="3690000"/>
            <a:chOff x="8193240" y="3218760"/>
            <a:chExt cx="252360" cy="3690000"/>
          </a:xfrm>
        </p:grpSpPr>
        <p:sp>
          <p:nvSpPr>
            <p:cNvPr id="919" name=""/>
            <p:cNvSpPr/>
            <p:nvPr/>
          </p:nvSpPr>
          <p:spPr>
            <a:xfrm rot="16215000">
              <a:off x="80971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1932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7977240" y="3218760"/>
            <a:ext cx="252360" cy="3690000"/>
            <a:chOff x="7977240" y="3218760"/>
            <a:chExt cx="252360" cy="3690000"/>
          </a:xfrm>
        </p:grpSpPr>
        <p:sp>
          <p:nvSpPr>
            <p:cNvPr id="922" name=""/>
            <p:cNvSpPr/>
            <p:nvPr/>
          </p:nvSpPr>
          <p:spPr>
            <a:xfrm rot="16215000">
              <a:off x="78811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772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7759800" y="3218760"/>
            <a:ext cx="252360" cy="3690000"/>
            <a:chOff x="7759800" y="3218760"/>
            <a:chExt cx="252360" cy="3690000"/>
          </a:xfrm>
        </p:grpSpPr>
        <p:sp>
          <p:nvSpPr>
            <p:cNvPr id="925" name=""/>
            <p:cNvSpPr/>
            <p:nvPr/>
          </p:nvSpPr>
          <p:spPr>
            <a:xfrm rot="16215000">
              <a:off x="76636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7598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543800" y="3218760"/>
            <a:ext cx="252360" cy="3690000"/>
            <a:chOff x="7543800" y="3218760"/>
            <a:chExt cx="252360" cy="3690000"/>
          </a:xfrm>
        </p:grpSpPr>
        <p:sp>
          <p:nvSpPr>
            <p:cNvPr id="928" name=""/>
            <p:cNvSpPr/>
            <p:nvPr/>
          </p:nvSpPr>
          <p:spPr>
            <a:xfrm rot="16215000">
              <a:off x="74476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5438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7327800" y="3218760"/>
            <a:ext cx="252360" cy="3690000"/>
            <a:chOff x="7327800" y="3218760"/>
            <a:chExt cx="252360" cy="3690000"/>
          </a:xfrm>
        </p:grpSpPr>
        <p:sp>
          <p:nvSpPr>
            <p:cNvPr id="931" name=""/>
            <p:cNvSpPr/>
            <p:nvPr/>
          </p:nvSpPr>
          <p:spPr>
            <a:xfrm rot="16215000">
              <a:off x="72316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3278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7112160" y="3218760"/>
            <a:ext cx="252360" cy="3690000"/>
            <a:chOff x="7112160" y="3218760"/>
            <a:chExt cx="252360" cy="3690000"/>
          </a:xfrm>
        </p:grpSpPr>
        <p:sp>
          <p:nvSpPr>
            <p:cNvPr id="934" name=""/>
            <p:cNvSpPr/>
            <p:nvPr/>
          </p:nvSpPr>
          <p:spPr>
            <a:xfrm rot="16215000">
              <a:off x="70160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1121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6896160" y="3218760"/>
            <a:ext cx="252360" cy="3690000"/>
            <a:chOff x="6896160" y="3218760"/>
            <a:chExt cx="252360" cy="3690000"/>
          </a:xfrm>
        </p:grpSpPr>
        <p:sp>
          <p:nvSpPr>
            <p:cNvPr id="937" name=""/>
            <p:cNvSpPr/>
            <p:nvPr/>
          </p:nvSpPr>
          <p:spPr>
            <a:xfrm rot="16215000">
              <a:off x="68000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8961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680160" y="3218760"/>
            <a:ext cx="252360" cy="3690000"/>
            <a:chOff x="6680160" y="3218760"/>
            <a:chExt cx="252360" cy="3690000"/>
          </a:xfrm>
        </p:grpSpPr>
        <p:sp>
          <p:nvSpPr>
            <p:cNvPr id="940" name=""/>
            <p:cNvSpPr/>
            <p:nvPr/>
          </p:nvSpPr>
          <p:spPr>
            <a:xfrm rot="16215000">
              <a:off x="65840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801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6442200" y="3218760"/>
            <a:ext cx="252360" cy="3690000"/>
            <a:chOff x="6442200" y="3218760"/>
            <a:chExt cx="252360" cy="3690000"/>
          </a:xfrm>
        </p:grpSpPr>
        <p:sp>
          <p:nvSpPr>
            <p:cNvPr id="943" name=""/>
            <p:cNvSpPr/>
            <p:nvPr/>
          </p:nvSpPr>
          <p:spPr>
            <a:xfrm rot="16215000">
              <a:off x="63460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422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6189840" y="3218760"/>
            <a:ext cx="252360" cy="3690000"/>
            <a:chOff x="6189840" y="3218760"/>
            <a:chExt cx="252360" cy="3690000"/>
          </a:xfrm>
        </p:grpSpPr>
        <p:sp>
          <p:nvSpPr>
            <p:cNvPr id="946" name=""/>
            <p:cNvSpPr/>
            <p:nvPr/>
          </p:nvSpPr>
          <p:spPr>
            <a:xfrm rot="16215000">
              <a:off x="60937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1898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5937120" y="3218760"/>
            <a:ext cx="311040" cy="3690000"/>
            <a:chOff x="5937120" y="3218760"/>
            <a:chExt cx="311040" cy="3690000"/>
          </a:xfrm>
        </p:grpSpPr>
        <p:sp>
          <p:nvSpPr>
            <p:cNvPr id="949" name=""/>
            <p:cNvSpPr/>
            <p:nvPr/>
          </p:nvSpPr>
          <p:spPr>
            <a:xfrm rot="16215000">
              <a:off x="5860440" y="3311280"/>
              <a:ext cx="360360" cy="17604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937120" y="3573360"/>
              <a:ext cx="31104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5695920" y="3218760"/>
            <a:ext cx="252360" cy="3690000"/>
            <a:chOff x="5695920" y="3218760"/>
            <a:chExt cx="252360" cy="3690000"/>
          </a:xfrm>
        </p:grpSpPr>
        <p:sp>
          <p:nvSpPr>
            <p:cNvPr id="952" name=""/>
            <p:cNvSpPr/>
            <p:nvPr/>
          </p:nvSpPr>
          <p:spPr>
            <a:xfrm rot="16215000">
              <a:off x="55998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959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5446800" y="3218760"/>
            <a:ext cx="296280" cy="3690000"/>
            <a:chOff x="5446800" y="3218760"/>
            <a:chExt cx="296280" cy="3690000"/>
          </a:xfrm>
        </p:grpSpPr>
        <p:sp>
          <p:nvSpPr>
            <p:cNvPr id="955" name=""/>
            <p:cNvSpPr/>
            <p:nvPr/>
          </p:nvSpPr>
          <p:spPr>
            <a:xfrm rot="16215000">
              <a:off x="5365080" y="3315240"/>
              <a:ext cx="360360" cy="16776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446800" y="3573360"/>
              <a:ext cx="29628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5213520" y="3218760"/>
            <a:ext cx="313920" cy="3690000"/>
            <a:chOff x="5213520" y="3218760"/>
            <a:chExt cx="313920" cy="3690000"/>
          </a:xfrm>
        </p:grpSpPr>
        <p:sp>
          <p:nvSpPr>
            <p:cNvPr id="958" name=""/>
            <p:cNvSpPr/>
            <p:nvPr/>
          </p:nvSpPr>
          <p:spPr>
            <a:xfrm rot="16215000">
              <a:off x="5137560" y="3310200"/>
              <a:ext cx="360360" cy="17784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13520" y="3573360"/>
              <a:ext cx="31392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4959360" y="3218760"/>
            <a:ext cx="352080" cy="3690000"/>
            <a:chOff x="4959360" y="3218760"/>
            <a:chExt cx="352080" cy="3690000"/>
          </a:xfrm>
        </p:grpSpPr>
        <p:sp>
          <p:nvSpPr>
            <p:cNvPr id="961" name=""/>
            <p:cNvSpPr/>
            <p:nvPr/>
          </p:nvSpPr>
          <p:spPr>
            <a:xfrm rot="16215000">
              <a:off x="4896000" y="3299400"/>
              <a:ext cx="360360" cy="19944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59360" y="3573360"/>
              <a:ext cx="35208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4710240" y="3218760"/>
            <a:ext cx="252360" cy="3690000"/>
            <a:chOff x="4710240" y="3218760"/>
            <a:chExt cx="252360" cy="3690000"/>
          </a:xfrm>
        </p:grpSpPr>
        <p:sp>
          <p:nvSpPr>
            <p:cNvPr id="964" name=""/>
            <p:cNvSpPr/>
            <p:nvPr/>
          </p:nvSpPr>
          <p:spPr>
            <a:xfrm rot="16215000">
              <a:off x="46141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7102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4457880" y="3218760"/>
            <a:ext cx="252360" cy="3690000"/>
            <a:chOff x="4457880" y="3218760"/>
            <a:chExt cx="252360" cy="3690000"/>
          </a:xfrm>
        </p:grpSpPr>
        <p:sp>
          <p:nvSpPr>
            <p:cNvPr id="967" name=""/>
            <p:cNvSpPr/>
            <p:nvPr/>
          </p:nvSpPr>
          <p:spPr>
            <a:xfrm rot="16215000">
              <a:off x="43617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4578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4205160" y="3218760"/>
            <a:ext cx="252360" cy="3690000"/>
            <a:chOff x="4205160" y="3218760"/>
            <a:chExt cx="252360" cy="3690000"/>
          </a:xfrm>
        </p:grpSpPr>
        <p:sp>
          <p:nvSpPr>
            <p:cNvPr id="970" name=""/>
            <p:cNvSpPr/>
            <p:nvPr/>
          </p:nvSpPr>
          <p:spPr>
            <a:xfrm rot="16215000">
              <a:off x="41090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2051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3963960" y="3218760"/>
            <a:ext cx="252360" cy="3690000"/>
            <a:chOff x="3963960" y="3218760"/>
            <a:chExt cx="252360" cy="3690000"/>
          </a:xfrm>
        </p:grpSpPr>
        <p:sp>
          <p:nvSpPr>
            <p:cNvPr id="973" name=""/>
            <p:cNvSpPr/>
            <p:nvPr/>
          </p:nvSpPr>
          <p:spPr>
            <a:xfrm rot="16215000">
              <a:off x="38678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9639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3714840" y="3218760"/>
            <a:ext cx="252360" cy="3690000"/>
            <a:chOff x="3714840" y="3218760"/>
            <a:chExt cx="252360" cy="3690000"/>
          </a:xfrm>
        </p:grpSpPr>
        <p:sp>
          <p:nvSpPr>
            <p:cNvPr id="976" name=""/>
            <p:cNvSpPr/>
            <p:nvPr/>
          </p:nvSpPr>
          <p:spPr>
            <a:xfrm rot="16215000">
              <a:off x="36187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7148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3463920" y="3218760"/>
            <a:ext cx="252360" cy="3690000"/>
            <a:chOff x="3463920" y="3218760"/>
            <a:chExt cx="252360" cy="3690000"/>
          </a:xfrm>
        </p:grpSpPr>
        <p:sp>
          <p:nvSpPr>
            <p:cNvPr id="979" name=""/>
            <p:cNvSpPr/>
            <p:nvPr/>
          </p:nvSpPr>
          <p:spPr>
            <a:xfrm rot="16215000">
              <a:off x="33678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4639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3222720" y="3218760"/>
            <a:ext cx="252360" cy="3690000"/>
            <a:chOff x="3222720" y="3218760"/>
            <a:chExt cx="252360" cy="3690000"/>
          </a:xfrm>
        </p:grpSpPr>
        <p:sp>
          <p:nvSpPr>
            <p:cNvPr id="982" name=""/>
            <p:cNvSpPr/>
            <p:nvPr/>
          </p:nvSpPr>
          <p:spPr>
            <a:xfrm rot="16215000">
              <a:off x="31266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227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2973240" y="3218760"/>
            <a:ext cx="252360" cy="3690000"/>
            <a:chOff x="2973240" y="3218760"/>
            <a:chExt cx="252360" cy="3690000"/>
          </a:xfrm>
        </p:grpSpPr>
        <p:sp>
          <p:nvSpPr>
            <p:cNvPr id="985" name=""/>
            <p:cNvSpPr/>
            <p:nvPr/>
          </p:nvSpPr>
          <p:spPr>
            <a:xfrm rot="16215000">
              <a:off x="28771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9732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2720880" y="3218760"/>
            <a:ext cx="252360" cy="3690000"/>
            <a:chOff x="2720880" y="3218760"/>
            <a:chExt cx="252360" cy="3690000"/>
          </a:xfrm>
        </p:grpSpPr>
        <p:sp>
          <p:nvSpPr>
            <p:cNvPr id="988" name=""/>
            <p:cNvSpPr/>
            <p:nvPr/>
          </p:nvSpPr>
          <p:spPr>
            <a:xfrm rot="16215000">
              <a:off x="26247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208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2468520" y="3218760"/>
            <a:ext cx="252360" cy="3690000"/>
            <a:chOff x="2468520" y="3218760"/>
            <a:chExt cx="252360" cy="3690000"/>
          </a:xfrm>
        </p:grpSpPr>
        <p:sp>
          <p:nvSpPr>
            <p:cNvPr id="991" name=""/>
            <p:cNvSpPr/>
            <p:nvPr/>
          </p:nvSpPr>
          <p:spPr>
            <a:xfrm rot="16215000">
              <a:off x="23724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685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2227320" y="3218760"/>
            <a:ext cx="252360" cy="3690000"/>
            <a:chOff x="2227320" y="3218760"/>
            <a:chExt cx="252360" cy="3690000"/>
          </a:xfrm>
        </p:grpSpPr>
        <p:sp>
          <p:nvSpPr>
            <p:cNvPr id="994" name=""/>
            <p:cNvSpPr/>
            <p:nvPr/>
          </p:nvSpPr>
          <p:spPr>
            <a:xfrm rot="16215000">
              <a:off x="21312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2273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1978200" y="3218760"/>
            <a:ext cx="252360" cy="3690000"/>
            <a:chOff x="1978200" y="3218760"/>
            <a:chExt cx="252360" cy="3690000"/>
          </a:xfrm>
        </p:grpSpPr>
        <p:sp>
          <p:nvSpPr>
            <p:cNvPr id="997" name=""/>
            <p:cNvSpPr/>
            <p:nvPr/>
          </p:nvSpPr>
          <p:spPr>
            <a:xfrm rot="16215000">
              <a:off x="18820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9782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727280" y="3218760"/>
            <a:ext cx="252360" cy="3690000"/>
            <a:chOff x="1727280" y="3218760"/>
            <a:chExt cx="252360" cy="3690000"/>
          </a:xfrm>
        </p:grpSpPr>
        <p:sp>
          <p:nvSpPr>
            <p:cNvPr id="1000" name=""/>
            <p:cNvSpPr/>
            <p:nvPr/>
          </p:nvSpPr>
          <p:spPr>
            <a:xfrm rot="16215000">
              <a:off x="16311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272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1484280" y="3218760"/>
            <a:ext cx="252360" cy="3690000"/>
            <a:chOff x="1484280" y="3218760"/>
            <a:chExt cx="252360" cy="3690000"/>
          </a:xfrm>
        </p:grpSpPr>
        <p:sp>
          <p:nvSpPr>
            <p:cNvPr id="1003" name=""/>
            <p:cNvSpPr/>
            <p:nvPr/>
          </p:nvSpPr>
          <p:spPr>
            <a:xfrm rot="16215000">
              <a:off x="13881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4842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1235160" y="3218760"/>
            <a:ext cx="252360" cy="3690000"/>
            <a:chOff x="1235160" y="3218760"/>
            <a:chExt cx="252360" cy="3690000"/>
          </a:xfrm>
        </p:grpSpPr>
        <p:sp>
          <p:nvSpPr>
            <p:cNvPr id="1006" name=""/>
            <p:cNvSpPr/>
            <p:nvPr/>
          </p:nvSpPr>
          <p:spPr>
            <a:xfrm rot="16215000">
              <a:off x="11390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2351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982800" y="3218760"/>
            <a:ext cx="252360" cy="3690000"/>
            <a:chOff x="982800" y="3218760"/>
            <a:chExt cx="252360" cy="3690000"/>
          </a:xfrm>
        </p:grpSpPr>
        <p:sp>
          <p:nvSpPr>
            <p:cNvPr id="1009" name=""/>
            <p:cNvSpPr/>
            <p:nvPr/>
          </p:nvSpPr>
          <p:spPr>
            <a:xfrm rot="16215000">
              <a:off x="8866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828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730080" y="3218760"/>
            <a:ext cx="252360" cy="3690000"/>
            <a:chOff x="730080" y="3218760"/>
            <a:chExt cx="252360" cy="3690000"/>
          </a:xfrm>
        </p:grpSpPr>
        <p:sp>
          <p:nvSpPr>
            <p:cNvPr id="1012" name=""/>
            <p:cNvSpPr/>
            <p:nvPr/>
          </p:nvSpPr>
          <p:spPr>
            <a:xfrm rot="16215000">
              <a:off x="6339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00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488880" y="3218760"/>
            <a:ext cx="252360" cy="3690000"/>
            <a:chOff x="488880" y="3218760"/>
            <a:chExt cx="252360" cy="3690000"/>
          </a:xfrm>
        </p:grpSpPr>
        <p:sp>
          <p:nvSpPr>
            <p:cNvPr id="1015" name=""/>
            <p:cNvSpPr/>
            <p:nvPr/>
          </p:nvSpPr>
          <p:spPr>
            <a:xfrm rot="16215000">
              <a:off x="3927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888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239760" y="3218760"/>
            <a:ext cx="252360" cy="3690000"/>
            <a:chOff x="239760" y="3218760"/>
            <a:chExt cx="252360" cy="3690000"/>
          </a:xfrm>
        </p:grpSpPr>
        <p:sp>
          <p:nvSpPr>
            <p:cNvPr id="1018" name=""/>
            <p:cNvSpPr/>
            <p:nvPr/>
          </p:nvSpPr>
          <p:spPr>
            <a:xfrm rot="16215000">
              <a:off x="1436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397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-9360" y="3218760"/>
            <a:ext cx="250560" cy="3690000"/>
            <a:chOff x="-9360" y="3218760"/>
            <a:chExt cx="250560" cy="3690000"/>
          </a:xfrm>
        </p:grpSpPr>
        <p:sp>
          <p:nvSpPr>
            <p:cNvPr id="1021" name=""/>
            <p:cNvSpPr/>
            <p:nvPr/>
          </p:nvSpPr>
          <p:spPr>
            <a:xfrm rot="16215000">
              <a:off x="-106200" y="3328200"/>
              <a:ext cx="360360" cy="14184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-9360" y="3573360"/>
              <a:ext cx="2505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8624880" y="3411360"/>
            <a:ext cx="366120" cy="3598560"/>
            <a:chOff x="8624880" y="3411360"/>
            <a:chExt cx="366120" cy="3598560"/>
          </a:xfrm>
        </p:grpSpPr>
        <p:sp>
          <p:nvSpPr>
            <p:cNvPr id="1024" name=""/>
            <p:cNvSpPr/>
            <p:nvPr/>
          </p:nvSpPr>
          <p:spPr>
            <a:xfrm rot="5400000">
              <a:off x="8662320" y="3376440"/>
              <a:ext cx="2937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624880" y="3649680"/>
              <a:ext cx="363240" cy="33602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8724600" y="-183960"/>
            <a:ext cx="252360" cy="3687480"/>
            <a:chOff x="8724600" y="-183960"/>
            <a:chExt cx="252360" cy="3687480"/>
          </a:xfrm>
        </p:grpSpPr>
        <p:sp>
          <p:nvSpPr>
            <p:cNvPr id="1027" name=""/>
            <p:cNvSpPr/>
            <p:nvPr/>
          </p:nvSpPr>
          <p:spPr>
            <a:xfrm rot="5415000">
              <a:off x="87130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10800000">
              <a:off x="87246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8483400" y="-183960"/>
            <a:ext cx="252360" cy="3687480"/>
            <a:chOff x="8483400" y="-183960"/>
            <a:chExt cx="252360" cy="3687480"/>
          </a:xfrm>
        </p:grpSpPr>
        <p:sp>
          <p:nvSpPr>
            <p:cNvPr id="1030" name=""/>
            <p:cNvSpPr/>
            <p:nvPr/>
          </p:nvSpPr>
          <p:spPr>
            <a:xfrm rot="5415000">
              <a:off x="84718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10800000">
              <a:off x="84834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8233920" y="-183960"/>
            <a:ext cx="252360" cy="3687480"/>
            <a:chOff x="8233920" y="-183960"/>
            <a:chExt cx="252360" cy="3687480"/>
          </a:xfrm>
        </p:grpSpPr>
        <p:sp>
          <p:nvSpPr>
            <p:cNvPr id="1033" name=""/>
            <p:cNvSpPr/>
            <p:nvPr/>
          </p:nvSpPr>
          <p:spPr>
            <a:xfrm rot="5415000">
              <a:off x="82224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0800000">
              <a:off x="82339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7981560" y="-183960"/>
            <a:ext cx="252360" cy="3687480"/>
            <a:chOff x="7981560" y="-183960"/>
            <a:chExt cx="252360" cy="3687480"/>
          </a:xfrm>
        </p:grpSpPr>
        <p:sp>
          <p:nvSpPr>
            <p:cNvPr id="1036" name=""/>
            <p:cNvSpPr/>
            <p:nvPr/>
          </p:nvSpPr>
          <p:spPr>
            <a:xfrm rot="5415000">
              <a:off x="79700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rot="10800000">
              <a:off x="79815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7729200" y="-183960"/>
            <a:ext cx="252360" cy="3687480"/>
            <a:chOff x="7729200" y="-183960"/>
            <a:chExt cx="252360" cy="3687480"/>
          </a:xfrm>
        </p:grpSpPr>
        <p:sp>
          <p:nvSpPr>
            <p:cNvPr id="1039" name=""/>
            <p:cNvSpPr/>
            <p:nvPr/>
          </p:nvSpPr>
          <p:spPr>
            <a:xfrm rot="5415000">
              <a:off x="77176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0800000">
              <a:off x="77292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7488000" y="-183960"/>
            <a:ext cx="252360" cy="3687480"/>
            <a:chOff x="7488000" y="-183960"/>
            <a:chExt cx="252360" cy="3687480"/>
          </a:xfrm>
        </p:grpSpPr>
        <p:sp>
          <p:nvSpPr>
            <p:cNvPr id="1042" name=""/>
            <p:cNvSpPr/>
            <p:nvPr/>
          </p:nvSpPr>
          <p:spPr>
            <a:xfrm rot="5415000">
              <a:off x="74764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rot="10800000">
              <a:off x="74880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7256160" y="-169560"/>
            <a:ext cx="252360" cy="3687840"/>
            <a:chOff x="7256160" y="-169560"/>
            <a:chExt cx="252360" cy="3687840"/>
          </a:xfrm>
        </p:grpSpPr>
        <p:sp>
          <p:nvSpPr>
            <p:cNvPr id="1045" name=""/>
            <p:cNvSpPr/>
            <p:nvPr/>
          </p:nvSpPr>
          <p:spPr>
            <a:xfrm rot="5415000">
              <a:off x="7244280" y="326628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10800000">
              <a:off x="7256160" y="-1695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6969600" y="-169560"/>
            <a:ext cx="286920" cy="3687840"/>
            <a:chOff x="6969600" y="-169560"/>
            <a:chExt cx="286920" cy="3687840"/>
          </a:xfrm>
        </p:grpSpPr>
        <p:sp>
          <p:nvSpPr>
            <p:cNvPr id="1048" name=""/>
            <p:cNvSpPr/>
            <p:nvPr/>
          </p:nvSpPr>
          <p:spPr>
            <a:xfrm rot="5415000">
              <a:off x="6981120" y="3256560"/>
              <a:ext cx="360000" cy="16236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10800000">
              <a:off x="6969600" y="-169560"/>
              <a:ext cx="28692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6733800" y="-183960"/>
            <a:ext cx="252360" cy="3687480"/>
            <a:chOff x="6733800" y="-183960"/>
            <a:chExt cx="252360" cy="3687480"/>
          </a:xfrm>
        </p:grpSpPr>
        <p:sp>
          <p:nvSpPr>
            <p:cNvPr id="1051" name=""/>
            <p:cNvSpPr/>
            <p:nvPr/>
          </p:nvSpPr>
          <p:spPr>
            <a:xfrm rot="5415000">
              <a:off x="67222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10800000">
              <a:off x="67338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6484680" y="-183960"/>
            <a:ext cx="252360" cy="3687480"/>
            <a:chOff x="6484680" y="-183960"/>
            <a:chExt cx="252360" cy="3687480"/>
          </a:xfrm>
        </p:grpSpPr>
        <p:sp>
          <p:nvSpPr>
            <p:cNvPr id="1054" name=""/>
            <p:cNvSpPr/>
            <p:nvPr/>
          </p:nvSpPr>
          <p:spPr>
            <a:xfrm rot="5415000">
              <a:off x="647316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0800000">
              <a:off x="648468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6232320" y="-183960"/>
            <a:ext cx="252360" cy="3687480"/>
            <a:chOff x="6232320" y="-183960"/>
            <a:chExt cx="252360" cy="3687480"/>
          </a:xfrm>
        </p:grpSpPr>
        <p:sp>
          <p:nvSpPr>
            <p:cNvPr id="1057" name=""/>
            <p:cNvSpPr/>
            <p:nvPr/>
          </p:nvSpPr>
          <p:spPr>
            <a:xfrm rot="5415000">
              <a:off x="62208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10800000">
              <a:off x="62323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5980320" y="-183960"/>
            <a:ext cx="252360" cy="3687480"/>
            <a:chOff x="5980320" y="-183960"/>
            <a:chExt cx="252360" cy="3687480"/>
          </a:xfrm>
        </p:grpSpPr>
        <p:sp>
          <p:nvSpPr>
            <p:cNvPr id="1060" name=""/>
            <p:cNvSpPr/>
            <p:nvPr/>
          </p:nvSpPr>
          <p:spPr>
            <a:xfrm rot="5415000">
              <a:off x="59688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10800000">
              <a:off x="59803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5738400" y="-183960"/>
            <a:ext cx="252360" cy="3687480"/>
            <a:chOff x="5738400" y="-183960"/>
            <a:chExt cx="252360" cy="3687480"/>
          </a:xfrm>
        </p:grpSpPr>
        <p:sp>
          <p:nvSpPr>
            <p:cNvPr id="1063" name=""/>
            <p:cNvSpPr/>
            <p:nvPr/>
          </p:nvSpPr>
          <p:spPr>
            <a:xfrm rot="5415000">
              <a:off x="57268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10800000">
              <a:off x="57384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5489280" y="-183960"/>
            <a:ext cx="252360" cy="3687480"/>
            <a:chOff x="5489280" y="-183960"/>
            <a:chExt cx="252360" cy="3687480"/>
          </a:xfrm>
        </p:grpSpPr>
        <p:sp>
          <p:nvSpPr>
            <p:cNvPr id="1066" name=""/>
            <p:cNvSpPr/>
            <p:nvPr/>
          </p:nvSpPr>
          <p:spPr>
            <a:xfrm rot="5415000">
              <a:off x="547776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0800000">
              <a:off x="548928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5256000" y="-183960"/>
            <a:ext cx="252360" cy="3687480"/>
            <a:chOff x="5256000" y="-183960"/>
            <a:chExt cx="252360" cy="3687480"/>
          </a:xfrm>
        </p:grpSpPr>
        <p:sp>
          <p:nvSpPr>
            <p:cNvPr id="1069" name=""/>
            <p:cNvSpPr/>
            <p:nvPr/>
          </p:nvSpPr>
          <p:spPr>
            <a:xfrm rot="5415000">
              <a:off x="52444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0800000">
              <a:off x="52560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001840" y="-183960"/>
            <a:ext cx="252360" cy="3687480"/>
            <a:chOff x="5001840" y="-183960"/>
            <a:chExt cx="252360" cy="3687480"/>
          </a:xfrm>
        </p:grpSpPr>
        <p:sp>
          <p:nvSpPr>
            <p:cNvPr id="1072" name=""/>
            <p:cNvSpPr/>
            <p:nvPr/>
          </p:nvSpPr>
          <p:spPr>
            <a:xfrm rot="5415000">
              <a:off x="49903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0800000">
              <a:off x="50018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4752720" y="-183960"/>
            <a:ext cx="252360" cy="3687480"/>
            <a:chOff x="4752720" y="-183960"/>
            <a:chExt cx="252360" cy="3687480"/>
          </a:xfrm>
        </p:grpSpPr>
        <p:sp>
          <p:nvSpPr>
            <p:cNvPr id="1075" name=""/>
            <p:cNvSpPr/>
            <p:nvPr/>
          </p:nvSpPr>
          <p:spPr>
            <a:xfrm rot="5415000">
              <a:off x="47412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10800000">
              <a:off x="47527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500360" y="-183960"/>
            <a:ext cx="252360" cy="3687480"/>
            <a:chOff x="4500360" y="-183960"/>
            <a:chExt cx="252360" cy="3687480"/>
          </a:xfrm>
        </p:grpSpPr>
        <p:sp>
          <p:nvSpPr>
            <p:cNvPr id="1078" name=""/>
            <p:cNvSpPr/>
            <p:nvPr/>
          </p:nvSpPr>
          <p:spPr>
            <a:xfrm rot="5415000">
              <a:off x="44888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10800000">
              <a:off x="45003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4248360" y="-183960"/>
            <a:ext cx="252360" cy="3687480"/>
            <a:chOff x="4248360" y="-183960"/>
            <a:chExt cx="252360" cy="3687480"/>
          </a:xfrm>
        </p:grpSpPr>
        <p:sp>
          <p:nvSpPr>
            <p:cNvPr id="1081" name=""/>
            <p:cNvSpPr/>
            <p:nvPr/>
          </p:nvSpPr>
          <p:spPr>
            <a:xfrm rot="5415000">
              <a:off x="42368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0800000">
              <a:off x="42483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4006440" y="-183960"/>
            <a:ext cx="252360" cy="3687480"/>
            <a:chOff x="4006440" y="-183960"/>
            <a:chExt cx="252360" cy="3687480"/>
          </a:xfrm>
        </p:grpSpPr>
        <p:sp>
          <p:nvSpPr>
            <p:cNvPr id="1084" name=""/>
            <p:cNvSpPr/>
            <p:nvPr/>
          </p:nvSpPr>
          <p:spPr>
            <a:xfrm rot="5415000">
              <a:off x="39949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0800000">
              <a:off x="40064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3757320" y="-183960"/>
            <a:ext cx="252360" cy="3687480"/>
            <a:chOff x="3757320" y="-183960"/>
            <a:chExt cx="252360" cy="3687480"/>
          </a:xfrm>
        </p:grpSpPr>
        <p:sp>
          <p:nvSpPr>
            <p:cNvPr id="1087" name=""/>
            <p:cNvSpPr/>
            <p:nvPr/>
          </p:nvSpPr>
          <p:spPr>
            <a:xfrm rot="5415000">
              <a:off x="37458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rot="10800000">
              <a:off x="37573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3506400" y="-183960"/>
            <a:ext cx="252360" cy="3687480"/>
            <a:chOff x="3506400" y="-183960"/>
            <a:chExt cx="252360" cy="3687480"/>
          </a:xfrm>
        </p:grpSpPr>
        <p:sp>
          <p:nvSpPr>
            <p:cNvPr id="1090" name=""/>
            <p:cNvSpPr/>
            <p:nvPr/>
          </p:nvSpPr>
          <p:spPr>
            <a:xfrm rot="5415000">
              <a:off x="34948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rot="10800000">
              <a:off x="35064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3265200" y="-183960"/>
            <a:ext cx="252360" cy="3687480"/>
            <a:chOff x="3265200" y="-183960"/>
            <a:chExt cx="252360" cy="3687480"/>
          </a:xfrm>
        </p:grpSpPr>
        <p:sp>
          <p:nvSpPr>
            <p:cNvPr id="1093" name=""/>
            <p:cNvSpPr/>
            <p:nvPr/>
          </p:nvSpPr>
          <p:spPr>
            <a:xfrm rot="5415000">
              <a:off x="32536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0800000">
              <a:off x="32652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3016440" y="-183960"/>
            <a:ext cx="252360" cy="3687480"/>
            <a:chOff x="3016440" y="-183960"/>
            <a:chExt cx="252360" cy="3687480"/>
          </a:xfrm>
        </p:grpSpPr>
        <p:sp>
          <p:nvSpPr>
            <p:cNvPr id="1096" name=""/>
            <p:cNvSpPr/>
            <p:nvPr/>
          </p:nvSpPr>
          <p:spPr>
            <a:xfrm rot="5415000">
              <a:off x="30049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10800000">
              <a:off x="30164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2763360" y="-183960"/>
            <a:ext cx="252360" cy="3687480"/>
            <a:chOff x="2763360" y="-183960"/>
            <a:chExt cx="252360" cy="3687480"/>
          </a:xfrm>
        </p:grpSpPr>
        <p:sp>
          <p:nvSpPr>
            <p:cNvPr id="1099" name=""/>
            <p:cNvSpPr/>
            <p:nvPr/>
          </p:nvSpPr>
          <p:spPr>
            <a:xfrm rot="5415000">
              <a:off x="27518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10800000">
              <a:off x="27633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2511000" y="-183960"/>
            <a:ext cx="252360" cy="3687480"/>
            <a:chOff x="2511000" y="-183960"/>
            <a:chExt cx="252360" cy="3687480"/>
          </a:xfrm>
        </p:grpSpPr>
        <p:sp>
          <p:nvSpPr>
            <p:cNvPr id="1102" name=""/>
            <p:cNvSpPr/>
            <p:nvPr/>
          </p:nvSpPr>
          <p:spPr>
            <a:xfrm rot="5415000">
              <a:off x="24994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10800000">
              <a:off x="25110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2269800" y="-183960"/>
            <a:ext cx="252360" cy="3687480"/>
            <a:chOff x="2269800" y="-183960"/>
            <a:chExt cx="252360" cy="3687480"/>
          </a:xfrm>
        </p:grpSpPr>
        <p:sp>
          <p:nvSpPr>
            <p:cNvPr id="1105" name=""/>
            <p:cNvSpPr/>
            <p:nvPr/>
          </p:nvSpPr>
          <p:spPr>
            <a:xfrm rot="5415000">
              <a:off x="22582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rot="10800000">
              <a:off x="22698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2020680" y="-183960"/>
            <a:ext cx="252360" cy="3687480"/>
            <a:chOff x="2020680" y="-183960"/>
            <a:chExt cx="252360" cy="3687480"/>
          </a:xfrm>
        </p:grpSpPr>
        <p:sp>
          <p:nvSpPr>
            <p:cNvPr id="1108" name=""/>
            <p:cNvSpPr/>
            <p:nvPr/>
          </p:nvSpPr>
          <p:spPr>
            <a:xfrm rot="5415000">
              <a:off x="200916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10800000">
              <a:off x="202068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1769760" y="-183960"/>
            <a:ext cx="252360" cy="3687480"/>
            <a:chOff x="1769760" y="-183960"/>
            <a:chExt cx="252360" cy="3687480"/>
          </a:xfrm>
        </p:grpSpPr>
        <p:sp>
          <p:nvSpPr>
            <p:cNvPr id="1111" name=""/>
            <p:cNvSpPr/>
            <p:nvPr/>
          </p:nvSpPr>
          <p:spPr>
            <a:xfrm rot="5415000">
              <a:off x="17582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10800000">
              <a:off x="17697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1526760" y="-183960"/>
            <a:ext cx="252360" cy="3687480"/>
            <a:chOff x="1526760" y="-183960"/>
            <a:chExt cx="252360" cy="3687480"/>
          </a:xfrm>
        </p:grpSpPr>
        <p:sp>
          <p:nvSpPr>
            <p:cNvPr id="1114" name=""/>
            <p:cNvSpPr/>
            <p:nvPr/>
          </p:nvSpPr>
          <p:spPr>
            <a:xfrm rot="5415000">
              <a:off x="15152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0800000">
              <a:off x="15267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1277640" y="-183960"/>
            <a:ext cx="252360" cy="3687480"/>
            <a:chOff x="1277640" y="-183960"/>
            <a:chExt cx="252360" cy="3687480"/>
          </a:xfrm>
        </p:grpSpPr>
        <p:sp>
          <p:nvSpPr>
            <p:cNvPr id="1117" name=""/>
            <p:cNvSpPr/>
            <p:nvPr/>
          </p:nvSpPr>
          <p:spPr>
            <a:xfrm rot="5415000">
              <a:off x="12661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0800000">
              <a:off x="12776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1025280" y="-183960"/>
            <a:ext cx="252360" cy="3687480"/>
            <a:chOff x="1025280" y="-183960"/>
            <a:chExt cx="252360" cy="3687480"/>
          </a:xfrm>
        </p:grpSpPr>
        <p:sp>
          <p:nvSpPr>
            <p:cNvPr id="1120" name=""/>
            <p:cNvSpPr/>
            <p:nvPr/>
          </p:nvSpPr>
          <p:spPr>
            <a:xfrm rot="5415000">
              <a:off x="101376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10800000">
              <a:off x="102528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772920" y="-183960"/>
            <a:ext cx="252360" cy="3687480"/>
            <a:chOff x="772920" y="-183960"/>
            <a:chExt cx="252360" cy="3687480"/>
          </a:xfrm>
        </p:grpSpPr>
        <p:sp>
          <p:nvSpPr>
            <p:cNvPr id="1123" name=""/>
            <p:cNvSpPr/>
            <p:nvPr/>
          </p:nvSpPr>
          <p:spPr>
            <a:xfrm rot="5415000">
              <a:off x="7614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0800000">
              <a:off x="7729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531360" y="-182160"/>
            <a:ext cx="252360" cy="3687480"/>
            <a:chOff x="531360" y="-182160"/>
            <a:chExt cx="252360" cy="3687480"/>
          </a:xfrm>
        </p:grpSpPr>
        <p:sp>
          <p:nvSpPr>
            <p:cNvPr id="1126" name=""/>
            <p:cNvSpPr/>
            <p:nvPr/>
          </p:nvSpPr>
          <p:spPr>
            <a:xfrm rot="5415000">
              <a:off x="519840" y="32533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0800000">
              <a:off x="531360" y="-1821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228600" y="-183960"/>
            <a:ext cx="328320" cy="3687840"/>
            <a:chOff x="228600" y="-183960"/>
            <a:chExt cx="328320" cy="3687840"/>
          </a:xfrm>
        </p:grpSpPr>
        <p:sp>
          <p:nvSpPr>
            <p:cNvPr id="1129" name=""/>
            <p:cNvSpPr/>
            <p:nvPr/>
          </p:nvSpPr>
          <p:spPr>
            <a:xfrm rot="5415000">
              <a:off x="267480" y="3230280"/>
              <a:ext cx="360000" cy="18576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0800000">
              <a:off x="228600" y="-183960"/>
              <a:ext cx="32832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0" y="-183960"/>
            <a:ext cx="328320" cy="3687840"/>
            <a:chOff x="0" y="-183960"/>
            <a:chExt cx="328320" cy="3687840"/>
          </a:xfrm>
        </p:grpSpPr>
        <p:sp>
          <p:nvSpPr>
            <p:cNvPr id="1132" name=""/>
            <p:cNvSpPr/>
            <p:nvPr/>
          </p:nvSpPr>
          <p:spPr>
            <a:xfrm rot="5415000">
              <a:off x="38880" y="3230280"/>
              <a:ext cx="360000" cy="18576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0800000">
              <a:off x="0" y="-183960"/>
              <a:ext cx="32832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6184080" y="2810520"/>
            <a:ext cx="2795400" cy="1056960"/>
            <a:chOff x="6184080" y="2810520"/>
            <a:chExt cx="2795400" cy="1056960"/>
          </a:xfrm>
        </p:grpSpPr>
        <p:grpSp>
          <p:nvGrpSpPr>
            <p:cNvPr id="1135" name=""/>
            <p:cNvGrpSpPr/>
            <p:nvPr/>
          </p:nvGrpSpPr>
          <p:grpSpPr>
            <a:xfrm>
              <a:off x="7843320" y="3147840"/>
              <a:ext cx="514440" cy="477000"/>
              <a:chOff x="7843320" y="3147840"/>
              <a:chExt cx="514440" cy="477000"/>
            </a:xfrm>
          </p:grpSpPr>
          <p:sp>
            <p:nvSpPr>
              <p:cNvPr id="1136" name=""/>
              <p:cNvSpPr/>
              <p:nvPr/>
            </p:nvSpPr>
            <p:spPr>
              <a:xfrm rot="5317200">
                <a:off x="7867800" y="3134520"/>
                <a:ext cx="465120" cy="503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5317200">
                <a:off x="7867800" y="3134520"/>
                <a:ext cx="465120" cy="503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8" name="未知"/>
            <p:cNvSpPr/>
            <p:nvPr/>
          </p:nvSpPr>
          <p:spPr>
            <a:xfrm rot="5317200">
              <a:off x="8013240" y="2903040"/>
              <a:ext cx="1036440" cy="871560"/>
            </a:xfrm>
            <a:custGeom>
              <a:avLst/>
              <a:gdLst/>
              <a:ahLst/>
              <a:rect l="l" t="t" r="r" b="b"/>
              <a:pathLst>
                <a:path w="1036" h="871">
                  <a:moveTo>
                    <a:pt x="160" y="54"/>
                  </a:moveTo>
                  <a:cubicBezTo>
                    <a:pt x="216" y="51"/>
                    <a:pt x="317" y="80"/>
                    <a:pt x="407" y="82"/>
                  </a:cubicBezTo>
                  <a:cubicBezTo>
                    <a:pt x="497" y="84"/>
                    <a:pt x="617" y="76"/>
                    <a:pt x="699" y="67"/>
                  </a:cubicBezTo>
                  <a:cubicBezTo>
                    <a:pt x="781" y="58"/>
                    <a:pt x="844" y="0"/>
                    <a:pt x="898" y="28"/>
                  </a:cubicBezTo>
                  <a:cubicBezTo>
                    <a:pt x="944" y="36"/>
                    <a:pt x="992" y="78"/>
                    <a:pt x="1013" y="113"/>
                  </a:cubicBezTo>
                  <a:cubicBezTo>
                    <a:pt x="1034" y="148"/>
                    <a:pt x="1036" y="186"/>
                    <a:pt x="1022" y="236"/>
                  </a:cubicBezTo>
                  <a:cubicBezTo>
                    <a:pt x="1027" y="301"/>
                    <a:pt x="931" y="417"/>
                    <a:pt x="931" y="417"/>
                  </a:cubicBezTo>
                  <a:cubicBezTo>
                    <a:pt x="931" y="417"/>
                    <a:pt x="795" y="735"/>
                    <a:pt x="795" y="735"/>
                  </a:cubicBezTo>
                  <a:cubicBezTo>
                    <a:pt x="795" y="735"/>
                    <a:pt x="745" y="812"/>
                    <a:pt x="704" y="825"/>
                  </a:cubicBezTo>
                  <a:cubicBezTo>
                    <a:pt x="663" y="838"/>
                    <a:pt x="583" y="871"/>
                    <a:pt x="523" y="871"/>
                  </a:cubicBezTo>
                  <a:cubicBezTo>
                    <a:pt x="463" y="871"/>
                    <a:pt x="379" y="855"/>
                    <a:pt x="341" y="825"/>
                  </a:cubicBezTo>
                  <a:cubicBezTo>
                    <a:pt x="303" y="795"/>
                    <a:pt x="296" y="689"/>
                    <a:pt x="296" y="689"/>
                  </a:cubicBezTo>
                  <a:cubicBezTo>
                    <a:pt x="296" y="689"/>
                    <a:pt x="48" y="290"/>
                    <a:pt x="24" y="236"/>
                  </a:cubicBezTo>
                  <a:cubicBezTo>
                    <a:pt x="0" y="182"/>
                    <a:pt x="69" y="100"/>
                    <a:pt x="69" y="100"/>
                  </a:cubicBezTo>
                  <a:cubicBezTo>
                    <a:pt x="69" y="100"/>
                    <a:pt x="104" y="57"/>
                    <a:pt x="160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902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未知"/>
            <p:cNvSpPr/>
            <p:nvPr/>
          </p:nvSpPr>
          <p:spPr>
            <a:xfrm rot="5317200">
              <a:off x="8044560" y="2928600"/>
              <a:ext cx="944280" cy="871560"/>
            </a:xfrm>
            <a:custGeom>
              <a:avLst/>
              <a:gdLst/>
              <a:ahLst/>
              <a:rect l="l" t="t" r="r" b="b"/>
              <a:pathLst>
                <a:path w="1036" h="871">
                  <a:moveTo>
                    <a:pt x="160" y="54"/>
                  </a:moveTo>
                  <a:cubicBezTo>
                    <a:pt x="216" y="51"/>
                    <a:pt x="317" y="80"/>
                    <a:pt x="407" y="82"/>
                  </a:cubicBezTo>
                  <a:cubicBezTo>
                    <a:pt x="497" y="84"/>
                    <a:pt x="617" y="76"/>
                    <a:pt x="699" y="67"/>
                  </a:cubicBezTo>
                  <a:cubicBezTo>
                    <a:pt x="781" y="58"/>
                    <a:pt x="844" y="0"/>
                    <a:pt x="898" y="28"/>
                  </a:cubicBezTo>
                  <a:cubicBezTo>
                    <a:pt x="944" y="36"/>
                    <a:pt x="992" y="78"/>
                    <a:pt x="1013" y="113"/>
                  </a:cubicBezTo>
                  <a:cubicBezTo>
                    <a:pt x="1034" y="148"/>
                    <a:pt x="1036" y="186"/>
                    <a:pt x="1022" y="236"/>
                  </a:cubicBezTo>
                  <a:cubicBezTo>
                    <a:pt x="1027" y="301"/>
                    <a:pt x="931" y="417"/>
                    <a:pt x="931" y="417"/>
                  </a:cubicBezTo>
                  <a:cubicBezTo>
                    <a:pt x="931" y="417"/>
                    <a:pt x="795" y="735"/>
                    <a:pt x="795" y="735"/>
                  </a:cubicBezTo>
                  <a:cubicBezTo>
                    <a:pt x="795" y="735"/>
                    <a:pt x="745" y="812"/>
                    <a:pt x="704" y="825"/>
                  </a:cubicBezTo>
                  <a:cubicBezTo>
                    <a:pt x="663" y="838"/>
                    <a:pt x="583" y="871"/>
                    <a:pt x="523" y="871"/>
                  </a:cubicBezTo>
                  <a:cubicBezTo>
                    <a:pt x="463" y="871"/>
                    <a:pt x="379" y="855"/>
                    <a:pt x="341" y="825"/>
                  </a:cubicBezTo>
                  <a:cubicBezTo>
                    <a:pt x="303" y="795"/>
                    <a:pt x="296" y="689"/>
                    <a:pt x="296" y="689"/>
                  </a:cubicBezTo>
                  <a:cubicBezTo>
                    <a:pt x="296" y="689"/>
                    <a:pt x="48" y="290"/>
                    <a:pt x="24" y="236"/>
                  </a:cubicBezTo>
                  <a:cubicBezTo>
                    <a:pt x="0" y="182"/>
                    <a:pt x="69" y="100"/>
                    <a:pt x="69" y="100"/>
                  </a:cubicBezTo>
                  <a:cubicBezTo>
                    <a:pt x="69" y="100"/>
                    <a:pt x="104" y="57"/>
                    <a:pt x="160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>
                    <a:alpha val="0"/>
                  </a:srgbClr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7674120" y="3112920"/>
              <a:ext cx="820440" cy="506880"/>
              <a:chOff x="7674120" y="3112920"/>
              <a:chExt cx="820440" cy="506880"/>
            </a:xfrm>
          </p:grpSpPr>
          <p:sp>
            <p:nvSpPr>
              <p:cNvPr id="1141" name=""/>
              <p:cNvSpPr/>
              <p:nvPr/>
            </p:nvSpPr>
            <p:spPr>
              <a:xfrm rot="21571200">
                <a:off x="7675920" y="3116160"/>
                <a:ext cx="816120" cy="500040"/>
              </a:xfrm>
              <a:prstGeom prst="flowChartDelay">
                <a:avLst/>
              </a:prstGeom>
              <a:noFill/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21571200">
                <a:off x="7750800" y="3169080"/>
                <a:ext cx="663840" cy="393120"/>
              </a:xfrm>
              <a:prstGeom prst="flowChartDelay">
                <a:avLst/>
              </a:prstGeom>
              <a:noFill/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3" name=""/>
            <p:cNvSpPr/>
            <p:nvPr/>
          </p:nvSpPr>
          <p:spPr>
            <a:xfrm rot="5317200">
              <a:off x="8399160" y="2966760"/>
              <a:ext cx="182520" cy="771480"/>
            </a:xfrm>
            <a:custGeom>
              <a:avLst/>
              <a:gdLst>
                <a:gd name="textAreaLeft" fmla="*/ 26640 w 182520"/>
                <a:gd name="textAreaRight" fmla="*/ 155880 w 182520"/>
                <a:gd name="textAreaTop" fmla="*/ 26640 h 771480"/>
                <a:gd name="textAreaBottom" fmla="*/ 744840 h 771480"/>
              </a:gdLst>
              <a:ahLst/>
              <a:rect l="textAreaLeft" t="textAreaTop" r="textAreaRight" b="textAreaBottom"/>
              <a:pathLst>
                <a:path w="21600" h="91162">
                  <a:moveTo>
                    <a:pt x="10800" y="0"/>
                  </a:moveTo>
                  <a:arcTo wR="10800" hR="10800" stAng="16200000" swAng="-5400000"/>
                  <a:lnTo>
                    <a:pt x="0" y="80362"/>
                  </a:lnTo>
                  <a:arcTo wR="10800" hR="10800" stAng="10800000" swAng="-5400000"/>
                  <a:lnTo>
                    <a:pt x="10800" y="911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5317200">
              <a:off x="8445600" y="2958120"/>
              <a:ext cx="90360" cy="725400"/>
            </a:xfrm>
            <a:custGeom>
              <a:avLst/>
              <a:gdLst>
                <a:gd name="textAreaLeft" fmla="*/ 12960 w 90360"/>
                <a:gd name="textAreaRight" fmla="*/ 77400 w 90360"/>
                <a:gd name="textAreaTop" fmla="*/ 12960 h 725400"/>
                <a:gd name="textAreaBottom" fmla="*/ 712440 h 725400"/>
              </a:gdLst>
              <a:ahLst/>
              <a:rect l="textAreaLeft" t="textAreaTop" r="textAreaRight" b="textAreaBottom"/>
              <a:pathLst>
                <a:path w="21600" h="172800">
                  <a:moveTo>
                    <a:pt x="10800" y="0"/>
                  </a:moveTo>
                  <a:arcTo wR="10800" hR="10800" stAng="16200000" swAng="-5400000"/>
                  <a:lnTo>
                    <a:pt x="0" y="162000"/>
                  </a:lnTo>
                  <a:arcTo wR="10800" hR="10800" stAng="10800000" swAng="-5400000"/>
                  <a:lnTo>
                    <a:pt x="10800" y="17280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5" name=""/>
            <p:cNvGrpSpPr/>
            <p:nvPr/>
          </p:nvGrpSpPr>
          <p:grpSpPr>
            <a:xfrm>
              <a:off x="6184080" y="2946960"/>
              <a:ext cx="1751040" cy="818280"/>
              <a:chOff x="6184080" y="2946960"/>
              <a:chExt cx="1751040" cy="818280"/>
            </a:xfrm>
          </p:grpSpPr>
          <p:sp>
            <p:nvSpPr>
              <p:cNvPr id="1146" name="未知"/>
              <p:cNvSpPr/>
              <p:nvPr/>
            </p:nvSpPr>
            <p:spPr>
              <a:xfrm rot="5493600">
                <a:off x="6673680" y="2490840"/>
                <a:ext cx="771480" cy="1730520"/>
              </a:xfrm>
              <a:custGeom>
                <a:avLst/>
                <a:gdLst/>
                <a:ahLst/>
                <a:rect l="l" t="t" r="r" b="b"/>
                <a:pathLst>
                  <a:path w="772" h="1730">
                    <a:moveTo>
                      <a:pt x="228" y="363"/>
                    </a:moveTo>
                    <a:lnTo>
                      <a:pt x="228" y="0"/>
                    </a:lnTo>
                    <a:lnTo>
                      <a:pt x="545" y="0"/>
                    </a:lnTo>
                    <a:lnTo>
                      <a:pt x="545" y="363"/>
                    </a:lnTo>
                    <a:lnTo>
                      <a:pt x="681" y="363"/>
                    </a:lnTo>
                    <a:lnTo>
                      <a:pt x="772" y="1315"/>
                    </a:lnTo>
                    <a:cubicBezTo>
                      <a:pt x="727" y="1542"/>
                      <a:pt x="538" y="1713"/>
                      <a:pt x="409" y="1723"/>
                    </a:cubicBezTo>
                    <a:cubicBezTo>
                      <a:pt x="273" y="1730"/>
                      <a:pt x="54" y="1602"/>
                      <a:pt x="0" y="1377"/>
                    </a:cubicBezTo>
                    <a:lnTo>
                      <a:pt x="85" y="371"/>
                    </a:lnTo>
                    <a:lnTo>
                      <a:pt x="228" y="363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未知"/>
              <p:cNvSpPr/>
              <p:nvPr/>
            </p:nvSpPr>
            <p:spPr>
              <a:xfrm rot="5493600">
                <a:off x="6796080" y="3050640"/>
                <a:ext cx="590760" cy="612720"/>
              </a:xfrm>
              <a:custGeom>
                <a:avLst/>
                <a:gdLst/>
                <a:ahLst/>
                <a:rect l="l" t="t" r="r" b="b"/>
                <a:pathLst>
                  <a:path w="590" h="612">
                    <a:moveTo>
                      <a:pt x="91" y="0"/>
                    </a:moveTo>
                    <a:lnTo>
                      <a:pt x="499" y="0"/>
                    </a:lnTo>
                    <a:lnTo>
                      <a:pt x="590" y="544"/>
                    </a:lnTo>
                    <a:cubicBezTo>
                      <a:pt x="552" y="612"/>
                      <a:pt x="525" y="405"/>
                      <a:pt x="273" y="408"/>
                    </a:cubicBezTo>
                    <a:cubicBezTo>
                      <a:pt x="21" y="411"/>
                      <a:pt x="30" y="612"/>
                      <a:pt x="0" y="544"/>
                    </a:cubicBez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5493600">
                <a:off x="6283800" y="3018240"/>
                <a:ext cx="634680" cy="635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Arial"/>
                  </a:rPr>
                  <a:t>乐子吴吞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Arial"/>
                  </a:rPr>
                  <a:t>制作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"/>
          <p:cNvSpPr/>
          <p:nvPr/>
        </p:nvSpPr>
        <p:spPr>
          <a:xfrm>
            <a:off x="1909800" y="666720"/>
            <a:ext cx="160200" cy="169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406600" y="650880"/>
            <a:ext cx="160560" cy="169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71800" y="469800"/>
            <a:ext cx="320400" cy="341280"/>
            <a:chOff x="2071800" y="469800"/>
            <a:chExt cx="320400" cy="341280"/>
          </a:xfrm>
        </p:grpSpPr>
        <p:sp>
          <p:nvSpPr>
            <p:cNvPr id="1152" name=""/>
            <p:cNvSpPr/>
            <p:nvPr/>
          </p:nvSpPr>
          <p:spPr>
            <a:xfrm flipH="1">
              <a:off x="2071800" y="640440"/>
              <a:ext cx="160560" cy="170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231640" y="469800"/>
              <a:ext cx="160560" cy="170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2081160" y="479520"/>
            <a:ext cx="320760" cy="341280"/>
            <a:chOff x="2081160" y="479520"/>
            <a:chExt cx="320760" cy="341280"/>
          </a:xfrm>
        </p:grpSpPr>
        <p:sp>
          <p:nvSpPr>
            <p:cNvPr id="1155" name=""/>
            <p:cNvSpPr/>
            <p:nvPr/>
          </p:nvSpPr>
          <p:spPr>
            <a:xfrm>
              <a:off x="2241720" y="650160"/>
              <a:ext cx="160200" cy="170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081160" y="479520"/>
              <a:ext cx="160200" cy="170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1712880" y="254160"/>
            <a:ext cx="720720" cy="574560"/>
          </a:xfrm>
          <a:custGeom>
            <a:avLst/>
            <a:gdLst>
              <a:gd name="textAreaLeft" fmla="*/ 169200 w 720720"/>
              <a:gd name="textAreaRight" fmla="*/ 550800 w 720720"/>
              <a:gd name="textAreaTop" fmla="*/ 67320 h 574560"/>
              <a:gd name="textAreaBottom" fmla="*/ 360360 h 574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未知"/>
          <p:cNvSpPr/>
          <p:nvPr/>
        </p:nvSpPr>
        <p:spPr>
          <a:xfrm>
            <a:off x="1735200" y="254160"/>
            <a:ext cx="714240" cy="217440"/>
          </a:xfrm>
          <a:custGeom>
            <a:avLst/>
            <a:gdLst/>
            <a:ahLst/>
            <a:rect l="l" t="t" r="r" b="b"/>
            <a:pathLst>
              <a:path w="1617" h="464">
                <a:moveTo>
                  <a:pt x="48" y="455"/>
                </a:moveTo>
                <a:lnTo>
                  <a:pt x="0" y="325"/>
                </a:lnTo>
                <a:lnTo>
                  <a:pt x="6" y="235"/>
                </a:lnTo>
                <a:lnTo>
                  <a:pt x="53" y="159"/>
                </a:lnTo>
                <a:lnTo>
                  <a:pt x="126" y="82"/>
                </a:lnTo>
                <a:lnTo>
                  <a:pt x="232" y="35"/>
                </a:lnTo>
                <a:lnTo>
                  <a:pt x="318" y="10"/>
                </a:lnTo>
                <a:lnTo>
                  <a:pt x="356" y="2"/>
                </a:lnTo>
                <a:lnTo>
                  <a:pt x="425" y="3"/>
                </a:lnTo>
                <a:lnTo>
                  <a:pt x="498" y="6"/>
                </a:lnTo>
                <a:lnTo>
                  <a:pt x="553" y="10"/>
                </a:lnTo>
                <a:lnTo>
                  <a:pt x="626" y="30"/>
                </a:lnTo>
                <a:lnTo>
                  <a:pt x="677" y="43"/>
                </a:lnTo>
                <a:lnTo>
                  <a:pt x="759" y="92"/>
                </a:lnTo>
                <a:lnTo>
                  <a:pt x="808" y="123"/>
                </a:lnTo>
                <a:lnTo>
                  <a:pt x="886" y="72"/>
                </a:lnTo>
                <a:lnTo>
                  <a:pt x="948" y="43"/>
                </a:lnTo>
                <a:lnTo>
                  <a:pt x="1034" y="13"/>
                </a:lnTo>
                <a:lnTo>
                  <a:pt x="1158" y="0"/>
                </a:lnTo>
                <a:lnTo>
                  <a:pt x="1276" y="9"/>
                </a:lnTo>
                <a:lnTo>
                  <a:pt x="1393" y="37"/>
                </a:lnTo>
                <a:lnTo>
                  <a:pt x="1486" y="84"/>
                </a:lnTo>
                <a:lnTo>
                  <a:pt x="1535" y="133"/>
                </a:lnTo>
                <a:lnTo>
                  <a:pt x="1579" y="181"/>
                </a:lnTo>
                <a:lnTo>
                  <a:pt x="1615" y="241"/>
                </a:lnTo>
                <a:lnTo>
                  <a:pt x="1617" y="298"/>
                </a:lnTo>
                <a:lnTo>
                  <a:pt x="1613" y="339"/>
                </a:lnTo>
                <a:lnTo>
                  <a:pt x="1583" y="418"/>
                </a:lnTo>
                <a:lnTo>
                  <a:pt x="1559" y="46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未知"/>
          <p:cNvSpPr/>
          <p:nvPr/>
        </p:nvSpPr>
        <p:spPr>
          <a:xfrm>
            <a:off x="2071800" y="254160"/>
            <a:ext cx="714240" cy="217440"/>
          </a:xfrm>
          <a:custGeom>
            <a:avLst/>
            <a:gdLst/>
            <a:ahLst/>
            <a:rect l="l" t="t" r="r" b="b"/>
            <a:pathLst>
              <a:path w="1617" h="464">
                <a:moveTo>
                  <a:pt x="48" y="455"/>
                </a:moveTo>
                <a:lnTo>
                  <a:pt x="0" y="325"/>
                </a:lnTo>
                <a:lnTo>
                  <a:pt x="6" y="235"/>
                </a:lnTo>
                <a:lnTo>
                  <a:pt x="53" y="159"/>
                </a:lnTo>
                <a:lnTo>
                  <a:pt x="126" y="82"/>
                </a:lnTo>
                <a:lnTo>
                  <a:pt x="232" y="35"/>
                </a:lnTo>
                <a:lnTo>
                  <a:pt x="318" y="10"/>
                </a:lnTo>
                <a:lnTo>
                  <a:pt x="356" y="2"/>
                </a:lnTo>
                <a:lnTo>
                  <a:pt x="425" y="3"/>
                </a:lnTo>
                <a:lnTo>
                  <a:pt x="498" y="6"/>
                </a:lnTo>
                <a:lnTo>
                  <a:pt x="553" y="10"/>
                </a:lnTo>
                <a:lnTo>
                  <a:pt x="626" y="30"/>
                </a:lnTo>
                <a:lnTo>
                  <a:pt x="677" y="43"/>
                </a:lnTo>
                <a:lnTo>
                  <a:pt x="759" y="92"/>
                </a:lnTo>
                <a:lnTo>
                  <a:pt x="808" y="123"/>
                </a:lnTo>
                <a:lnTo>
                  <a:pt x="886" y="72"/>
                </a:lnTo>
                <a:lnTo>
                  <a:pt x="948" y="43"/>
                </a:lnTo>
                <a:lnTo>
                  <a:pt x="1034" y="13"/>
                </a:lnTo>
                <a:lnTo>
                  <a:pt x="1158" y="0"/>
                </a:lnTo>
                <a:lnTo>
                  <a:pt x="1276" y="9"/>
                </a:lnTo>
                <a:lnTo>
                  <a:pt x="1393" y="37"/>
                </a:lnTo>
                <a:lnTo>
                  <a:pt x="1486" y="84"/>
                </a:lnTo>
                <a:lnTo>
                  <a:pt x="1535" y="133"/>
                </a:lnTo>
                <a:lnTo>
                  <a:pt x="1579" y="181"/>
                </a:lnTo>
                <a:lnTo>
                  <a:pt x="1615" y="241"/>
                </a:lnTo>
                <a:lnTo>
                  <a:pt x="1617" y="298"/>
                </a:lnTo>
                <a:lnTo>
                  <a:pt x="1613" y="339"/>
                </a:lnTo>
                <a:lnTo>
                  <a:pt x="1583" y="418"/>
                </a:lnTo>
                <a:lnTo>
                  <a:pt x="1559" y="46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未知"/>
          <p:cNvSpPr/>
          <p:nvPr/>
        </p:nvSpPr>
        <p:spPr>
          <a:xfrm>
            <a:off x="1916280" y="247680"/>
            <a:ext cx="714240" cy="217440"/>
          </a:xfrm>
          <a:custGeom>
            <a:avLst/>
            <a:gdLst/>
            <a:ahLst/>
            <a:rect l="l" t="t" r="r" b="b"/>
            <a:pathLst>
              <a:path w="1617" h="464">
                <a:moveTo>
                  <a:pt x="48" y="455"/>
                </a:moveTo>
                <a:lnTo>
                  <a:pt x="0" y="325"/>
                </a:lnTo>
                <a:lnTo>
                  <a:pt x="6" y="235"/>
                </a:lnTo>
                <a:lnTo>
                  <a:pt x="53" y="159"/>
                </a:lnTo>
                <a:lnTo>
                  <a:pt x="126" y="82"/>
                </a:lnTo>
                <a:lnTo>
                  <a:pt x="232" y="35"/>
                </a:lnTo>
                <a:lnTo>
                  <a:pt x="318" y="10"/>
                </a:lnTo>
                <a:lnTo>
                  <a:pt x="356" y="2"/>
                </a:lnTo>
                <a:lnTo>
                  <a:pt x="425" y="3"/>
                </a:lnTo>
                <a:lnTo>
                  <a:pt x="498" y="6"/>
                </a:lnTo>
                <a:lnTo>
                  <a:pt x="553" y="10"/>
                </a:lnTo>
                <a:lnTo>
                  <a:pt x="626" y="30"/>
                </a:lnTo>
                <a:lnTo>
                  <a:pt x="677" y="43"/>
                </a:lnTo>
                <a:lnTo>
                  <a:pt x="759" y="92"/>
                </a:lnTo>
                <a:lnTo>
                  <a:pt x="808" y="123"/>
                </a:lnTo>
                <a:lnTo>
                  <a:pt x="886" y="72"/>
                </a:lnTo>
                <a:lnTo>
                  <a:pt x="948" y="43"/>
                </a:lnTo>
                <a:lnTo>
                  <a:pt x="1034" y="13"/>
                </a:lnTo>
                <a:lnTo>
                  <a:pt x="1158" y="0"/>
                </a:lnTo>
                <a:lnTo>
                  <a:pt x="1276" y="9"/>
                </a:lnTo>
                <a:lnTo>
                  <a:pt x="1393" y="37"/>
                </a:lnTo>
                <a:lnTo>
                  <a:pt x="1486" y="84"/>
                </a:lnTo>
                <a:lnTo>
                  <a:pt x="1535" y="133"/>
                </a:lnTo>
                <a:lnTo>
                  <a:pt x="1579" y="181"/>
                </a:lnTo>
                <a:lnTo>
                  <a:pt x="1615" y="241"/>
                </a:lnTo>
                <a:lnTo>
                  <a:pt x="1617" y="298"/>
                </a:lnTo>
                <a:lnTo>
                  <a:pt x="1613" y="339"/>
                </a:lnTo>
                <a:lnTo>
                  <a:pt x="1583" y="418"/>
                </a:lnTo>
                <a:lnTo>
                  <a:pt x="1559" y="46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071800" y="254160"/>
            <a:ext cx="720720" cy="574560"/>
          </a:xfrm>
          <a:custGeom>
            <a:avLst/>
            <a:gdLst>
              <a:gd name="textAreaLeft" fmla="*/ 169200 w 720720"/>
              <a:gd name="textAreaRight" fmla="*/ 550800 w 720720"/>
              <a:gd name="textAreaTop" fmla="*/ 67320 h 574560"/>
              <a:gd name="textAreaBottom" fmla="*/ 360360 h 574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87283E-006 L -1.0158 0.02104 E">
                                      <p:cBhvr>
                                        <p:cTn id="6" dur="80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02312E-006 L -0.96893 0.02197 E">
                                      <p:cBhvr>
                                        <p:cTn id="8" dur="8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44444E-006 -0.01434 L -4.44444E-006 0.31869 E">
                                      <p:cBhvr>
                                        <p:cTn id="10" dur="3000" fill="hold"/>
                                        <p:tgtEl>
                                          <p:spTgt spid="10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2" dur="3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4" dur="30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6" dur="3000" fill="hold"/>
                                        <p:tgtEl>
                                          <p:spTgt spid="10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8" dur="3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0" dur="3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2" dur="3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4" dur="3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6" dur="3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8" dur="3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0" dur="3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2" dur="3000" fill="hold"/>
                                        <p:tgtEl>
                                          <p:spTgt spid="10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4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4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8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40" dur="3000" fill="hold"/>
                                        <p:tgtEl>
                                          <p:spTgt spid="10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2" dur="30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4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44" dur="3000" fill="hold"/>
                                        <p:tgtEl>
                                          <p:spTgt spid="1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6" dur="30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48" dur="3000" fill="hold"/>
                                        <p:tgtEl>
                                          <p:spTgt spid="10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0" dur="3000" fill="hold"/>
                                        <p:tgtEl>
                                          <p:spTgt spid="9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2" dur="3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4" dur="3000" fill="hold"/>
                                        <p:tgtEl>
                                          <p:spTgt spid="9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6" dur="3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8" dur="3000" fill="hold"/>
                                        <p:tgtEl>
                                          <p:spTgt spid="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4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0" dur="3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2" dur="3000" fill="hold"/>
                                        <p:tgtEl>
                                          <p:spTgt spid="9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4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4" dur="3000" fill="hold"/>
                                        <p:tgtEl>
                                          <p:spTgt spid="10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2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6" dur="3000" fill="hold"/>
                                        <p:tgtEl>
                                          <p:spTgt spid="9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4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8" dur="3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2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70" dur="3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64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72" dur="3000" fill="hold"/>
                                        <p:tgtEl>
                                          <p:spTgt spid="10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74" dur="3000" fill="hold"/>
                                        <p:tgtEl>
                                          <p:spTgt spid="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4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76" dur="3000" fill="hold"/>
                                        <p:tgtEl>
                                          <p:spTgt spid="1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78" dur="3000" fill="hold"/>
                                        <p:tgtEl>
                                          <p:spTgt spid="9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4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80" dur="3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42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2" dur="3000" fill="hold"/>
                                        <p:tgtEl>
                                          <p:spTgt spid="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4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84" dur="3000" fill="hold"/>
                                        <p:tgtEl>
                                          <p:spTgt spid="1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42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6" dur="3000" fill="hold"/>
                                        <p:tgtEl>
                                          <p:spTgt spid="9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4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88" dur="3000" fill="hold"/>
                                        <p:tgtEl>
                                          <p:spTgt spid="10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0" dur="3000" fill="hold"/>
                                        <p:tgtEl>
                                          <p:spTgt spid="9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4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2" dur="3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4" dur="3000" fill="hold"/>
                                        <p:tgtEl>
                                          <p:spTgt spid="9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4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6" dur="3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8" dur="3000" fill="hold"/>
                                        <p:tgtEl>
                                          <p:spTgt spid="9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4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00" dur="3000" fill="hold"/>
                                        <p:tgtEl>
                                          <p:spTgt spid="10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2" dur="3000" fill="hold"/>
                                        <p:tgtEl>
                                          <p:spTgt spid="9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64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04" dur="3000" fill="hold"/>
                                        <p:tgtEl>
                                          <p:spTgt spid="10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2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6" dur="3000" fill="hold"/>
                                        <p:tgtEl>
                                          <p:spTgt spid="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4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08" dur="3000" fill="hold"/>
                                        <p:tgtEl>
                                          <p:spTgt spid="10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2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10" dur="3000" fill="hold"/>
                                        <p:tgtEl>
                                          <p:spTgt spid="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64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12" dur="3000" fill="hold"/>
                                        <p:tgtEl>
                                          <p:spTgt spid="1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14" dur="3000" fill="hold"/>
                                        <p:tgtEl>
                                          <p:spTgt spid="9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64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16" dur="3000" fill="hold"/>
                                        <p:tgtEl>
                                          <p:spTgt spid="1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18" dur="3000" fill="hold"/>
                                        <p:tgtEl>
                                          <p:spTgt spid="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64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20" dur="3000" fill="hold"/>
                                        <p:tgtEl>
                                          <p:spTgt spid="1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22" dur="3000" fill="hold"/>
                                        <p:tgtEl>
                                          <p:spTgt spid="9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64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24" dur="3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2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26" dur="3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64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28" dur="3000" fill="hold"/>
                                        <p:tgtEl>
                                          <p:spTgt spid="1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42">
                                  <p:stCondLst>
                                    <p:cond delay="6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30" dur="3000" fill="hold"/>
                                        <p:tgtEl>
                                          <p:spTgt spid="10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64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32" dur="3000" fill="hold"/>
                                        <p:tgtEl>
                                          <p:spTgt spid="1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42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34" dur="3000" fill="hold"/>
                                        <p:tgtEl>
                                          <p:spTgt spid="10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64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36" dur="3000" fill="hold"/>
                                        <p:tgtEl>
                                          <p:spTgt spid="1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38" dur="3000" fill="hold"/>
                                        <p:tgtEl>
                                          <p:spTgt spid="10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64">
                                  <p:stCondLst>
                                    <p:cond delay="6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40" dur="3000" fill="hold"/>
                                        <p:tgtEl>
                                          <p:spTgt spid="1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42" dur="3000" fill="hold"/>
                                        <p:tgtEl>
                                          <p:spTgt spid="10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64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5E-006 1.68363E-006 L 5E-006 -0.33303 E">
                                      <p:cBhvr>
                                        <p:cTn id="144" dur="3000" fill="hold"/>
                                        <p:tgtEl>
                                          <p:spTgt spid="1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46" dur="3000" fill="hold"/>
                                        <p:tgtEl>
                                          <p:spTgt spid="10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48" dur="3000" fill="hold"/>
                                        <p:tgtEl>
                                          <p:spTgt spid="1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50" dur="3000" fill="hold"/>
                                        <p:tgtEl>
                                          <p:spTgt spid="1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64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52" dur="3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42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54" dur="3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2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2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200"/>
                            </p:stCondLst>
                            <p:childTnLst>
                              <p:par>
                                <p:cTn id="1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0.02153 -0.00509 E">
                                      <p:cBhvr>
                                        <p:cTn id="183" dur="500" fill="hold"/>
                                        <p:tgtEl>
                                          <p:spTgt spid="1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0116 L -0.01563 -0.00602 E">
                                      <p:cBhvr>
                                        <p:cTn id="185" dur="500" fill="hold"/>
                                        <p:tgtEl>
                                          <p:spTgt spid="1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47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701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95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500" fill="hold"/>
                                        <p:tgtEl>
                                          <p:spTgt spid="116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7E0-A384-4919-B08D-46F732E298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9T06:25:58Z</dcterms:created>
  <dc:creator/>
  <dc:description/>
  <dc:language>en-US</dc:language>
  <cp:lastModifiedBy>user</cp:lastModifiedBy>
  <dcterms:modified xsi:type="dcterms:W3CDTF">2015-06-12T15:12:2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Version">
    <vt:r8>1</vt:r8>
  </property>
</Properties>
</file>