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629-B967-41BE-86E3-67D178F5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348-C7C5-4853-8AD2-3D54818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10F-7676-4596-BA47-B3C6B102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940-0036-41BA-9BB8-7D726499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B11-9389-4465-BCF9-92A2CC72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D89-F7B7-4E9D-8905-1237911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DDF-E5B3-4E91-8F6F-F3161C8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3D7-CFE2-46B2-B873-5262C47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F24-F83E-4027-90CF-0FB24E35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DD2-27CF-4C2C-B5C2-9EB1CB3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64A-5A77-45A8-B5D4-B2E7B3F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307-33AC-40F1-BA33-C54F1C2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C6E-3041-4239-9948-429DC67837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7FD5-BFAD-4B4C-AC79-4AD039A57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9"/>
          <p:cNvSpPr/>
          <p:nvPr/>
        </p:nvSpPr>
        <p:spPr>
          <a:xfrm>
            <a:off x="4645080" y="2782800"/>
            <a:ext cx="822240" cy="174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添加标题</a:t>
            </a:r>
            <a:r>
              <a:rPr b="1" lang="en-US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9"/>
          <p:cNvSpPr/>
          <p:nvPr/>
        </p:nvSpPr>
        <p:spPr>
          <a:xfrm>
            <a:off x="3713040" y="2782800"/>
            <a:ext cx="824040" cy="174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添加标题</a:t>
            </a:r>
            <a:r>
              <a:rPr b="1" lang="en-US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2822400" y="1679400"/>
            <a:ext cx="3516480" cy="3943440"/>
            <a:chOff x="2822400" y="1679400"/>
            <a:chExt cx="3516480" cy="3943440"/>
          </a:xfrm>
        </p:grpSpPr>
        <p:grpSp>
          <p:nvGrpSpPr>
            <p:cNvPr id="44" name="组合 4"/>
            <p:cNvGrpSpPr/>
            <p:nvPr/>
          </p:nvGrpSpPr>
          <p:grpSpPr>
            <a:xfrm>
              <a:off x="2822400" y="1679400"/>
              <a:ext cx="3516480" cy="3943440"/>
              <a:chOff x="2822400" y="1679400"/>
              <a:chExt cx="3516480" cy="3943440"/>
            </a:xfrm>
          </p:grpSpPr>
          <p:grpSp>
            <p:nvGrpSpPr>
              <p:cNvPr id="45" name="组合 21"/>
              <p:cNvGrpSpPr/>
              <p:nvPr/>
            </p:nvGrpSpPr>
            <p:grpSpPr>
              <a:xfrm>
                <a:off x="2822400" y="1679400"/>
                <a:ext cx="3516480" cy="3943440"/>
                <a:chOff x="2822400" y="1679400"/>
                <a:chExt cx="3516480" cy="3943440"/>
              </a:xfrm>
            </p:grpSpPr>
            <p:sp>
              <p:nvSpPr>
                <p:cNvPr id="46" name="空心弧 2"/>
                <p:cNvSpPr/>
                <p:nvPr/>
              </p:nvSpPr>
              <p:spPr>
                <a:xfrm>
                  <a:off x="2822400" y="1679400"/>
                  <a:ext cx="2175120" cy="370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空心弧 2"/>
                <p:cNvSpPr/>
                <p:nvPr/>
              </p:nvSpPr>
              <p:spPr>
                <a:xfrm rot="10800000">
                  <a:off x="4163760" y="1920600"/>
                  <a:ext cx="2175120" cy="370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b">
                  <a:noAutofit/>
                </a:bodyPr>
                <a:p>
                  <a:pPr algn="ctr">
                    <a:lnSpc>
                      <a:spcPct val="120000"/>
                    </a:lnSpc>
                    <a:spcBef>
                      <a:spcPts val="601"/>
                    </a:spcBef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矩形 7"/>
              <p:cNvSpPr/>
              <p:nvPr/>
            </p:nvSpPr>
            <p:spPr>
              <a:xfrm rot="6000000">
                <a:off x="3213720" y="2247840"/>
                <a:ext cx="2750040" cy="27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9f9f9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f9f9f9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矩形 5"/>
            <p:cNvSpPr/>
            <p:nvPr/>
          </p:nvSpPr>
          <p:spPr>
            <a:xfrm rot="16800000">
              <a:off x="3214440" y="2247840"/>
              <a:ext cx="275004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8"/>
          <p:cNvGrpSpPr/>
          <p:nvPr/>
        </p:nvGrpSpPr>
        <p:grpSpPr>
          <a:xfrm>
            <a:off x="1690560" y="1079640"/>
            <a:ext cx="5764320" cy="4698720"/>
            <a:chOff x="1690560" y="1079640"/>
            <a:chExt cx="5764320" cy="4698720"/>
          </a:xfrm>
        </p:grpSpPr>
        <p:sp>
          <p:nvSpPr>
            <p:cNvPr id="235" name="Oval 3"/>
            <p:cNvSpPr/>
            <p:nvPr/>
          </p:nvSpPr>
          <p:spPr>
            <a:xfrm flipV="1" rot="10800000">
              <a:off x="1690560" y="5211720"/>
              <a:ext cx="5764320" cy="5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4581000" y="1079640"/>
              <a:ext cx="224280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2627640" y="3320280"/>
              <a:ext cx="3885840" cy="222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2321640" y="1081440"/>
              <a:ext cx="225504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 rot="6300000">
              <a:off x="2703600" y="397800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 rot="13500000">
              <a:off x="4327920" y="120348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"/>
            <p:cNvSpPr/>
            <p:nvPr/>
          </p:nvSpPr>
          <p:spPr>
            <a:xfrm rot="20700000">
              <a:off x="5944320" y="399024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2812320" y="1540440"/>
              <a:ext cx="3561480" cy="3555000"/>
              <a:chOff x="2812320" y="1540440"/>
              <a:chExt cx="3561480" cy="3555000"/>
            </a:xfrm>
          </p:grpSpPr>
          <p:sp>
            <p:nvSpPr>
              <p:cNvPr id="243" name="Oval 11"/>
              <p:cNvSpPr/>
              <p:nvPr/>
            </p:nvSpPr>
            <p:spPr>
              <a:xfrm rot="649800">
                <a:off x="3070440" y="1799280"/>
                <a:ext cx="3045240" cy="30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2"/>
              <p:cNvSpPr/>
              <p:nvPr/>
            </p:nvSpPr>
            <p:spPr>
              <a:xfrm rot="649800">
                <a:off x="3241800" y="1965240"/>
                <a:ext cx="2702160" cy="2704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67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WordArt 13"/>
            <p:cNvSpPr/>
            <p:nvPr/>
          </p:nvSpPr>
          <p:spPr>
            <a:xfrm rot="3535800">
              <a:off x="5603400" y="238932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WordArt 14"/>
            <p:cNvSpPr/>
            <p:nvPr/>
          </p:nvSpPr>
          <p:spPr>
            <a:xfrm rot="18000000">
              <a:off x="2503440" y="238896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5"/>
            <p:cNvSpPr/>
            <p:nvPr/>
          </p:nvSpPr>
          <p:spPr>
            <a:xfrm>
              <a:off x="3999600" y="493020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-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3455280" y="2010600"/>
              <a:ext cx="2265480" cy="108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WordArt 17"/>
            <p:cNvSpPr/>
            <p:nvPr/>
          </p:nvSpPr>
          <p:spPr>
            <a:xfrm>
              <a:off x="3983040" y="3034800"/>
              <a:ext cx="1249560" cy="62064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1"/>
          <p:cNvGrpSpPr/>
          <p:nvPr/>
        </p:nvGrpSpPr>
        <p:grpSpPr>
          <a:xfrm>
            <a:off x="2771640" y="1901880"/>
            <a:ext cx="1941840" cy="2662200"/>
            <a:chOff x="2771640" y="1901880"/>
            <a:chExt cx="1941840" cy="2662200"/>
          </a:xfrm>
        </p:grpSpPr>
        <p:sp>
          <p:nvSpPr>
            <p:cNvPr id="251" name="Freeform 8"/>
            <p:cNvSpPr/>
            <p:nvPr/>
          </p:nvSpPr>
          <p:spPr>
            <a:xfrm>
              <a:off x="2792520" y="1901880"/>
              <a:ext cx="1776240" cy="266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"/>
            <p:cNvSpPr/>
            <p:nvPr/>
          </p:nvSpPr>
          <p:spPr>
            <a:xfrm rot="18774000">
              <a:off x="2842200" y="2523600"/>
              <a:ext cx="18003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"/>
          <p:cNvGrpSpPr/>
          <p:nvPr/>
        </p:nvGrpSpPr>
        <p:grpSpPr>
          <a:xfrm>
            <a:off x="4576680" y="1905120"/>
            <a:ext cx="1783440" cy="2663640"/>
            <a:chOff x="4576680" y="1905120"/>
            <a:chExt cx="1783440" cy="2663640"/>
          </a:xfrm>
        </p:grpSpPr>
        <p:sp>
          <p:nvSpPr>
            <p:cNvPr id="254" name="Freeform 9"/>
            <p:cNvSpPr/>
            <p:nvPr/>
          </p:nvSpPr>
          <p:spPr>
            <a:xfrm>
              <a:off x="4576680" y="1905120"/>
              <a:ext cx="1773360" cy="266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"/>
            <p:cNvSpPr/>
            <p:nvPr/>
          </p:nvSpPr>
          <p:spPr>
            <a:xfrm rot="4009200">
              <a:off x="4656240" y="2718360"/>
              <a:ext cx="18000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7"/>
          <p:cNvGrpSpPr/>
          <p:nvPr/>
        </p:nvGrpSpPr>
        <p:grpSpPr>
          <a:xfrm>
            <a:off x="3033720" y="4106880"/>
            <a:ext cx="3078000" cy="1353960"/>
            <a:chOff x="3033720" y="4106880"/>
            <a:chExt cx="3078000" cy="1353960"/>
          </a:xfrm>
        </p:grpSpPr>
        <p:sp>
          <p:nvSpPr>
            <p:cNvPr id="257" name="Freeform 10"/>
            <p:cNvSpPr/>
            <p:nvPr/>
          </p:nvSpPr>
          <p:spPr>
            <a:xfrm>
              <a:off x="3033720" y="4106880"/>
              <a:ext cx="3078000" cy="1353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9"/>
            <p:cNvSpPr/>
            <p:nvPr/>
          </p:nvSpPr>
          <p:spPr>
            <a:xfrm rot="11160000">
              <a:off x="3589200" y="4312440"/>
              <a:ext cx="18000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Oval 19"/>
          <p:cNvSpPr/>
          <p:nvPr/>
        </p:nvSpPr>
        <p:spPr>
          <a:xfrm>
            <a:off x="3711600" y="2860560"/>
            <a:ext cx="1685880" cy="168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7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"/>
          <p:cNvGrpSpPr/>
          <p:nvPr/>
        </p:nvGrpSpPr>
        <p:grpSpPr>
          <a:xfrm>
            <a:off x="2733840" y="1587600"/>
            <a:ext cx="3678120" cy="3682800"/>
            <a:chOff x="2733840" y="1587600"/>
            <a:chExt cx="3678120" cy="3682800"/>
          </a:xfrm>
        </p:grpSpPr>
        <p:sp>
          <p:nvSpPr>
            <p:cNvPr id="261" name="矩形 4"/>
            <p:cNvSpPr/>
            <p:nvPr/>
          </p:nvSpPr>
          <p:spPr>
            <a:xfrm>
              <a:off x="4408200" y="1587600"/>
              <a:ext cx="2003760" cy="2764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24"/>
            <p:cNvSpPr/>
            <p:nvPr/>
          </p:nvSpPr>
          <p:spPr>
            <a:xfrm>
              <a:off x="2977920" y="4058640"/>
              <a:ext cx="3189240" cy="121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25"/>
            <p:cNvSpPr/>
            <p:nvPr/>
          </p:nvSpPr>
          <p:spPr>
            <a:xfrm>
              <a:off x="2733840" y="1590480"/>
              <a:ext cx="1841040" cy="277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"/>
            <p:cNvSpPr/>
            <p:nvPr/>
          </p:nvSpPr>
          <p:spPr>
            <a:xfrm rot="7200000">
              <a:off x="4517280" y="2057040"/>
              <a:ext cx="1283040" cy="194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 rot="7200000">
              <a:off x="3843360" y="3114720"/>
              <a:ext cx="1448280" cy="192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"/>
            <p:cNvSpPr/>
            <p:nvPr/>
          </p:nvSpPr>
          <p:spPr>
            <a:xfrm rot="7200000">
              <a:off x="2752920" y="2557080"/>
              <a:ext cx="2218320" cy="93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890520" y="2754360"/>
              <a:ext cx="1360800" cy="135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20"/>
            <p:cNvSpPr/>
            <p:nvPr/>
          </p:nvSpPr>
          <p:spPr>
            <a:xfrm rot="18181200">
              <a:off x="2743200" y="2352600"/>
              <a:ext cx="1997280" cy="1036440"/>
            </a:xfrm>
            <a:custGeom>
              <a:avLst/>
              <a:gdLst>
                <a:gd name="textAreaLeft" fmla="*/ 0 w 1997280"/>
                <a:gd name="textAreaRight" fmla="*/ 1997640 w 19972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WordArt 20"/>
            <p:cNvSpPr/>
            <p:nvPr/>
          </p:nvSpPr>
          <p:spPr>
            <a:xfrm rot="4024800">
              <a:off x="4465440" y="2448360"/>
              <a:ext cx="1997280" cy="1036440"/>
            </a:xfrm>
            <a:custGeom>
              <a:avLst/>
              <a:gdLst>
                <a:gd name="textAreaLeft" fmla="*/ 0 w 1997280"/>
                <a:gd name="textAreaRight" fmla="*/ 1997640 w 19972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0"/>
            <p:cNvSpPr/>
            <p:nvPr/>
          </p:nvSpPr>
          <p:spPr>
            <a:xfrm rot="10950600">
              <a:off x="3539880" y="3943800"/>
              <a:ext cx="1996560" cy="1036800"/>
            </a:xfrm>
            <a:custGeom>
              <a:avLst/>
              <a:gdLst>
                <a:gd name="textAreaLeft" fmla="*/ 0 w 1996560"/>
                <a:gd name="textAreaRight" fmla="*/ 1996920 w 199656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19"/>
          <p:cNvSpPr/>
          <p:nvPr/>
        </p:nvSpPr>
        <p:spPr>
          <a:xfrm>
            <a:off x="3835440" y="3719520"/>
            <a:ext cx="1460520" cy="81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9"/>
          <p:cNvSpPr/>
          <p:nvPr/>
        </p:nvSpPr>
        <p:spPr>
          <a:xfrm>
            <a:off x="4619520" y="2782800"/>
            <a:ext cx="822600" cy="12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9"/>
          <p:cNvSpPr/>
          <p:nvPr/>
        </p:nvSpPr>
        <p:spPr>
          <a:xfrm>
            <a:off x="3689280" y="2782800"/>
            <a:ext cx="822240" cy="12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4"/>
          <p:cNvGrpSpPr/>
          <p:nvPr/>
        </p:nvGrpSpPr>
        <p:grpSpPr>
          <a:xfrm>
            <a:off x="2854440" y="1888200"/>
            <a:ext cx="3490920" cy="3469320"/>
            <a:chOff x="2854440" y="1888200"/>
            <a:chExt cx="3490920" cy="3469320"/>
          </a:xfrm>
        </p:grpSpPr>
        <p:sp>
          <p:nvSpPr>
            <p:cNvPr id="275" name="矩形 13"/>
            <p:cNvSpPr/>
            <p:nvPr/>
          </p:nvSpPr>
          <p:spPr>
            <a:xfrm>
              <a:off x="4853160" y="1924200"/>
              <a:ext cx="1492200" cy="280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6"/>
            <p:cNvSpPr/>
            <p:nvPr/>
          </p:nvSpPr>
          <p:spPr>
            <a:xfrm rot="4310400">
              <a:off x="3214800" y="2247840"/>
              <a:ext cx="274932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7"/>
          <p:cNvGrpSpPr/>
          <p:nvPr/>
        </p:nvGrpSpPr>
        <p:grpSpPr>
          <a:xfrm>
            <a:off x="2648520" y="1676520"/>
            <a:ext cx="3882240" cy="3887280"/>
            <a:chOff x="2648520" y="1676520"/>
            <a:chExt cx="3882240" cy="3887280"/>
          </a:xfrm>
        </p:grpSpPr>
        <p:sp>
          <p:nvSpPr>
            <p:cNvPr id="278" name="空心弧 2"/>
            <p:cNvSpPr/>
            <p:nvPr/>
          </p:nvSpPr>
          <p:spPr>
            <a:xfrm>
              <a:off x="2819520" y="1676520"/>
              <a:ext cx="2179440" cy="255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"/>
            <p:cNvSpPr/>
            <p:nvPr/>
          </p:nvSpPr>
          <p:spPr>
            <a:xfrm rot="18710400">
              <a:off x="3214800" y="2247840"/>
              <a:ext cx="2749320" cy="27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0"/>
          <p:cNvGrpSpPr/>
          <p:nvPr/>
        </p:nvGrpSpPr>
        <p:grpSpPr>
          <a:xfrm>
            <a:off x="2881440" y="1995120"/>
            <a:ext cx="3337560" cy="3407040"/>
            <a:chOff x="2881440" y="1995120"/>
            <a:chExt cx="3337560" cy="3407040"/>
          </a:xfrm>
        </p:grpSpPr>
        <p:sp>
          <p:nvSpPr>
            <p:cNvPr id="281" name="矩形 16"/>
            <p:cNvSpPr/>
            <p:nvPr/>
          </p:nvSpPr>
          <p:spPr>
            <a:xfrm>
              <a:off x="2881440" y="3989160"/>
              <a:ext cx="302220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"/>
            <p:cNvSpPr/>
            <p:nvPr/>
          </p:nvSpPr>
          <p:spPr>
            <a:xfrm rot="11510400">
              <a:off x="3214800" y="224784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1"/>
          <p:cNvGrpSpPr/>
          <p:nvPr/>
        </p:nvGrpSpPr>
        <p:grpSpPr>
          <a:xfrm>
            <a:off x="2179440" y="1036080"/>
            <a:ext cx="4785120" cy="4784760"/>
            <a:chOff x="2179440" y="1036080"/>
            <a:chExt cx="4785120" cy="4784760"/>
          </a:xfrm>
        </p:grpSpPr>
        <p:grpSp>
          <p:nvGrpSpPr>
            <p:cNvPr id="284" name="组合 2"/>
            <p:cNvGrpSpPr/>
            <p:nvPr/>
          </p:nvGrpSpPr>
          <p:grpSpPr>
            <a:xfrm>
              <a:off x="2206080" y="1063440"/>
              <a:ext cx="4731480" cy="4731480"/>
              <a:chOff x="2206080" y="1063440"/>
              <a:chExt cx="4731480" cy="4731480"/>
            </a:xfrm>
          </p:grpSpPr>
          <p:sp>
            <p:nvSpPr>
              <p:cNvPr id="285" name="Freeform 19"/>
              <p:cNvSpPr/>
              <p:nvPr/>
            </p:nvSpPr>
            <p:spPr>
              <a:xfrm>
                <a:off x="4525920" y="1268280"/>
                <a:ext cx="2206800" cy="317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10"/>
              <p:cNvSpPr/>
              <p:nvPr/>
            </p:nvSpPr>
            <p:spPr>
              <a:xfrm rot="3672600">
                <a:off x="2829600" y="1686960"/>
                <a:ext cx="348408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组合 3"/>
            <p:cNvGrpSpPr/>
            <p:nvPr/>
          </p:nvGrpSpPr>
          <p:grpSpPr>
            <a:xfrm>
              <a:off x="2179440" y="1036080"/>
              <a:ext cx="4785120" cy="4784760"/>
              <a:chOff x="2179440" y="1036080"/>
              <a:chExt cx="4785120" cy="4784760"/>
            </a:xfrm>
          </p:grpSpPr>
          <p:sp>
            <p:nvSpPr>
              <p:cNvPr id="288" name="Freeform 17"/>
              <p:cNvSpPr/>
              <p:nvPr/>
            </p:nvSpPr>
            <p:spPr>
              <a:xfrm>
                <a:off x="2411280" y="1277640"/>
                <a:ext cx="2281680" cy="3267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矩形 8"/>
              <p:cNvSpPr/>
              <p:nvPr/>
            </p:nvSpPr>
            <p:spPr>
              <a:xfrm rot="18072600">
                <a:off x="2829960" y="1686240"/>
                <a:ext cx="348372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4"/>
            <p:cNvGrpSpPr/>
            <p:nvPr/>
          </p:nvGrpSpPr>
          <p:grpSpPr>
            <a:xfrm>
              <a:off x="2793600" y="1650600"/>
              <a:ext cx="3675600" cy="3939120"/>
              <a:chOff x="2793600" y="1650600"/>
              <a:chExt cx="3675600" cy="3939120"/>
            </a:xfrm>
          </p:grpSpPr>
          <p:sp>
            <p:nvSpPr>
              <p:cNvPr id="291" name="Freeform 18"/>
              <p:cNvSpPr/>
              <p:nvPr/>
            </p:nvSpPr>
            <p:spPr>
              <a:xfrm>
                <a:off x="2803320" y="4140360"/>
                <a:ext cx="3665880" cy="1449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6"/>
              <p:cNvSpPr/>
              <p:nvPr/>
            </p:nvSpPr>
            <p:spPr>
              <a:xfrm rot="10872600">
                <a:off x="2829960" y="1686600"/>
                <a:ext cx="348408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组合 11"/>
          <p:cNvGrpSpPr/>
          <p:nvPr/>
        </p:nvGrpSpPr>
        <p:grpSpPr>
          <a:xfrm>
            <a:off x="3241800" y="2097000"/>
            <a:ext cx="2660400" cy="2659320"/>
            <a:chOff x="3241800" y="2097000"/>
            <a:chExt cx="2660400" cy="2659320"/>
          </a:xfrm>
        </p:grpSpPr>
        <p:sp>
          <p:nvSpPr>
            <p:cNvPr id="294" name="Freeform 11"/>
            <p:cNvSpPr/>
            <p:nvPr/>
          </p:nvSpPr>
          <p:spPr>
            <a:xfrm>
              <a:off x="3532680" y="3788280"/>
              <a:ext cx="2205000" cy="96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4543200" y="2097000"/>
              <a:ext cx="1359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241800" y="2113920"/>
              <a:ext cx="1404720" cy="19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15"/>
          <p:cNvSpPr/>
          <p:nvPr/>
        </p:nvSpPr>
        <p:spPr>
          <a:xfrm rot="3672600">
            <a:off x="3681720" y="2500920"/>
            <a:ext cx="18320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6"/>
          <p:cNvSpPr/>
          <p:nvPr/>
        </p:nvSpPr>
        <p:spPr>
          <a:xfrm rot="18072600">
            <a:off x="3681720" y="2500920"/>
            <a:ext cx="18320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7"/>
          <p:cNvSpPr/>
          <p:nvPr/>
        </p:nvSpPr>
        <p:spPr>
          <a:xfrm rot="10872600">
            <a:off x="3683160" y="2501280"/>
            <a:ext cx="183168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1116000" y="116532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830840" y="116532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116000" y="364176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830840" y="364176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2"/>
          <p:cNvGrpSpPr/>
          <p:nvPr/>
        </p:nvGrpSpPr>
        <p:grpSpPr>
          <a:xfrm>
            <a:off x="2670120" y="1614600"/>
            <a:ext cx="3809520" cy="3700080"/>
            <a:chOff x="2670120" y="1614600"/>
            <a:chExt cx="3809520" cy="3700080"/>
          </a:xfrm>
        </p:grpSpPr>
        <p:sp>
          <p:nvSpPr>
            <p:cNvPr id="308" name="Freeform 13"/>
            <p:cNvSpPr/>
            <p:nvPr/>
          </p:nvSpPr>
          <p:spPr>
            <a:xfrm>
              <a:off x="2899080" y="1614600"/>
              <a:ext cx="1984680" cy="164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226760" y="3666240"/>
              <a:ext cx="1939320" cy="164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2670120" y="3066120"/>
              <a:ext cx="1746000" cy="196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4709160" y="1873440"/>
              <a:ext cx="1770480" cy="194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"/>
          <p:cNvGrpSpPr/>
          <p:nvPr/>
        </p:nvGrpSpPr>
        <p:grpSpPr>
          <a:xfrm>
            <a:off x="2771280" y="1650960"/>
            <a:ext cx="3672360" cy="3560760"/>
            <a:chOff x="2771280" y="1650960"/>
            <a:chExt cx="3672360" cy="3560760"/>
          </a:xfrm>
        </p:grpSpPr>
        <p:grpSp>
          <p:nvGrpSpPr>
            <p:cNvPr id="51" name="组合 2"/>
            <p:cNvGrpSpPr/>
            <p:nvPr/>
          </p:nvGrpSpPr>
          <p:grpSpPr>
            <a:xfrm>
              <a:off x="2790360" y="1655640"/>
              <a:ext cx="3653280" cy="3556080"/>
              <a:chOff x="2790360" y="1655640"/>
              <a:chExt cx="3653280" cy="355608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90360" y="1655640"/>
                <a:ext cx="1843560" cy="3556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矩形 13"/>
              <p:cNvSpPr/>
              <p:nvPr/>
            </p:nvSpPr>
            <p:spPr>
              <a:xfrm rot="16200000">
                <a:off x="3130560" y="1772280"/>
                <a:ext cx="331272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4d4d4d"/>
                    </a:solidFill>
                    <a:latin typeface="微软雅黑"/>
                    <a:ea typeface="微软雅黑"/>
                  </a:rPr>
                  <a:t>单击此处添加文本，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组合 3"/>
            <p:cNvGrpSpPr/>
            <p:nvPr/>
          </p:nvGrpSpPr>
          <p:grpSpPr>
            <a:xfrm>
              <a:off x="2771280" y="1650960"/>
              <a:ext cx="3580560" cy="3552840"/>
              <a:chOff x="2771280" y="1650960"/>
              <a:chExt cx="3580560" cy="3552840"/>
            </a:xfrm>
          </p:grpSpPr>
          <p:sp>
            <p:nvSpPr>
              <p:cNvPr id="55" name="Freeform 7"/>
              <p:cNvSpPr/>
              <p:nvPr/>
            </p:nvSpPr>
            <p:spPr>
              <a:xfrm>
                <a:off x="4510080" y="1650960"/>
                <a:ext cx="1841760" cy="35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矩形 11"/>
              <p:cNvSpPr/>
              <p:nvPr/>
            </p:nvSpPr>
            <p:spPr>
              <a:xfrm flipH="1" rot="5400000">
                <a:off x="2770920" y="1803960"/>
                <a:ext cx="331236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4d4d4d"/>
                    </a:solidFill>
                    <a:latin typeface="微软雅黑"/>
                    <a:ea typeface="微软雅黑"/>
                  </a:rPr>
                  <a:t>单击此处添加文本，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4"/>
            <p:cNvGrpSpPr/>
            <p:nvPr/>
          </p:nvGrpSpPr>
          <p:grpSpPr>
            <a:xfrm>
              <a:off x="3468600" y="2327040"/>
              <a:ext cx="2194200" cy="2206800"/>
              <a:chOff x="3468600" y="2327040"/>
              <a:chExt cx="2194200" cy="2206800"/>
            </a:xfrm>
          </p:grpSpPr>
          <p:sp>
            <p:nvSpPr>
              <p:cNvPr id="58" name="Freeform 8"/>
              <p:cNvSpPr/>
              <p:nvPr/>
            </p:nvSpPr>
            <p:spPr>
              <a:xfrm>
                <a:off x="3468600" y="2327040"/>
                <a:ext cx="2194200" cy="116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9"/>
              <p:cNvSpPr/>
              <p:nvPr/>
            </p:nvSpPr>
            <p:spPr>
              <a:xfrm>
                <a:off x="3607200" y="2617200"/>
                <a:ext cx="1916640" cy="19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5"/>
            <p:cNvGrpSpPr/>
            <p:nvPr/>
          </p:nvGrpSpPr>
          <p:grpSpPr>
            <a:xfrm>
              <a:off x="3481200" y="2420640"/>
              <a:ext cx="2194200" cy="2113200"/>
              <a:chOff x="3481200" y="2420640"/>
              <a:chExt cx="2194200" cy="2113200"/>
            </a:xfrm>
          </p:grpSpPr>
          <p:sp>
            <p:nvSpPr>
              <p:cNvPr id="61" name="Freeform 9"/>
              <p:cNvSpPr/>
              <p:nvPr/>
            </p:nvSpPr>
            <p:spPr>
              <a:xfrm>
                <a:off x="3481200" y="3369960"/>
                <a:ext cx="2194200" cy="116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矩形 7"/>
              <p:cNvSpPr/>
              <p:nvPr/>
            </p:nvSpPr>
            <p:spPr>
              <a:xfrm flipH="1" flipV="1">
                <a:off x="3619800" y="2420640"/>
                <a:ext cx="1916640" cy="19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16"/>
          <p:cNvGrpSpPr/>
          <p:nvPr/>
        </p:nvGrpSpPr>
        <p:grpSpPr>
          <a:xfrm>
            <a:off x="1690560" y="1079640"/>
            <a:ext cx="5764320" cy="4698720"/>
            <a:chOff x="1690560" y="1079640"/>
            <a:chExt cx="5764320" cy="4698720"/>
          </a:xfrm>
        </p:grpSpPr>
        <p:sp>
          <p:nvSpPr>
            <p:cNvPr id="64" name="Oval 3"/>
            <p:cNvSpPr/>
            <p:nvPr/>
          </p:nvSpPr>
          <p:spPr>
            <a:xfrm flipV="1" rot="10800000">
              <a:off x="1690560" y="5211720"/>
              <a:ext cx="5764320" cy="5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581000" y="1079640"/>
              <a:ext cx="224280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2627640" y="3320280"/>
              <a:ext cx="3885840" cy="222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321640" y="1081440"/>
              <a:ext cx="225504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/>
            <p:cNvSpPr/>
            <p:nvPr/>
          </p:nvSpPr>
          <p:spPr>
            <a:xfrm rot="6300000">
              <a:off x="2703600" y="397800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8"/>
            <p:cNvSpPr/>
            <p:nvPr/>
          </p:nvSpPr>
          <p:spPr>
            <a:xfrm rot="13500000">
              <a:off x="4327920" y="120348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rot="20700000">
              <a:off x="5944320" y="399024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10"/>
            <p:cNvGrpSpPr/>
            <p:nvPr/>
          </p:nvGrpSpPr>
          <p:grpSpPr>
            <a:xfrm>
              <a:off x="2812320" y="1540440"/>
              <a:ext cx="3561480" cy="3555000"/>
              <a:chOff x="2812320" y="1540440"/>
              <a:chExt cx="3561480" cy="3555000"/>
            </a:xfrm>
          </p:grpSpPr>
          <p:sp>
            <p:nvSpPr>
              <p:cNvPr id="72" name="Oval 11"/>
              <p:cNvSpPr/>
              <p:nvPr/>
            </p:nvSpPr>
            <p:spPr>
              <a:xfrm rot="649800">
                <a:off x="3070440" y="1799280"/>
                <a:ext cx="3045240" cy="30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2"/>
              <p:cNvSpPr/>
              <p:nvPr/>
            </p:nvSpPr>
            <p:spPr>
              <a:xfrm rot="649800">
                <a:off x="3241800" y="1965240"/>
                <a:ext cx="2702160" cy="2704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67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WordArt 13"/>
            <p:cNvSpPr/>
            <p:nvPr/>
          </p:nvSpPr>
          <p:spPr>
            <a:xfrm rot="3535800">
              <a:off x="5603400" y="238932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14"/>
            <p:cNvSpPr/>
            <p:nvPr/>
          </p:nvSpPr>
          <p:spPr>
            <a:xfrm rot="18000000">
              <a:off x="2503440" y="238896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15"/>
            <p:cNvSpPr/>
            <p:nvPr/>
          </p:nvSpPr>
          <p:spPr>
            <a:xfrm>
              <a:off x="3999600" y="499644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-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455280" y="1996200"/>
              <a:ext cx="2265480" cy="108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WordArt 17"/>
            <p:cNvSpPr/>
            <p:nvPr/>
          </p:nvSpPr>
          <p:spPr>
            <a:xfrm>
              <a:off x="3983040" y="3034800"/>
              <a:ext cx="1249560" cy="62064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80" name="Oval 19"/>
            <p:cNvSpPr/>
            <p:nvPr/>
          </p:nvSpPr>
          <p:spPr>
            <a:xfrm>
              <a:off x="3483000" y="3519360"/>
              <a:ext cx="2178000" cy="121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4653000" y="2122560"/>
              <a:ext cx="1225440" cy="18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265560" y="2122560"/>
              <a:ext cx="1225440" cy="18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"/>
          <p:cNvGrpSpPr/>
          <p:nvPr/>
        </p:nvGrpSpPr>
        <p:grpSpPr>
          <a:xfrm>
            <a:off x="2192760" y="1049760"/>
            <a:ext cx="4758120" cy="4758120"/>
            <a:chOff x="2192760" y="1049760"/>
            <a:chExt cx="4758120" cy="4758120"/>
          </a:xfrm>
        </p:grpSpPr>
        <p:sp>
          <p:nvSpPr>
            <p:cNvPr id="84" name="Freeform 19"/>
            <p:cNvSpPr/>
            <p:nvPr/>
          </p:nvSpPr>
          <p:spPr>
            <a:xfrm rot="270600">
              <a:off x="4567320" y="1352520"/>
              <a:ext cx="2206440" cy="317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7"/>
            <p:cNvSpPr/>
            <p:nvPr/>
          </p:nvSpPr>
          <p:spPr>
            <a:xfrm rot="3600000">
              <a:off x="282996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8"/>
          <p:cNvGrpSpPr/>
          <p:nvPr/>
        </p:nvGrpSpPr>
        <p:grpSpPr>
          <a:xfrm>
            <a:off x="2192760" y="1049400"/>
            <a:ext cx="4758120" cy="4758480"/>
            <a:chOff x="2192760" y="1049400"/>
            <a:chExt cx="4758120" cy="4758480"/>
          </a:xfrm>
        </p:grpSpPr>
        <p:sp>
          <p:nvSpPr>
            <p:cNvPr id="87" name="Freeform 17"/>
            <p:cNvSpPr/>
            <p:nvPr/>
          </p:nvSpPr>
          <p:spPr>
            <a:xfrm rot="270600">
              <a:off x="2455920" y="1198440"/>
              <a:ext cx="2280960" cy="326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0"/>
            <p:cNvSpPr/>
            <p:nvPr/>
          </p:nvSpPr>
          <p:spPr>
            <a:xfrm rot="18000000">
              <a:off x="282996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1"/>
          <p:cNvGrpSpPr/>
          <p:nvPr/>
        </p:nvGrpSpPr>
        <p:grpSpPr>
          <a:xfrm>
            <a:off x="2639160" y="1687680"/>
            <a:ext cx="3766680" cy="4043880"/>
            <a:chOff x="2639160" y="1687680"/>
            <a:chExt cx="3766680" cy="4043880"/>
          </a:xfrm>
        </p:grpSpPr>
        <p:sp>
          <p:nvSpPr>
            <p:cNvPr id="90" name="Freeform 18"/>
            <p:cNvSpPr/>
            <p:nvPr/>
          </p:nvSpPr>
          <p:spPr>
            <a:xfrm rot="270600">
              <a:off x="2690280" y="4140000"/>
              <a:ext cx="3664080" cy="144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3"/>
            <p:cNvSpPr/>
            <p:nvPr/>
          </p:nvSpPr>
          <p:spPr>
            <a:xfrm rot="10800000">
              <a:off x="2829600" y="1687680"/>
              <a:ext cx="348372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1"/>
          <p:cNvGrpSpPr/>
          <p:nvPr/>
        </p:nvGrpSpPr>
        <p:grpSpPr>
          <a:xfrm>
            <a:off x="412920" y="692280"/>
            <a:ext cx="8331120" cy="5162400"/>
            <a:chOff x="412920" y="692280"/>
            <a:chExt cx="8331120" cy="5162400"/>
          </a:xfrm>
        </p:grpSpPr>
        <p:grpSp>
          <p:nvGrpSpPr>
            <p:cNvPr id="93" name="Gruppieren 44"/>
            <p:cNvGrpSpPr/>
            <p:nvPr/>
          </p:nvGrpSpPr>
          <p:grpSpPr>
            <a:xfrm>
              <a:off x="1952640" y="692280"/>
              <a:ext cx="4788000" cy="5162400"/>
              <a:chOff x="1952640" y="692280"/>
              <a:chExt cx="4788000" cy="5162400"/>
            </a:xfrm>
          </p:grpSpPr>
          <p:sp>
            <p:nvSpPr>
              <p:cNvPr id="94" name="Freeform 50"/>
              <p:cNvSpPr/>
              <p:nvPr/>
            </p:nvSpPr>
            <p:spPr>
              <a:xfrm>
                <a:off x="1952640" y="692280"/>
                <a:ext cx="2977200" cy="3591720"/>
              </a:xfrm>
              <a:prstGeom prst="pie">
                <a:avLst/>
              </a:prstGeom>
              <a:solidFill>
                <a:srgbClr val="a5a5a5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1"/>
              <p:cNvSpPr/>
              <p:nvPr/>
            </p:nvSpPr>
            <p:spPr>
              <a:xfrm>
                <a:off x="2001600" y="3915360"/>
                <a:ext cx="4178880" cy="1939320"/>
              </a:xfrm>
              <a:prstGeom prst="pie">
                <a:avLst/>
              </a:prstGeom>
              <a:solidFill>
                <a:srgbClr val="0051db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2"/>
              <p:cNvSpPr/>
              <p:nvPr/>
            </p:nvSpPr>
            <p:spPr>
              <a:xfrm>
                <a:off x="4678560" y="1080000"/>
                <a:ext cx="2062080" cy="3862440"/>
              </a:xfrm>
              <a:prstGeom prst="pie">
                <a:avLst/>
              </a:prstGeom>
              <a:solidFill>
                <a:srgbClr val="a5a5a5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5"/>
            <p:cNvSpPr/>
            <p:nvPr/>
          </p:nvSpPr>
          <p:spPr>
            <a:xfrm>
              <a:off x="4332600" y="1761840"/>
              <a:ext cx="2081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单击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6681960" y="4330800"/>
              <a:ext cx="20620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algn="r"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单击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412920" y="3111480"/>
              <a:ext cx="1847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Gerade Verbindung 17"/>
            <p:cNvSpPr/>
            <p:nvPr/>
          </p:nvSpPr>
          <p:spPr>
            <a:xfrm>
              <a:off x="479520" y="3136680"/>
              <a:ext cx="195408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Gerade Verbindung 18"/>
            <p:cNvSpPr/>
            <p:nvPr/>
          </p:nvSpPr>
          <p:spPr>
            <a:xfrm>
              <a:off x="7047000" y="4330800"/>
              <a:ext cx="154440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Gerade Verbindung 20"/>
            <p:cNvSpPr/>
            <p:nvPr/>
          </p:nvSpPr>
          <p:spPr>
            <a:xfrm flipV="1">
              <a:off x="4268880" y="1875600"/>
              <a:ext cx="0" cy="7556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3134"/>
          <p:cNvSpPr/>
          <p:nvPr/>
        </p:nvSpPr>
        <p:spPr>
          <a:xfrm>
            <a:off x="2843280" y="4508640"/>
            <a:ext cx="3801960" cy="90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05" name="Line 1557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08" name="Line 1558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11" name="Line 1561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14" name="Line 1562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17" name="Line 1574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20" name="Line 1575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23" name="Line 1598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26" name="Line 1599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29" name="Line 1602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32" name="Line 1603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3135"/>
          <p:cNvSpPr/>
          <p:nvPr/>
        </p:nvSpPr>
        <p:spPr>
          <a:xfrm>
            <a:off x="2625840" y="2693880"/>
            <a:ext cx="4249800" cy="2413080"/>
          </a:xfrm>
          <a:prstGeom prst="ellipse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3136"/>
          <p:cNvSpPr/>
          <p:nvPr/>
        </p:nvSpPr>
        <p:spPr>
          <a:xfrm>
            <a:off x="2633760" y="2679840"/>
            <a:ext cx="2633400" cy="1636560"/>
          </a:xfrm>
          <a:prstGeom prst="pie">
            <a:avLst/>
          </a:prstGeom>
          <a:solidFill>
            <a:srgbClr val="d3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3137"/>
          <p:cNvSpPr/>
          <p:nvPr/>
        </p:nvSpPr>
        <p:spPr>
          <a:xfrm>
            <a:off x="2843280" y="2852640"/>
            <a:ext cx="3954240" cy="2033640"/>
          </a:xfrm>
          <a:prstGeom prst="pie">
            <a:avLst/>
          </a:prstGeom>
          <a:solidFill>
            <a:srgbClr val="7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3138"/>
          <p:cNvSpPr/>
          <p:nvPr/>
        </p:nvSpPr>
        <p:spPr>
          <a:xfrm>
            <a:off x="4764240" y="2682720"/>
            <a:ext cx="2103120" cy="1636920"/>
          </a:xfrm>
          <a:prstGeom prst="pie">
            <a:avLst/>
          </a:prstGeom>
          <a:solidFill>
            <a:srgbClr val="005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42"/>
          <p:cNvSpPr/>
          <p:nvPr/>
        </p:nvSpPr>
        <p:spPr>
          <a:xfrm>
            <a:off x="3807000" y="3357720"/>
            <a:ext cx="1906560" cy="784080"/>
          </a:xfrm>
          <a:prstGeom prst="ellipse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43"/>
          <p:cNvSpPr/>
          <p:nvPr/>
        </p:nvSpPr>
        <p:spPr>
          <a:xfrm>
            <a:off x="3849840" y="3486240"/>
            <a:ext cx="1831680" cy="65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26"/>
          <p:cNvSpPr/>
          <p:nvPr/>
        </p:nvSpPr>
        <p:spPr>
          <a:xfrm flipH="1">
            <a:off x="6730200" y="1700280"/>
            <a:ext cx="208908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227"/>
          <p:cNvSpPr/>
          <p:nvPr/>
        </p:nvSpPr>
        <p:spPr>
          <a:xfrm flipH="1">
            <a:off x="6228720" y="170028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01"/>
          <p:cNvSpPr/>
          <p:nvPr/>
        </p:nvSpPr>
        <p:spPr>
          <a:xfrm>
            <a:off x="250920" y="2492280"/>
            <a:ext cx="208908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221"/>
          <p:cNvSpPr/>
          <p:nvPr/>
        </p:nvSpPr>
        <p:spPr>
          <a:xfrm>
            <a:off x="1619280" y="249228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243"/>
          <p:cNvSpPr/>
          <p:nvPr/>
        </p:nvSpPr>
        <p:spPr>
          <a:xfrm flipH="1">
            <a:off x="3330000" y="5373720"/>
            <a:ext cx="239364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50"/>
          <p:cNvSpPr/>
          <p:nvPr/>
        </p:nvSpPr>
        <p:spPr>
          <a:xfrm flipH="1">
            <a:off x="2977560" y="537372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265"/>
          <p:cNvSpPr/>
          <p:nvPr/>
        </p:nvSpPr>
        <p:spPr>
          <a:xfrm>
            <a:off x="3348000" y="3141720"/>
            <a:ext cx="57456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266"/>
          <p:cNvSpPr/>
          <p:nvPr/>
        </p:nvSpPr>
        <p:spPr>
          <a:xfrm>
            <a:off x="3995640" y="4394160"/>
            <a:ext cx="5749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67"/>
          <p:cNvSpPr/>
          <p:nvPr/>
        </p:nvSpPr>
        <p:spPr>
          <a:xfrm>
            <a:off x="5157720" y="2968560"/>
            <a:ext cx="5749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55"/>
          <p:cNvGrpSpPr/>
          <p:nvPr/>
        </p:nvGrpSpPr>
        <p:grpSpPr>
          <a:xfrm>
            <a:off x="2124000" y="2492280"/>
            <a:ext cx="1511280" cy="720720"/>
            <a:chOff x="2124000" y="2492280"/>
            <a:chExt cx="1511280" cy="720720"/>
          </a:xfrm>
        </p:grpSpPr>
        <p:grpSp>
          <p:nvGrpSpPr>
            <p:cNvPr id="150" name=""/>
            <p:cNvGrpSpPr/>
            <p:nvPr/>
          </p:nvGrpSpPr>
          <p:grpSpPr>
            <a:xfrm>
              <a:off x="2124000" y="2492280"/>
              <a:ext cx="934920" cy="1440"/>
              <a:chOff x="2124000" y="2492280"/>
              <a:chExt cx="934920" cy="1440"/>
            </a:xfrm>
          </p:grpSpPr>
          <p:sp>
            <p:nvSpPr>
              <p:cNvPr id="151" name="Line 3253"/>
              <p:cNvSpPr/>
              <p:nvPr/>
            </p:nvSpPr>
            <p:spPr>
              <a:xfrm>
                <a:off x="2124000" y="2492280"/>
                <a:ext cx="934920" cy="144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2124000" y="2492280"/>
                <a:ext cx="934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058920" y="2492280"/>
              <a:ext cx="576360" cy="720720"/>
              <a:chOff x="3058920" y="2492280"/>
              <a:chExt cx="576360" cy="720720"/>
            </a:xfrm>
          </p:grpSpPr>
          <p:sp>
            <p:nvSpPr>
              <p:cNvPr id="154" name="Line 3254"/>
              <p:cNvSpPr/>
              <p:nvPr/>
            </p:nvSpPr>
            <p:spPr>
              <a:xfrm>
                <a:off x="3058920" y="2492280"/>
                <a:ext cx="576360" cy="7207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3058920" y="2492280"/>
                <a:ext cx="576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3258"/>
          <p:cNvGrpSpPr/>
          <p:nvPr/>
        </p:nvGrpSpPr>
        <p:grpSpPr>
          <a:xfrm>
            <a:off x="5435640" y="1700280"/>
            <a:ext cx="1152000" cy="1368000"/>
            <a:chOff x="5435640" y="1700280"/>
            <a:chExt cx="1152000" cy="1368000"/>
          </a:xfrm>
        </p:grpSpPr>
        <p:grpSp>
          <p:nvGrpSpPr>
            <p:cNvPr id="157" name=""/>
            <p:cNvGrpSpPr/>
            <p:nvPr/>
          </p:nvGrpSpPr>
          <p:grpSpPr>
            <a:xfrm>
              <a:off x="5874840" y="1700280"/>
              <a:ext cx="712800" cy="2520"/>
              <a:chOff x="5874840" y="1700280"/>
              <a:chExt cx="712800" cy="2520"/>
            </a:xfrm>
          </p:grpSpPr>
          <p:sp>
            <p:nvSpPr>
              <p:cNvPr id="158" name="Line 3259"/>
              <p:cNvSpPr/>
              <p:nvPr/>
            </p:nvSpPr>
            <p:spPr>
              <a:xfrm flipH="1">
                <a:off x="5874840" y="1700280"/>
                <a:ext cx="712800" cy="25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5874840" y="1700280"/>
                <a:ext cx="71280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435640" y="1700280"/>
              <a:ext cx="439200" cy="1368000"/>
              <a:chOff x="5435640" y="1700280"/>
              <a:chExt cx="439200" cy="1368000"/>
            </a:xfrm>
          </p:grpSpPr>
          <p:sp>
            <p:nvSpPr>
              <p:cNvPr id="161" name="Line 3260"/>
              <p:cNvSpPr/>
              <p:nvPr/>
            </p:nvSpPr>
            <p:spPr>
              <a:xfrm flipH="1">
                <a:off x="5435640" y="1700280"/>
                <a:ext cx="439200" cy="136800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435640" y="1700280"/>
                <a:ext cx="439200" cy="13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261"/>
          <p:cNvGrpSpPr/>
          <p:nvPr/>
        </p:nvGrpSpPr>
        <p:grpSpPr>
          <a:xfrm>
            <a:off x="3132360" y="4508640"/>
            <a:ext cx="1152360" cy="1368000"/>
            <a:chOff x="3132360" y="4508640"/>
            <a:chExt cx="1152360" cy="1368000"/>
          </a:xfrm>
        </p:grpSpPr>
        <p:grpSp>
          <p:nvGrpSpPr>
            <p:cNvPr id="164" name=""/>
            <p:cNvGrpSpPr/>
            <p:nvPr/>
          </p:nvGrpSpPr>
          <p:grpSpPr>
            <a:xfrm>
              <a:off x="3571920" y="4508640"/>
              <a:ext cx="712800" cy="2520"/>
              <a:chOff x="3571920" y="4508640"/>
              <a:chExt cx="712800" cy="2520"/>
            </a:xfrm>
          </p:grpSpPr>
          <p:sp>
            <p:nvSpPr>
              <p:cNvPr id="165" name="Line 3262"/>
              <p:cNvSpPr/>
              <p:nvPr/>
            </p:nvSpPr>
            <p:spPr>
              <a:xfrm flipH="1">
                <a:off x="3571920" y="4508640"/>
                <a:ext cx="712800" cy="25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3571920" y="4508640"/>
                <a:ext cx="71280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132360" y="4508640"/>
              <a:ext cx="439560" cy="1368000"/>
              <a:chOff x="3132360" y="4508640"/>
              <a:chExt cx="439560" cy="1368000"/>
            </a:xfrm>
          </p:grpSpPr>
          <p:sp>
            <p:nvSpPr>
              <p:cNvPr id="168" name="Line 3263"/>
              <p:cNvSpPr/>
              <p:nvPr/>
            </p:nvSpPr>
            <p:spPr>
              <a:xfrm flipH="1">
                <a:off x="3132360" y="4508640"/>
                <a:ext cx="439560" cy="136800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132360" y="4508640"/>
                <a:ext cx="439560" cy="13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Oval 3"/>
          <p:cNvSpPr/>
          <p:nvPr/>
        </p:nvSpPr>
        <p:spPr>
          <a:xfrm>
            <a:off x="1619280" y="2432160"/>
            <a:ext cx="120312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917800" y="5299200"/>
            <a:ext cx="120168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6168960" y="1638360"/>
            <a:ext cx="120168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"/>
          <p:cNvGrpSpPr/>
          <p:nvPr/>
        </p:nvGrpSpPr>
        <p:grpSpPr>
          <a:xfrm>
            <a:off x="2114640" y="1455840"/>
            <a:ext cx="4914720" cy="3946320"/>
            <a:chOff x="2114640" y="1455840"/>
            <a:chExt cx="4914720" cy="3946320"/>
          </a:xfrm>
        </p:grpSpPr>
        <p:pic>
          <p:nvPicPr>
            <p:cNvPr id="174" name="Picture 9" descr=""/>
            <p:cNvPicPr/>
            <p:nvPr/>
          </p:nvPicPr>
          <p:blipFill>
            <a:blip r:embed="rId1"/>
            <a:stretch/>
          </p:blipFill>
          <p:spPr>
            <a:xfrm>
              <a:off x="2114640" y="4934160"/>
              <a:ext cx="491472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Ellipse 14"/>
            <p:cNvSpPr/>
            <p:nvPr/>
          </p:nvSpPr>
          <p:spPr>
            <a:xfrm>
              <a:off x="2689200" y="1455840"/>
              <a:ext cx="3501360" cy="350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444200" y="3200400"/>
              <a:ext cx="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4439520" y="320040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4444200" y="3200400"/>
              <a:ext cx="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5"/>
            <p:cNvGrpSpPr/>
            <p:nvPr/>
          </p:nvGrpSpPr>
          <p:grpSpPr>
            <a:xfrm>
              <a:off x="3076920" y="1843200"/>
              <a:ext cx="2725920" cy="2720520"/>
              <a:chOff x="3076920" y="1843200"/>
              <a:chExt cx="2725920" cy="2720520"/>
            </a:xfrm>
          </p:grpSpPr>
          <p:grpSp>
            <p:nvGrpSpPr>
              <p:cNvPr id="180" name="Group 16"/>
              <p:cNvGrpSpPr/>
              <p:nvPr/>
            </p:nvGrpSpPr>
            <p:grpSpPr>
              <a:xfrm>
                <a:off x="3076920" y="1852560"/>
                <a:ext cx="2725920" cy="2711160"/>
                <a:chOff x="3076920" y="1852560"/>
                <a:chExt cx="2725920" cy="2711160"/>
              </a:xfrm>
            </p:grpSpPr>
            <p:sp>
              <p:nvSpPr>
                <p:cNvPr id="181" name="Freeform 17"/>
                <p:cNvSpPr/>
                <p:nvPr/>
              </p:nvSpPr>
              <p:spPr>
                <a:xfrm>
                  <a:off x="3422160" y="3204720"/>
                  <a:ext cx="2033640" cy="1359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8"/>
                <p:cNvSpPr/>
                <p:nvPr/>
              </p:nvSpPr>
              <p:spPr>
                <a:xfrm>
                  <a:off x="4443120" y="1852560"/>
                  <a:ext cx="1359720" cy="1990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9"/>
                <p:cNvSpPr/>
                <p:nvPr/>
              </p:nvSpPr>
              <p:spPr>
                <a:xfrm>
                  <a:off x="3076920" y="1852560"/>
                  <a:ext cx="1362240" cy="1994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20"/>
              <p:cNvGrpSpPr/>
              <p:nvPr/>
            </p:nvGrpSpPr>
            <p:grpSpPr>
              <a:xfrm>
                <a:off x="3238920" y="1843200"/>
                <a:ext cx="2402640" cy="2268000"/>
                <a:chOff x="3238920" y="1843200"/>
                <a:chExt cx="2402640" cy="2268000"/>
              </a:xfrm>
            </p:grpSpPr>
            <p:sp>
              <p:nvSpPr>
                <p:cNvPr id="185" name="Freeform 21"/>
                <p:cNvSpPr/>
                <p:nvPr/>
              </p:nvSpPr>
              <p:spPr>
                <a:xfrm>
                  <a:off x="4119840" y="1843200"/>
                  <a:ext cx="641520" cy="135648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2"/>
                <p:cNvSpPr/>
                <p:nvPr/>
              </p:nvSpPr>
              <p:spPr>
                <a:xfrm>
                  <a:off x="3238920" y="3199680"/>
                  <a:ext cx="1205280" cy="91152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3"/>
                <p:cNvSpPr/>
                <p:nvPr/>
              </p:nvSpPr>
              <p:spPr>
                <a:xfrm>
                  <a:off x="4444200" y="3199680"/>
                  <a:ext cx="1197360" cy="90756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Freeform 24"/>
            <p:cNvSpPr/>
            <p:nvPr/>
          </p:nvSpPr>
          <p:spPr>
            <a:xfrm>
              <a:off x="4439520" y="3200400"/>
              <a:ext cx="4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4439520" y="320040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4439520" y="3200400"/>
              <a:ext cx="4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30"/>
            <p:cNvSpPr/>
            <p:nvPr/>
          </p:nvSpPr>
          <p:spPr>
            <a:xfrm rot="197400">
              <a:off x="3316680" y="1667880"/>
              <a:ext cx="2332800" cy="1447560"/>
            </a:xfrm>
            <a:custGeom>
              <a:avLst/>
              <a:gdLst>
                <a:gd name="textAreaLeft" fmla="*/ 0 w 2332800"/>
                <a:gd name="textAreaRight" fmla="*/ 2333160 w 233280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4" y="7911"/>
                  </a:moveTo>
                  <a:arcTo wR="10800" hR="10800" stAng="-9869012" swAng="8938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33"/>
            <p:cNvSpPr/>
            <p:nvPr/>
          </p:nvSpPr>
          <p:spPr>
            <a:xfrm rot="10641000">
              <a:off x="3341880" y="3299760"/>
              <a:ext cx="2270880" cy="1447560"/>
            </a:xfrm>
            <a:custGeom>
              <a:avLst/>
              <a:gdLst>
                <a:gd name="textAreaLeft" fmla="*/ 0 w 2270880"/>
                <a:gd name="textAreaRight" fmla="*/ 2270880 w 227088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14" y="7838"/>
                  </a:moveTo>
                  <a:arcTo wR="10800" hR="10800" stAng="-9844893" swAng="888978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9"/>
            <p:cNvGrpSpPr/>
            <p:nvPr/>
          </p:nvGrpSpPr>
          <p:grpSpPr>
            <a:xfrm>
              <a:off x="3189600" y="2759040"/>
              <a:ext cx="2521440" cy="1457280"/>
              <a:chOff x="3189600" y="2759040"/>
              <a:chExt cx="2521440" cy="1457280"/>
            </a:xfrm>
          </p:grpSpPr>
          <p:sp>
            <p:nvSpPr>
              <p:cNvPr id="194" name="Text Box 19"/>
              <p:cNvSpPr/>
              <p:nvPr/>
            </p:nvSpPr>
            <p:spPr>
              <a:xfrm>
                <a:off x="3189600" y="2759040"/>
                <a:ext cx="86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9"/>
              <p:cNvSpPr/>
              <p:nvPr/>
            </p:nvSpPr>
            <p:spPr>
              <a:xfrm>
                <a:off x="4850640" y="2759040"/>
                <a:ext cx="86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9"/>
              <p:cNvSpPr/>
              <p:nvPr/>
            </p:nvSpPr>
            <p:spPr>
              <a:xfrm>
                <a:off x="4016520" y="4033440"/>
                <a:ext cx="86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33"/>
            <p:cNvGrpSpPr/>
            <p:nvPr/>
          </p:nvGrpSpPr>
          <p:grpSpPr>
            <a:xfrm>
              <a:off x="4007520" y="2747880"/>
              <a:ext cx="885960" cy="882360"/>
              <a:chOff x="4007520" y="2747880"/>
              <a:chExt cx="885960" cy="882360"/>
            </a:xfrm>
          </p:grpSpPr>
          <p:grpSp>
            <p:nvGrpSpPr>
              <p:cNvPr id="198" name="Group 34"/>
              <p:cNvGrpSpPr/>
              <p:nvPr/>
            </p:nvGrpSpPr>
            <p:grpSpPr>
              <a:xfrm>
                <a:off x="4007520" y="2747880"/>
                <a:ext cx="885960" cy="882360"/>
                <a:chOff x="4007520" y="2747880"/>
                <a:chExt cx="885960" cy="882360"/>
              </a:xfrm>
            </p:grpSpPr>
            <p:sp>
              <p:nvSpPr>
                <p:cNvPr id="199" name="Oval 103"/>
                <p:cNvSpPr/>
                <p:nvPr/>
              </p:nvSpPr>
              <p:spPr>
                <a:xfrm>
                  <a:off x="4007520" y="2747880"/>
                  <a:ext cx="885960" cy="882360"/>
                </a:xfrm>
                <a:prstGeom prst="ellipse">
                  <a:avLst/>
                </a:prstGeom>
                <a:solidFill>
                  <a:srgbClr val="aeaea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04"/>
                <p:cNvSpPr/>
                <p:nvPr/>
              </p:nvSpPr>
              <p:spPr>
                <a:xfrm>
                  <a:off x="4029840" y="2755440"/>
                  <a:ext cx="839520" cy="83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" name="Picture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07680" y="2760120"/>
                  <a:ext cx="48420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2" name="Text Box 19"/>
              <p:cNvSpPr/>
              <p:nvPr/>
            </p:nvSpPr>
            <p:spPr>
              <a:xfrm>
                <a:off x="4016880" y="3060360"/>
                <a:ext cx="86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2"/>
          <p:cNvGrpSpPr/>
          <p:nvPr/>
        </p:nvGrpSpPr>
        <p:grpSpPr>
          <a:xfrm>
            <a:off x="511200" y="1800360"/>
            <a:ext cx="8121600" cy="3804120"/>
            <a:chOff x="511200" y="1800360"/>
            <a:chExt cx="8121600" cy="3804120"/>
          </a:xfrm>
        </p:grpSpPr>
        <p:sp>
          <p:nvSpPr>
            <p:cNvPr id="204" name="椭圆 2"/>
            <p:cNvSpPr/>
            <p:nvPr/>
          </p:nvSpPr>
          <p:spPr>
            <a:xfrm>
              <a:off x="3666960" y="2524320"/>
              <a:ext cx="1810080" cy="1809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6"/>
            <p:cNvGrpSpPr/>
            <p:nvPr/>
          </p:nvGrpSpPr>
          <p:grpSpPr>
            <a:xfrm>
              <a:off x="3978720" y="2840040"/>
              <a:ext cx="1186560" cy="1177920"/>
              <a:chOff x="3978720" y="2840040"/>
              <a:chExt cx="1186560" cy="117792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3978720" y="2840400"/>
                <a:ext cx="594360" cy="88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574160" y="2840040"/>
                <a:ext cx="591120" cy="88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059360" y="3430800"/>
                <a:ext cx="1024200" cy="58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等腰三角形 4"/>
            <p:cNvSpPr/>
            <p:nvPr/>
          </p:nvSpPr>
          <p:spPr>
            <a:xfrm rot="5400000">
              <a:off x="4561560" y="207216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5"/>
            <p:cNvSpPr/>
            <p:nvPr/>
          </p:nvSpPr>
          <p:spPr>
            <a:xfrm rot="19888200">
              <a:off x="3266640" y="377028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等腰三角形 6"/>
            <p:cNvSpPr/>
            <p:nvPr/>
          </p:nvSpPr>
          <p:spPr>
            <a:xfrm rot="12599400">
              <a:off x="5379120" y="402552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7"/>
            <p:cNvSpPr/>
            <p:nvPr/>
          </p:nvSpPr>
          <p:spPr>
            <a:xfrm>
              <a:off x="6256800" y="277164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3384000" y="523620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9"/>
            <p:cNvSpPr/>
            <p:nvPr/>
          </p:nvSpPr>
          <p:spPr>
            <a:xfrm>
              <a:off x="511200" y="277164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57"/>
            <p:cNvGrpSpPr/>
            <p:nvPr/>
          </p:nvGrpSpPr>
          <p:grpSpPr>
            <a:xfrm>
              <a:off x="2943720" y="1800360"/>
              <a:ext cx="3256560" cy="3258000"/>
              <a:chOff x="2943720" y="1800360"/>
              <a:chExt cx="3256560" cy="3258000"/>
            </a:xfrm>
          </p:grpSpPr>
          <p:sp>
            <p:nvSpPr>
              <p:cNvPr id="216" name="同心圆 11"/>
              <p:cNvSpPr/>
              <p:nvPr/>
            </p:nvSpPr>
            <p:spPr>
              <a:xfrm>
                <a:off x="2943720" y="1800360"/>
                <a:ext cx="3256560" cy="3258000"/>
              </a:xfrm>
              <a:prstGeom prst="donut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组合 59"/>
              <p:cNvGrpSpPr/>
              <p:nvPr/>
            </p:nvGrpSpPr>
            <p:grpSpPr>
              <a:xfrm>
                <a:off x="3165120" y="1800360"/>
                <a:ext cx="2813040" cy="2443680"/>
                <a:chOff x="3165120" y="1800360"/>
                <a:chExt cx="2813040" cy="2443680"/>
              </a:xfrm>
            </p:grpSpPr>
            <p:sp>
              <p:nvSpPr>
                <p:cNvPr id="218" name="直接连接符 13"/>
                <p:cNvSpPr/>
                <p:nvPr/>
              </p:nvSpPr>
              <p:spPr>
                <a:xfrm>
                  <a:off x="4573080" y="3432240"/>
                  <a:ext cx="1405080" cy="81180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14"/>
                <p:cNvSpPr/>
                <p:nvPr/>
              </p:nvSpPr>
              <p:spPr>
                <a:xfrm flipH="1" flipV="1">
                  <a:off x="4571640" y="1800360"/>
                  <a:ext cx="2160" cy="163152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直接连接符 15"/>
                <p:cNvSpPr/>
                <p:nvPr/>
              </p:nvSpPr>
              <p:spPr>
                <a:xfrm flipH="1">
                  <a:off x="3165120" y="3431880"/>
                  <a:ext cx="1408680" cy="81216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椭圆 7"/>
          <p:cNvSpPr/>
          <p:nvPr/>
        </p:nvSpPr>
        <p:spPr>
          <a:xfrm>
            <a:off x="3597120" y="2521080"/>
            <a:ext cx="1893960" cy="1895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饼形 2"/>
          <p:cNvSpPr/>
          <p:nvPr/>
        </p:nvSpPr>
        <p:spPr>
          <a:xfrm flipH="1">
            <a:off x="3882960" y="2754360"/>
            <a:ext cx="1408320" cy="140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3240">
            <a:solidFill>
              <a:srgbClr val="a8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饼形 3"/>
          <p:cNvSpPr/>
          <p:nvPr/>
        </p:nvSpPr>
        <p:spPr>
          <a:xfrm>
            <a:off x="3822840" y="2754360"/>
            <a:ext cx="1407960" cy="140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饼形 4"/>
          <p:cNvSpPr/>
          <p:nvPr/>
        </p:nvSpPr>
        <p:spPr>
          <a:xfrm rot="14623800">
            <a:off x="3845520" y="2800440"/>
            <a:ext cx="1407960" cy="140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378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2836800" y="3792600"/>
            <a:ext cx="3021120" cy="1412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空心弧 2"/>
          <p:cNvSpPr/>
          <p:nvPr/>
        </p:nvSpPr>
        <p:spPr>
          <a:xfrm>
            <a:off x="2774880" y="1479600"/>
            <a:ext cx="2179800" cy="2560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4808520" y="1727280"/>
            <a:ext cx="1492200" cy="280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120680" y="199224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2108160" y="501336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5931000" y="2433600"/>
            <a:ext cx="217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5562720" y="2421000"/>
            <a:ext cx="251928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2"/>
          <p:cNvSpPr/>
          <p:nvPr/>
        </p:nvSpPr>
        <p:spPr>
          <a:xfrm>
            <a:off x="2108160" y="5013360"/>
            <a:ext cx="215748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3"/>
          <p:cNvSpPr/>
          <p:nvPr/>
        </p:nvSpPr>
        <p:spPr>
          <a:xfrm>
            <a:off x="1120680" y="1992240"/>
            <a:ext cx="274320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