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C3A-5A16-4E48-A8D4-61789535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C1B-E9BD-4923-94C6-E4500DE1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3D5-6E46-4EF6-9359-096D9DE8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FFD-9860-4070-B62C-EEF402ED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B6F3-9625-4172-9B77-26BB73E3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6F75-83F5-449E-AD2C-40AE72D6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AA8A-EF98-48EB-A3C6-B4EC3398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8599-566A-4868-86BD-E55B49A0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E762-58C2-4084-B7E9-123F7134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7ABC-3653-4F52-BAAE-A23C4271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93DF-BB5C-416D-A4B2-F11679BD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112-6864-4F3A-810B-4D09E2FB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29B9-607A-4BFF-BE4D-447BD363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4F27-9B60-4B45-AC02-B08023F2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8BF2-D230-4C58-852D-F83ED59C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C97B-9731-4F2B-AE7E-F0DA15D9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9641-09DA-4C54-AFD1-BE428DAE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18B-AA1A-4374-A181-4989AA5E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51F-6415-4074-B850-993142D5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A25-AB1E-41D2-A4CA-D9F011CD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ABF-3F89-4377-B4E7-49C1992A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B08-45B5-4FC9-9CB8-CF900B97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603-E014-4C2F-9ECC-CDDBBD70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D8B-78BB-4C77-8020-3C9694BA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2BD5-F92A-4C23-893D-1BFD0FDC73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A93B-4240-492E-838C-582A123294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271A-414E-4019-A406-D15D52FF87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1CA7-8E61-4B40-8151-988EA191F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66"/>
          <p:cNvGrpSpPr/>
          <p:nvPr/>
        </p:nvGrpSpPr>
        <p:grpSpPr>
          <a:xfrm>
            <a:off x="2106720" y="1511280"/>
            <a:ext cx="4176720" cy="3732120"/>
            <a:chOff x="2106720" y="1511280"/>
            <a:chExt cx="4176720" cy="3732120"/>
          </a:xfrm>
        </p:grpSpPr>
        <p:grpSp>
          <p:nvGrpSpPr>
            <p:cNvPr id="83" name="组合 61"/>
            <p:cNvGrpSpPr/>
            <p:nvPr/>
          </p:nvGrpSpPr>
          <p:grpSpPr>
            <a:xfrm>
              <a:off x="2383920" y="1511280"/>
              <a:ext cx="3284640" cy="2327040"/>
              <a:chOff x="2383920" y="1511280"/>
              <a:chExt cx="3284640" cy="2327040"/>
            </a:xfrm>
          </p:grpSpPr>
          <p:sp>
            <p:nvSpPr>
              <p:cNvPr id="84" name="Freeform 7"/>
              <p:cNvSpPr/>
              <p:nvPr/>
            </p:nvSpPr>
            <p:spPr>
              <a:xfrm>
                <a:off x="2383920" y="1511280"/>
                <a:ext cx="3051000" cy="175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0"/>
              <p:cNvSpPr/>
              <p:nvPr/>
            </p:nvSpPr>
            <p:spPr>
              <a:xfrm>
                <a:off x="4582080" y="3327840"/>
                <a:ext cx="1081800" cy="510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4"/>
              <p:cNvSpPr/>
              <p:nvPr/>
            </p:nvSpPr>
            <p:spPr>
              <a:xfrm>
                <a:off x="4614480" y="3407400"/>
                <a:ext cx="1026000" cy="351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5"/>
              <p:cNvSpPr/>
              <p:nvPr/>
            </p:nvSpPr>
            <p:spPr>
              <a:xfrm>
                <a:off x="2426040" y="1511280"/>
                <a:ext cx="3021120" cy="172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2"/>
              <p:cNvSpPr/>
              <p:nvPr/>
            </p:nvSpPr>
            <p:spPr>
              <a:xfrm>
                <a:off x="2979720" y="1541520"/>
                <a:ext cx="2688840" cy="2197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2"/>
              <p:cNvSpPr/>
              <p:nvPr/>
            </p:nvSpPr>
            <p:spPr>
              <a:xfrm>
                <a:off x="2984760" y="1517400"/>
                <a:ext cx="2654280" cy="1482120"/>
              </a:xfrm>
              <a:prstGeom prst="pie">
                <a:avLst/>
              </a:prstGeom>
              <a:solidFill>
                <a:srgbClr val="f2f2f2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组合 30"/>
            <p:cNvGrpSpPr/>
            <p:nvPr/>
          </p:nvGrpSpPr>
          <p:grpSpPr>
            <a:xfrm>
              <a:off x="2106720" y="1756080"/>
              <a:ext cx="3153240" cy="3193560"/>
              <a:chOff x="2106720" y="1756080"/>
              <a:chExt cx="3153240" cy="3193560"/>
            </a:xfrm>
          </p:grpSpPr>
          <p:sp>
            <p:nvSpPr>
              <p:cNvPr id="91" name="Freeform 9"/>
              <p:cNvSpPr/>
              <p:nvPr/>
            </p:nvSpPr>
            <p:spPr>
              <a:xfrm>
                <a:off x="2583360" y="2001600"/>
                <a:ext cx="2666520" cy="115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3"/>
              <p:cNvSpPr/>
              <p:nvPr/>
            </p:nvSpPr>
            <p:spPr>
              <a:xfrm>
                <a:off x="2106720" y="2349720"/>
                <a:ext cx="574920" cy="2599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0"/>
              <p:cNvSpPr/>
              <p:nvPr/>
            </p:nvSpPr>
            <p:spPr>
              <a:xfrm>
                <a:off x="2439720" y="1980360"/>
                <a:ext cx="2810520" cy="1121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1"/>
              <p:cNvSpPr/>
              <p:nvPr/>
            </p:nvSpPr>
            <p:spPr>
              <a:xfrm>
                <a:off x="2172960" y="2705400"/>
                <a:ext cx="519120" cy="21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0"/>
              <p:cNvSpPr/>
              <p:nvPr/>
            </p:nvSpPr>
            <p:spPr>
              <a:xfrm>
                <a:off x="2190960" y="1835640"/>
                <a:ext cx="3065400" cy="2884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1"/>
              <p:cNvSpPr/>
              <p:nvPr/>
            </p:nvSpPr>
            <p:spPr>
              <a:xfrm>
                <a:off x="5112720" y="2887560"/>
                <a:ext cx="146160" cy="190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6"/>
              <p:cNvSpPr/>
              <p:nvPr/>
            </p:nvSpPr>
            <p:spPr>
              <a:xfrm>
                <a:off x="2185560" y="1756080"/>
                <a:ext cx="3074400" cy="1701360"/>
              </a:xfrm>
              <a:prstGeom prst="pi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组合 62"/>
            <p:cNvGrpSpPr/>
            <p:nvPr/>
          </p:nvGrpSpPr>
          <p:grpSpPr>
            <a:xfrm>
              <a:off x="2962440" y="2152080"/>
              <a:ext cx="3321000" cy="3091320"/>
              <a:chOff x="2962440" y="2152080"/>
              <a:chExt cx="3321000" cy="3091320"/>
            </a:xfrm>
          </p:grpSpPr>
          <p:sp>
            <p:nvSpPr>
              <p:cNvPr id="99" name="Freeform 8"/>
              <p:cNvSpPr/>
              <p:nvPr/>
            </p:nvSpPr>
            <p:spPr>
              <a:xfrm>
                <a:off x="3520080" y="2293920"/>
                <a:ext cx="972720" cy="3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2"/>
              <p:cNvSpPr/>
              <p:nvPr/>
            </p:nvSpPr>
            <p:spPr>
              <a:xfrm>
                <a:off x="2962440" y="2559240"/>
                <a:ext cx="3321000" cy="2684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8"/>
              <p:cNvSpPr/>
              <p:nvPr/>
            </p:nvSpPr>
            <p:spPr>
              <a:xfrm>
                <a:off x="3011760" y="2752560"/>
                <a:ext cx="3271680" cy="240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9"/>
              <p:cNvSpPr/>
              <p:nvPr/>
            </p:nvSpPr>
            <p:spPr>
              <a:xfrm>
                <a:off x="3510000" y="2274120"/>
                <a:ext cx="982440" cy="43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29"/>
              <p:cNvSpPr/>
              <p:nvPr/>
            </p:nvSpPr>
            <p:spPr>
              <a:xfrm>
                <a:off x="3022560" y="2170440"/>
                <a:ext cx="3210120" cy="2948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5"/>
              <p:cNvSpPr/>
              <p:nvPr/>
            </p:nvSpPr>
            <p:spPr>
              <a:xfrm>
                <a:off x="3020760" y="2152080"/>
                <a:ext cx="1465920" cy="939240"/>
              </a:xfrm>
              <a:prstGeom prst="pi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组合 63"/>
            <p:cNvGrpSpPr/>
            <p:nvPr/>
          </p:nvGrpSpPr>
          <p:grpSpPr>
            <a:xfrm>
              <a:off x="3642840" y="2192760"/>
              <a:ext cx="2432160" cy="2302200"/>
              <a:chOff x="3642840" y="2192760"/>
              <a:chExt cx="2432160" cy="2302200"/>
            </a:xfrm>
          </p:grpSpPr>
          <p:sp>
            <p:nvSpPr>
              <p:cNvPr id="106" name="Freeform 6"/>
              <p:cNvSpPr/>
              <p:nvPr/>
            </p:nvSpPr>
            <p:spPr>
              <a:xfrm>
                <a:off x="5312160" y="2192760"/>
                <a:ext cx="618120" cy="1255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1"/>
              <p:cNvSpPr/>
              <p:nvPr/>
            </p:nvSpPr>
            <p:spPr>
              <a:xfrm>
                <a:off x="3642840" y="2814840"/>
                <a:ext cx="2428920" cy="1680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6"/>
              <p:cNvSpPr/>
              <p:nvPr/>
            </p:nvSpPr>
            <p:spPr>
              <a:xfrm>
                <a:off x="5312160" y="2192760"/>
                <a:ext cx="633240" cy="135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7"/>
              <p:cNvSpPr/>
              <p:nvPr/>
            </p:nvSpPr>
            <p:spPr>
              <a:xfrm>
                <a:off x="3687120" y="2860560"/>
                <a:ext cx="2349720" cy="154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>
                <a:off x="3700800" y="2596680"/>
                <a:ext cx="2374200" cy="1753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4"/>
              <p:cNvSpPr/>
              <p:nvPr/>
            </p:nvSpPr>
            <p:spPr>
              <a:xfrm>
                <a:off x="3706560" y="2693520"/>
                <a:ext cx="211680" cy="234000"/>
              </a:xfrm>
              <a:prstGeom prst="pi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3"/>
              <p:cNvSpPr/>
              <p:nvPr/>
            </p:nvSpPr>
            <p:spPr>
              <a:xfrm>
                <a:off x="5672880" y="2593080"/>
                <a:ext cx="287280" cy="507960"/>
              </a:xfrm>
              <a:prstGeom prst="pi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任意多边形 32"/>
          <p:cNvSpPr/>
          <p:nvPr/>
        </p:nvSpPr>
        <p:spPr>
          <a:xfrm flipH="1">
            <a:off x="5185800" y="3157560"/>
            <a:ext cx="2049480" cy="468360"/>
          </a:xfrm>
          <a:prstGeom prst="pie">
            <a:avLst/>
          </a:prstGeom>
          <a:noFill/>
          <a:ln w="6480">
            <a:solidFill>
              <a:srgbClr val="be124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33"/>
          <p:cNvSpPr/>
          <p:nvPr/>
        </p:nvSpPr>
        <p:spPr>
          <a:xfrm flipV="1">
            <a:off x="1692360" y="4282200"/>
            <a:ext cx="2152440" cy="466920"/>
          </a:xfrm>
          <a:prstGeom prst="pie">
            <a:avLst/>
          </a:prstGeom>
          <a:noFill/>
          <a:ln w="6480">
            <a:solidFill>
              <a:srgbClr val="11970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34"/>
          <p:cNvSpPr/>
          <p:nvPr/>
        </p:nvSpPr>
        <p:spPr>
          <a:xfrm flipH="1" flipV="1">
            <a:off x="4541760" y="3908520"/>
            <a:ext cx="2697120" cy="473040"/>
          </a:xfrm>
          <a:prstGeom prst="pie">
            <a:avLst/>
          </a:prstGeom>
          <a:noFill/>
          <a:ln w="12600">
            <a:solidFill>
              <a:srgbClr val="005dd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35"/>
          <p:cNvSpPr/>
          <p:nvPr/>
        </p:nvSpPr>
        <p:spPr>
          <a:xfrm>
            <a:off x="1687680" y="2031840"/>
            <a:ext cx="3235320" cy="466920"/>
          </a:xfrm>
          <a:prstGeom prst="pie">
            <a:avLst/>
          </a:prstGeom>
          <a:noFill/>
          <a:ln w="6480">
            <a:solidFill>
              <a:srgbClr val="c73e01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9"/>
          <p:cNvSpPr/>
          <p:nvPr/>
        </p:nvSpPr>
        <p:spPr>
          <a:xfrm>
            <a:off x="1619280" y="1785960"/>
            <a:ext cx="25200" cy="539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0"/>
          <p:cNvSpPr/>
          <p:nvPr/>
        </p:nvSpPr>
        <p:spPr>
          <a:xfrm>
            <a:off x="1620720" y="4464000"/>
            <a:ext cx="25560" cy="539640"/>
          </a:xfrm>
          <a:prstGeom prst="rect">
            <a:avLst/>
          </a:prstGeom>
          <a:solidFill>
            <a:srgbClr val="119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1"/>
          <p:cNvSpPr/>
          <p:nvPr/>
        </p:nvSpPr>
        <p:spPr>
          <a:xfrm>
            <a:off x="7292880" y="4111560"/>
            <a:ext cx="25560" cy="539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2"/>
          <p:cNvSpPr/>
          <p:nvPr/>
        </p:nvSpPr>
        <p:spPr>
          <a:xfrm>
            <a:off x="7291440" y="2887560"/>
            <a:ext cx="25200" cy="540000"/>
          </a:xfrm>
          <a:prstGeom prst="rect">
            <a:avLst/>
          </a:prstGeom>
          <a:solidFill>
            <a:srgbClr val="be1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 flipH="1">
            <a:off x="527040" y="19843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6"/>
          <p:cNvSpPr/>
          <p:nvPr/>
        </p:nvSpPr>
        <p:spPr>
          <a:xfrm>
            <a:off x="587520" y="1671480"/>
            <a:ext cx="11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36c09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 flipH="1">
            <a:off x="527040" y="466560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8"/>
          <p:cNvSpPr/>
          <p:nvPr/>
        </p:nvSpPr>
        <p:spPr>
          <a:xfrm>
            <a:off x="587520" y="4352760"/>
            <a:ext cx="11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9707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 flipH="1">
            <a:off x="7326360" y="30700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2"/>
          <p:cNvSpPr/>
          <p:nvPr/>
        </p:nvSpPr>
        <p:spPr>
          <a:xfrm>
            <a:off x="7346880" y="2757600"/>
            <a:ext cx="11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e1247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 flipH="1">
            <a:off x="7326360" y="42926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4"/>
          <p:cNvSpPr/>
          <p:nvPr/>
        </p:nvSpPr>
        <p:spPr>
          <a:xfrm>
            <a:off x="7346880" y="3981600"/>
            <a:ext cx="11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5967000" y="255600"/>
            <a:ext cx="22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四元素螺旋交错关系</a:t>
            </a:r>
            <a:r>
              <a:rPr b="1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9:0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