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627-82D7-473B-9D91-BE9E9CA0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362-78AE-4255-9E71-F4639696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C13-86EA-46D4-BB35-2E9D4938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AF3-04F3-4CF0-AFB0-6381267D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E51-4F53-4E10-84FA-B9FE278C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813-421A-4873-B59B-5D669DDA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A54-2DCB-484B-A598-B3893EE9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E6D-BE94-4E3A-B7A6-F1BECCE2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3F4-C101-4D3F-B524-43C62BC1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F36-BA91-4EDC-925B-D9F5391F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74A-4A5F-4575-A59A-9FD41FE4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B44-D387-4F8C-A902-D146C8A1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73CD-8E7E-4CEA-8D83-5A98FB62D2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525E-4C85-4CD2-B970-7D8C6F7A5A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2438640" cy="1931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2511360" cy="2514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3429000" cy="1917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9480" y="1143000"/>
            <a:ext cx="1860840" cy="2362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隶书"/>
                <a:ea typeface="华文隶书"/>
              </a:rPr>
              <a:t>旅行</a:t>
            </a:r>
            <a:r>
              <a:rPr b="1" lang="zh-CN" sz="6600" spc="-1" strike="noStrike">
                <a:solidFill>
                  <a:srgbClr val="000000"/>
                </a:solidFill>
                <a:latin typeface="华文隶书"/>
                <a:ea typeface="华文隶书"/>
              </a:rPr>
              <a:t>PPT</a:t>
            </a:r>
            <a:r>
              <a:rPr b="1" lang="zh-CN" sz="6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素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732960"/>
            <a:ext cx="7632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446-E86F-4FE2-8762-258EFDF584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18:3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