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4F38C-5EC5-4A68-BD2B-6039D63C1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B7D55-5639-4D24-B5CA-2094BD52D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D8827-C084-45D6-B2B8-5569CB781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E4025-A1E5-4112-8C1B-BD242AD2D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6FD0C-A37E-4F67-8E38-1CD5558F7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2DCB2-E39D-4F37-A952-CF5B7D9D5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DEB4A-86FF-448D-B619-55A72522E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4DB41-5FE3-44B9-9AE8-9647F1131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EEC83-1C9F-438D-A20F-6C9C69C56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DCAF3-D97E-4E51-9C7C-163EA893E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DD3A-B6F5-4BE4-9FD8-9C31E24C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EAD8-577B-4B86-995C-F2B4E9F16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D902-3AE8-487C-B386-DF984495898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4" descr=""/>
          <p:cNvPicPr/>
          <p:nvPr/>
        </p:nvPicPr>
        <p:blipFill>
          <a:blip r:embed="rId1"/>
          <a:srcRect l="0" t="8241" r="0" b="11505"/>
          <a:stretch/>
        </p:blipFill>
        <p:spPr>
          <a:xfrm>
            <a:off x="0" y="0"/>
            <a:ext cx="12192120" cy="6851520"/>
          </a:xfrm>
          <a:prstGeom prst="rect">
            <a:avLst/>
          </a:prstGeom>
          <a:ln w="0">
            <a:noFill/>
          </a:ln>
        </p:spPr>
      </p:pic>
      <p:sp>
        <p:nvSpPr>
          <p:cNvPr id="42" name="矩形 5"/>
          <p:cNvSpPr/>
          <p:nvPr/>
        </p:nvSpPr>
        <p:spPr>
          <a:xfrm>
            <a:off x="9075600" y="3351240"/>
            <a:ext cx="2724120" cy="315108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文本框 6"/>
          <p:cNvSpPr/>
          <p:nvPr/>
        </p:nvSpPr>
        <p:spPr>
          <a:xfrm>
            <a:off x="9317160" y="363708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最美稻城</a:t>
            </a:r>
            <a:endParaRPr b="0" lang="en-US" sz="4000" spc="-1" strike="noStrike">
              <a:solidFill>
                <a:srgbClr val="000000"/>
              </a:solidFill>
              <a:latin typeface="Calibri"/>
            </a:endParaRPr>
          </a:p>
        </p:txBody>
      </p:sp>
      <p:sp>
        <p:nvSpPr>
          <p:cNvPr id="44" name="文本框 9"/>
          <p:cNvSpPr/>
          <p:nvPr/>
        </p:nvSpPr>
        <p:spPr>
          <a:xfrm>
            <a:off x="9372600" y="442908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亚丁风景区位于稻城的东南面它的景致保持着在地球上近绝迹的纯粹，被国际友人誉为“水蓝色的星球上的最后一片净土”。是摄影爱好者的天堂。</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4" descr=""/>
          <p:cNvPicPr/>
          <p:nvPr/>
        </p:nvPicPr>
        <p:blipFill>
          <a:blip r:embed="rId1"/>
          <a:stretch/>
        </p:blipFill>
        <p:spPr>
          <a:xfrm>
            <a:off x="1440" y="0"/>
            <a:ext cx="12188880" cy="6851520"/>
          </a:xfrm>
          <a:prstGeom prst="rect">
            <a:avLst/>
          </a:prstGeom>
          <a:ln w="0">
            <a:noFill/>
          </a:ln>
        </p:spPr>
      </p:pic>
      <p:sp>
        <p:nvSpPr>
          <p:cNvPr id="46" name="矩形 5"/>
          <p:cNvSpPr/>
          <p:nvPr/>
        </p:nvSpPr>
        <p:spPr>
          <a:xfrm>
            <a:off x="0" y="0"/>
            <a:ext cx="222876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文本框 1"/>
          <p:cNvSpPr/>
          <p:nvPr/>
        </p:nvSpPr>
        <p:spPr>
          <a:xfrm>
            <a:off x="759240" y="361800"/>
            <a:ext cx="1155240" cy="1933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稻城美景</a:t>
            </a:r>
            <a:endParaRPr b="0" lang="en-US" sz="3200" spc="-1" strike="noStrike">
              <a:solidFill>
                <a:srgbClr val="000000"/>
              </a:solidFill>
              <a:latin typeface="Calibri"/>
            </a:endParaRPr>
          </a:p>
        </p:txBody>
      </p:sp>
      <p:sp>
        <p:nvSpPr>
          <p:cNvPr id="48" name="文本框 2"/>
          <p:cNvSpPr/>
          <p:nvPr/>
        </p:nvSpPr>
        <p:spPr>
          <a:xfrm>
            <a:off x="900360" y="361800"/>
            <a:ext cx="423720" cy="6000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山腰茫茫林海，飞泉瀑布于其间，山脚宽谷曲流，镶嵌着明镜般的湖泊。雪峰、冰川、森林、溪流、瀑布、草甸、湖泊有机地组合，野生动物出没于其中，托出了一方静谧的净土。</a:t>
            </a:r>
            <a:endParaRPr b="0" lang="en-US" sz="1600" spc="-1" strike="noStrike">
              <a:solidFill>
                <a:srgbClr val="000000"/>
              </a:solidFill>
              <a:latin typeface="Calibri"/>
            </a:endParaRPr>
          </a:p>
        </p:txBody>
      </p:sp>
      <p:sp>
        <p:nvSpPr>
          <p:cNvPr id="49" name="椭圆 3"/>
          <p:cNvSpPr/>
          <p:nvPr/>
        </p:nvSpPr>
        <p:spPr>
          <a:xfrm>
            <a:off x="3562200" y="2521080"/>
            <a:ext cx="1683000" cy="1682640"/>
          </a:xfrm>
          <a:prstGeom prst="ellipse">
            <a:avLst/>
          </a:prstGeom>
          <a:blipFill rotWithShape="0">
            <a:blip r:embed="rId2"/>
            <a:srcRect/>
            <a:stretch/>
          </a:blip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椭圆 8"/>
          <p:cNvSpPr/>
          <p:nvPr/>
        </p:nvSpPr>
        <p:spPr>
          <a:xfrm>
            <a:off x="6369120" y="2521080"/>
            <a:ext cx="1681200" cy="1682640"/>
          </a:xfrm>
          <a:prstGeom prst="ellipse">
            <a:avLst/>
          </a:prstGeom>
          <a:blipFill rotWithShape="0">
            <a:blip r:embed="rId3"/>
            <a:srcRect/>
            <a:stretch/>
          </a:blip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椭圆 10"/>
          <p:cNvSpPr/>
          <p:nvPr/>
        </p:nvSpPr>
        <p:spPr>
          <a:xfrm>
            <a:off x="9080640" y="2521080"/>
            <a:ext cx="1681200" cy="1682640"/>
          </a:xfrm>
          <a:prstGeom prst="ellipse">
            <a:avLst/>
          </a:prstGeom>
          <a:blipFill rotWithShape="0">
            <a:blip r:embed="rId4"/>
            <a:srcRect/>
            <a:stretch/>
          </a:blip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空心弧 7"/>
          <p:cNvSpPr/>
          <p:nvPr/>
        </p:nvSpPr>
        <p:spPr>
          <a:xfrm rot="13245600">
            <a:off x="3376440" y="2325240"/>
            <a:ext cx="2073600" cy="2073240"/>
          </a:xfrm>
          <a:custGeom>
            <a:avLst/>
            <a:gdLst/>
            <a:ahLst/>
            <a:rect l="l" t="t" r="r" b="b"/>
            <a:pathLst>
              <a:path w="2072768" h="2072768">
                <a:moveTo>
                  <a:pt x="303397" y="1769066"/>
                </a:moveTo>
                <a:cubicBezTo>
                  <a:pt x="-12" y="1465531"/>
                  <a:pt x="-84947" y="1006390"/>
                  <a:pt x="89799" y="614402"/>
                </a:cubicBezTo>
                <a:cubicBezTo>
                  <a:pt x="264545" y="222414"/>
                  <a:pt x="662816" y="-21316"/>
                  <a:pt x="1091386" y="1461"/>
                </a:cubicBezTo>
                <a:cubicBezTo>
                  <a:pt x="1519956" y="24238"/>
                  <a:pt x="1890150" y="308809"/>
                  <a:pt x="2022363" y="717111"/>
                </a:cubicBezTo>
                <a:cubicBezTo>
                  <a:pt x="2154577" y="1125413"/>
                  <a:pt x="2021454" y="1572965"/>
                  <a:pt x="1687582" y="1842631"/>
                </a:cubicBezTo>
                <a:lnTo>
                  <a:pt x="1619350" y="1758151"/>
                </a:lnTo>
                <a:cubicBezTo>
                  <a:pt x="1918239" y="1516740"/>
                  <a:pt x="2037413" y="1116083"/>
                  <a:pt x="1919053" y="750563"/>
                </a:cubicBezTo>
                <a:cubicBezTo>
                  <a:pt x="1800693" y="385043"/>
                  <a:pt x="1469287" y="130289"/>
                  <a:pt x="1085623" y="109899"/>
                </a:cubicBezTo>
                <a:cubicBezTo>
                  <a:pt x="701959" y="89509"/>
                  <a:pt x="345418" y="307701"/>
                  <a:pt x="188982" y="658616"/>
                </a:cubicBezTo>
                <a:cubicBezTo>
                  <a:pt x="32546" y="1009531"/>
                  <a:pt x="108581" y="1420564"/>
                  <a:pt x="380199" y="1692295"/>
                </a:cubicBezTo>
                <a:lnTo>
                  <a:pt x="303397" y="1769066"/>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空心弧 11"/>
          <p:cNvSpPr/>
          <p:nvPr/>
        </p:nvSpPr>
        <p:spPr>
          <a:xfrm rot="13245600">
            <a:off x="6173280" y="2324880"/>
            <a:ext cx="2071800" cy="2073240"/>
          </a:xfrm>
          <a:custGeom>
            <a:avLst/>
            <a:gdLst/>
            <a:ahLst/>
            <a:rect l="l" t="t" r="r" b="b"/>
            <a:pathLst>
              <a:path w="2072768" h="2072768">
                <a:moveTo>
                  <a:pt x="303397" y="1769066"/>
                </a:moveTo>
                <a:cubicBezTo>
                  <a:pt x="-49324" y="1416198"/>
                  <a:pt x="-100561" y="862094"/>
                  <a:pt x="181476" y="450531"/>
                </a:cubicBezTo>
                <a:cubicBezTo>
                  <a:pt x="463512" y="38968"/>
                  <a:pt x="998763" y="-113227"/>
                  <a:pt x="1455147" y="88371"/>
                </a:cubicBezTo>
                <a:cubicBezTo>
                  <a:pt x="1911532" y="289968"/>
                  <a:pt x="2159501" y="788132"/>
                  <a:pt x="2045210" y="1273792"/>
                </a:cubicBezTo>
                <a:cubicBezTo>
                  <a:pt x="1930919" y="1759452"/>
                  <a:pt x="1486811" y="2094749"/>
                  <a:pt x="988418" y="2071658"/>
                </a:cubicBezTo>
                <a:lnTo>
                  <a:pt x="994039" y="1950344"/>
                </a:lnTo>
                <a:cubicBezTo>
                  <a:pt x="1434030" y="1970729"/>
                  <a:pt x="1826098" y="1674722"/>
                  <a:pt x="1926996" y="1245972"/>
                </a:cubicBezTo>
                <a:cubicBezTo>
                  <a:pt x="2027894" y="817221"/>
                  <a:pt x="1808982" y="377432"/>
                  <a:pt x="1406076" y="199458"/>
                </a:cubicBezTo>
                <a:cubicBezTo>
                  <a:pt x="1003170" y="21484"/>
                  <a:pt x="530641" y="155845"/>
                  <a:pt x="281653" y="519181"/>
                </a:cubicBezTo>
                <a:cubicBezTo>
                  <a:pt x="32666" y="882517"/>
                  <a:pt x="77898" y="1371691"/>
                  <a:pt x="389288" y="1683210"/>
                </a:cubicBezTo>
                <a:lnTo>
                  <a:pt x="303397" y="1769066"/>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 name="空心弧 12"/>
          <p:cNvSpPr/>
          <p:nvPr/>
        </p:nvSpPr>
        <p:spPr>
          <a:xfrm rot="13245600">
            <a:off x="8884800" y="2324880"/>
            <a:ext cx="2073240" cy="2073240"/>
          </a:xfrm>
          <a:custGeom>
            <a:avLst/>
            <a:gdLst/>
            <a:ahLst/>
            <a:rect l="l" t="t" r="r" b="b"/>
            <a:pathLst>
              <a:path w="2072768" h="2072768">
                <a:moveTo>
                  <a:pt x="113" y="1051712"/>
                </a:moveTo>
                <a:cubicBezTo>
                  <a:pt x="-6172" y="626812"/>
                  <a:pt x="247561" y="241130"/>
                  <a:pt x="640238" y="78699"/>
                </a:cubicBezTo>
                <a:cubicBezTo>
                  <a:pt x="1032916" y="-83732"/>
                  <a:pt x="1484960" y="10007"/>
                  <a:pt x="1780671" y="315186"/>
                </a:cubicBezTo>
                <a:cubicBezTo>
                  <a:pt x="2076382" y="620365"/>
                  <a:pt x="2155834" y="1075138"/>
                  <a:pt x="1981113" y="1462503"/>
                </a:cubicBezTo>
                <a:cubicBezTo>
                  <a:pt x="1806392" y="1849869"/>
                  <a:pt x="1412908" y="2091325"/>
                  <a:pt x="988417" y="2071658"/>
                </a:cubicBezTo>
                <a:lnTo>
                  <a:pt x="994039" y="1950344"/>
                </a:lnTo>
                <a:cubicBezTo>
                  <a:pt x="1368788" y="1967707"/>
                  <a:pt x="1716164" y="1754544"/>
                  <a:pt x="1870411" y="1412570"/>
                </a:cubicBezTo>
                <a:cubicBezTo>
                  <a:pt x="2024658" y="1070596"/>
                  <a:pt x="1954517" y="669113"/>
                  <a:pt x="1693457" y="399695"/>
                </a:cubicBezTo>
                <a:cubicBezTo>
                  <a:pt x="1432397" y="130277"/>
                  <a:pt x="1033323" y="47523"/>
                  <a:pt x="686659" y="190920"/>
                </a:cubicBezTo>
                <a:cubicBezTo>
                  <a:pt x="339995" y="334317"/>
                  <a:pt x="115995" y="674805"/>
                  <a:pt x="121543" y="1049916"/>
                </a:cubicBezTo>
                <a:lnTo>
                  <a:pt x="113" y="1051712"/>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 name="文本框 13"/>
          <p:cNvSpPr/>
          <p:nvPr/>
        </p:nvSpPr>
        <p:spPr>
          <a:xfrm>
            <a:off x="3252960" y="147312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亚丁风景区位于稻城的东南面它的景致保持着在地球上近绝迹的纯粹。</a:t>
            </a:r>
            <a:endParaRPr b="0" lang="en-US" sz="1400" spc="-1" strike="noStrike">
              <a:solidFill>
                <a:srgbClr val="000000"/>
              </a:solidFill>
              <a:latin typeface="Calibri"/>
            </a:endParaRPr>
          </a:p>
        </p:txBody>
      </p:sp>
      <p:sp>
        <p:nvSpPr>
          <p:cNvPr id="56" name="文本框 14"/>
          <p:cNvSpPr/>
          <p:nvPr/>
        </p:nvSpPr>
        <p:spPr>
          <a:xfrm>
            <a:off x="8825040" y="147312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亚丁风景区位于稻城的东南面它的景致保持着在地球上近绝迹的纯粹。</a:t>
            </a:r>
            <a:endParaRPr b="0" lang="en-US" sz="1400" spc="-1" strike="noStrike">
              <a:solidFill>
                <a:srgbClr val="000000"/>
              </a:solidFill>
              <a:latin typeface="Calibri"/>
            </a:endParaRPr>
          </a:p>
        </p:txBody>
      </p:sp>
      <p:sp>
        <p:nvSpPr>
          <p:cNvPr id="57" name="文本框 15"/>
          <p:cNvSpPr/>
          <p:nvPr/>
        </p:nvSpPr>
        <p:spPr>
          <a:xfrm>
            <a:off x="6265800" y="445464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亚丁风景区位于稻城的东南面它的景致保持着在地球上近绝迹的纯粹。</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图片 4" descr=""/>
          <p:cNvPicPr/>
          <p:nvPr/>
        </p:nvPicPr>
        <p:blipFill>
          <a:blip r:embed="rId1"/>
          <a:stretch/>
        </p:blipFill>
        <p:spPr>
          <a:xfrm>
            <a:off x="1440" y="0"/>
            <a:ext cx="12188880" cy="6851520"/>
          </a:xfrm>
          <a:prstGeom prst="rect">
            <a:avLst/>
          </a:prstGeom>
          <a:ln w="0">
            <a:noFill/>
          </a:ln>
        </p:spPr>
      </p:pic>
      <p:sp>
        <p:nvSpPr>
          <p:cNvPr id="59" name="矩形 5"/>
          <p:cNvSpPr/>
          <p:nvPr/>
        </p:nvSpPr>
        <p:spPr>
          <a:xfrm>
            <a:off x="0" y="0"/>
            <a:ext cx="1219032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任意多边形 24"/>
          <p:cNvSpPr/>
          <p:nvPr/>
        </p:nvSpPr>
        <p:spPr>
          <a:xfrm>
            <a:off x="1006560" y="2610000"/>
            <a:ext cx="420480" cy="207720"/>
          </a:xfrm>
          <a:custGeom>
            <a:avLst/>
            <a:gdLst/>
            <a:ahLst/>
            <a:rect l="l" t="t" r="r" b="b"/>
            <a:pathLst>
              <a:path w="470453" h="207847">
                <a:moveTo>
                  <a:pt x="470453" y="306"/>
                </a:moveTo>
                <a:lnTo>
                  <a:pt x="470453" y="207847"/>
                </a:lnTo>
                <a:lnTo>
                  <a:pt x="0" y="0"/>
                </a:lnTo>
                <a:lnTo>
                  <a:pt x="470453" y="306"/>
                </a:lnTo>
                <a:close/>
              </a:path>
            </a:pathLst>
          </a:custGeom>
          <a:solidFill>
            <a:srgbClr val="5482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1" name="图片 9" descr=""/>
          <p:cNvPicPr/>
          <p:nvPr/>
        </p:nvPicPr>
        <p:blipFill>
          <a:blip r:embed="rId2"/>
          <a:stretch/>
        </p:blipFill>
        <p:spPr>
          <a:xfrm>
            <a:off x="1314360" y="1703520"/>
            <a:ext cx="4157640" cy="2879640"/>
          </a:xfrm>
          <a:prstGeom prst="rect">
            <a:avLst/>
          </a:prstGeom>
          <a:ln w="9360">
            <a:solidFill>
              <a:srgbClr val="595959"/>
            </a:solidFill>
            <a:miter/>
          </a:ln>
        </p:spPr>
      </p:pic>
      <p:pic>
        <p:nvPicPr>
          <p:cNvPr id="62" name="图片 17" descr=""/>
          <p:cNvPicPr/>
          <p:nvPr/>
        </p:nvPicPr>
        <p:blipFill>
          <a:blip r:embed="rId3"/>
          <a:stretch/>
        </p:blipFill>
        <p:spPr>
          <a:xfrm>
            <a:off x="6784920" y="1703520"/>
            <a:ext cx="4159440" cy="2879640"/>
          </a:xfrm>
          <a:prstGeom prst="rect">
            <a:avLst/>
          </a:prstGeom>
          <a:ln w="9360">
            <a:solidFill>
              <a:srgbClr val="595959"/>
            </a:solidFill>
            <a:miter/>
          </a:ln>
        </p:spPr>
      </p:pic>
      <p:sp>
        <p:nvSpPr>
          <p:cNvPr id="63" name="文本框 18"/>
          <p:cNvSpPr/>
          <p:nvPr/>
        </p:nvSpPr>
        <p:spPr>
          <a:xfrm>
            <a:off x="1352520" y="4653000"/>
            <a:ext cx="403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亚丁风景区位于稻城的东南面它的景致保持着在地球上近绝迹的纯粹。</a:t>
            </a:r>
            <a:endParaRPr b="0" lang="en-US" sz="1800" spc="-1" strike="noStrike">
              <a:solidFill>
                <a:srgbClr val="000000"/>
              </a:solidFill>
              <a:latin typeface="Calibri"/>
            </a:endParaRPr>
          </a:p>
        </p:txBody>
      </p:sp>
      <p:sp>
        <p:nvSpPr>
          <p:cNvPr id="64" name="矩形 22"/>
          <p:cNvSpPr/>
          <p:nvPr/>
        </p:nvSpPr>
        <p:spPr>
          <a:xfrm>
            <a:off x="1004760" y="2082960"/>
            <a:ext cx="1960560" cy="534960"/>
          </a:xfrm>
          <a:prstGeom prst="rect">
            <a:avLst/>
          </a:prstGeom>
          <a:solidFill>
            <a:srgbClr val="a9d18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任意多边形 26"/>
          <p:cNvSpPr/>
          <p:nvPr/>
        </p:nvSpPr>
        <p:spPr>
          <a:xfrm>
            <a:off x="6367320" y="2610000"/>
            <a:ext cx="419400" cy="207720"/>
          </a:xfrm>
          <a:custGeom>
            <a:avLst/>
            <a:gdLst/>
            <a:ahLst/>
            <a:rect l="l" t="t" r="r" b="b"/>
            <a:pathLst>
              <a:path w="470453" h="207847">
                <a:moveTo>
                  <a:pt x="470453" y="306"/>
                </a:moveTo>
                <a:lnTo>
                  <a:pt x="470453" y="207847"/>
                </a:lnTo>
                <a:lnTo>
                  <a:pt x="0" y="0"/>
                </a:lnTo>
                <a:lnTo>
                  <a:pt x="470453" y="306"/>
                </a:lnTo>
                <a:close/>
              </a:path>
            </a:pathLst>
          </a:custGeom>
          <a:solidFill>
            <a:srgbClr val="5482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矩形 27"/>
          <p:cNvSpPr/>
          <p:nvPr/>
        </p:nvSpPr>
        <p:spPr>
          <a:xfrm>
            <a:off x="6364440" y="2082960"/>
            <a:ext cx="1960560" cy="534960"/>
          </a:xfrm>
          <a:prstGeom prst="rect">
            <a:avLst/>
          </a:prstGeom>
          <a:solidFill>
            <a:srgbClr val="a9d18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文本框 28"/>
          <p:cNvSpPr/>
          <p:nvPr/>
        </p:nvSpPr>
        <p:spPr>
          <a:xfrm>
            <a:off x="1243080" y="2097000"/>
            <a:ext cx="14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冲古草坪</a:t>
            </a:r>
            <a:endParaRPr b="0" lang="en-US" sz="2400" spc="-1" strike="noStrike">
              <a:solidFill>
                <a:srgbClr val="000000"/>
              </a:solidFill>
              <a:latin typeface="Calibri"/>
            </a:endParaRPr>
          </a:p>
        </p:txBody>
      </p:sp>
      <p:sp>
        <p:nvSpPr>
          <p:cNvPr id="68" name="文本框 29"/>
          <p:cNvSpPr/>
          <p:nvPr/>
        </p:nvSpPr>
        <p:spPr>
          <a:xfrm>
            <a:off x="6602400" y="2097000"/>
            <a:ext cx="14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冲古草坪</a:t>
            </a:r>
            <a:endParaRPr b="0" lang="en-US" sz="2400" spc="-1" strike="noStrike">
              <a:solidFill>
                <a:srgbClr val="000000"/>
              </a:solidFill>
              <a:latin typeface="Calibri"/>
            </a:endParaRPr>
          </a:p>
        </p:txBody>
      </p:sp>
      <p:sp>
        <p:nvSpPr>
          <p:cNvPr id="69" name="文本框 18"/>
          <p:cNvSpPr/>
          <p:nvPr/>
        </p:nvSpPr>
        <p:spPr>
          <a:xfrm>
            <a:off x="6870600" y="4653000"/>
            <a:ext cx="403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亚丁风景区位于稻城的东南面它的景致保持着在地球上近绝迹的纯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4" descr=""/>
          <p:cNvPicPr/>
          <p:nvPr/>
        </p:nvPicPr>
        <p:blipFill>
          <a:blip r:embed="rId1"/>
          <a:stretch/>
        </p:blipFill>
        <p:spPr>
          <a:xfrm>
            <a:off x="1440" y="0"/>
            <a:ext cx="12188880" cy="6851520"/>
          </a:xfrm>
          <a:prstGeom prst="rect">
            <a:avLst/>
          </a:prstGeom>
          <a:ln w="0">
            <a:noFill/>
          </a:ln>
        </p:spPr>
      </p:pic>
      <p:sp>
        <p:nvSpPr>
          <p:cNvPr id="71" name="矩形 5"/>
          <p:cNvSpPr/>
          <p:nvPr/>
        </p:nvSpPr>
        <p:spPr>
          <a:xfrm>
            <a:off x="0" y="0"/>
            <a:ext cx="1219032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文本框 18"/>
          <p:cNvSpPr/>
          <p:nvPr/>
        </p:nvSpPr>
        <p:spPr>
          <a:xfrm>
            <a:off x="5423040" y="3809880"/>
            <a:ext cx="15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谢谢观看</a:t>
            </a:r>
            <a:endParaRPr b="0" lang="en-US" sz="2400" spc="-1" strike="noStrike">
              <a:solidFill>
                <a:srgbClr val="000000"/>
              </a:solidFill>
              <a:latin typeface="Calibri"/>
            </a:endParaRPr>
          </a:p>
        </p:txBody>
      </p:sp>
      <p:sp>
        <p:nvSpPr>
          <p:cNvPr id="73" name="椭圆 10"/>
          <p:cNvSpPr/>
          <p:nvPr/>
        </p:nvSpPr>
        <p:spPr>
          <a:xfrm>
            <a:off x="5337000" y="2023920"/>
            <a:ext cx="1681200" cy="1681200"/>
          </a:xfrm>
          <a:prstGeom prst="ellipse">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文本框 24"/>
          <p:cNvSpPr/>
          <p:nvPr/>
        </p:nvSpPr>
        <p:spPr>
          <a:xfrm>
            <a:off x="5264280" y="4425840"/>
            <a:ext cx="206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76"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7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563c1"/>
                </a:solidFill>
                <a:uFillTx/>
                <a:latin typeface="Calibri"/>
                <a:ea typeface="宋体"/>
                <a:hlinkClick r:id="rId2"/>
              </a:rPr>
              <a:t>http://</a:t>
            </a:r>
            <a:r>
              <a:rPr b="0" lang="en-US" sz="1600" spc="-1" strike="noStrike" u="sng">
                <a:solidFill>
                  <a:srgbClr val="0563c1"/>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563c1"/>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563c1"/>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563c1"/>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563c1"/>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563c1"/>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563c1"/>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563c1"/>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85461147-CDFC-4CD0-9439-2E050A3234F6}"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01:34:52Z</dcterms:created>
  <dc:creator>D13001</dc:creator>
  <dc:description/>
  <dc:language>en-US</dc:language>
  <cp:lastModifiedBy>a</cp:lastModifiedBy>
  <dcterms:modified xsi:type="dcterms:W3CDTF">2015-06-13T08:53:15Z</dcterms:modified>
  <cp:revision>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