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9106-DF06-4F90-9074-1E9115264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E55F-D60F-4735-81F4-C7A7AFA1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16F8-136A-48D2-B9BD-5B1CC4387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16DA-FB73-434D-8268-610B6AB4F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B4B2-D6A8-4D9B-AF00-D9772B67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A091-C094-4307-A76B-85E0E487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9C21-F83E-4363-B10C-C1400D0D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E5B5-2F8E-4D8E-95F5-CCA3AEE0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D77D-49B8-4FF3-873F-CCB0507E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51EB-47A2-432B-AA4D-05833F98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129F-B16F-4942-8729-83C0A4DD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DA26-F523-4D6E-B590-07F0AD74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E9A3-4E74-46AA-A44C-7998018FD88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4A4C-C670-43B2-82BC-42575F08C8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571680" y="1833480"/>
            <a:ext cx="4609800" cy="345780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3" descr=""/>
          <p:cNvPicPr/>
          <p:nvPr/>
        </p:nvPicPr>
        <p:blipFill>
          <a:blip r:embed="rId2"/>
          <a:stretch/>
        </p:blipFill>
        <p:spPr>
          <a:xfrm>
            <a:off x="5334120" y="2862360"/>
            <a:ext cx="3238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1D16-52A8-4328-8D69-259DB19FA0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00:52:25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