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090-0142-4BED-BE97-83616EF6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F7E-6AAD-4762-9273-64F4041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A6F-7BAE-45CA-8EFA-6C579DDB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F22-A5AD-4499-A5E6-68734ED9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8635-0758-47CE-B787-C6826457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AAB8-F271-4EB7-9C00-D4527DA8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8B24-C1F5-44C6-B482-6CBC5D6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4FE9-1F05-414E-B1AA-C45E92CD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E2C-5189-4E33-962E-619E20B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9FC-D561-4B55-BF75-F9D8D36D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A911-6C80-4F5D-A3FB-029A5E22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B80-9186-400E-9B80-AABCE62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011C-DA4F-4039-9FD3-2538784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F7CD-3229-4110-8216-9383CFB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ADD-C6BA-40A3-8831-B07CE242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A357-C1DC-4CAC-935B-87D8A2B4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8BC6-3FBF-4960-8F79-E90A32F8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347-F3B1-41C8-B035-8C1B722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358-1B48-4B48-8247-269350F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55B-74B5-4968-8A6F-37540696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86D-4FFA-484B-B484-349E721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61F-93A2-44F9-B29D-3C0F3F7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D5A-633A-40A1-B37A-CCE76C8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75D-6942-4D80-9758-4C00DD8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BF5E-3335-4289-A390-9DC718E399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DB52-7930-4498-8649-6BFB789B6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91C3-BD0E-4D05-815D-403D361520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4693-451C-40D4-B8B3-4CC35CA9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​​ 2"/>
          <p:cNvSpPr/>
          <p:nvPr/>
        </p:nvSpPr>
        <p:spPr>
          <a:xfrm>
            <a:off x="1042920" y="2517840"/>
            <a:ext cx="2484360" cy="21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梯形 3"/>
          <p:cNvSpPr/>
          <p:nvPr/>
        </p:nvSpPr>
        <p:spPr>
          <a:xfrm flipV="1">
            <a:off x="1042920" y="2120040"/>
            <a:ext cx="2484360" cy="411480"/>
          </a:xfrm>
          <a:custGeom>
            <a:avLst/>
            <a:gdLst>
              <a:gd name="textAreaLeft" fmla="*/ 452160 w 2484360"/>
              <a:gd name="textAreaRight" fmla="*/ 2032200 w 2484360"/>
              <a:gd name="textAreaTop" fmla="*/ 74880 h 411480"/>
              <a:gd name="textAreaBottom" fmla="*/ 336600 h 4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71" y="21600"/>
                </a:lnTo>
                <a:lnTo>
                  <a:pt x="3929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​​ 4"/>
          <p:cNvSpPr/>
          <p:nvPr/>
        </p:nvSpPr>
        <p:spPr>
          <a:xfrm>
            <a:off x="4427640" y="1341360"/>
            <a:ext cx="396864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​​ 5"/>
          <p:cNvSpPr/>
          <p:nvPr/>
        </p:nvSpPr>
        <p:spPr>
          <a:xfrm>
            <a:off x="4427640" y="2475000"/>
            <a:ext cx="39686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​​ 6"/>
          <p:cNvSpPr/>
          <p:nvPr/>
        </p:nvSpPr>
        <p:spPr>
          <a:xfrm>
            <a:off x="4427640" y="3610080"/>
            <a:ext cx="396864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​​ 7"/>
          <p:cNvSpPr/>
          <p:nvPr/>
        </p:nvSpPr>
        <p:spPr>
          <a:xfrm>
            <a:off x="4427640" y="4743360"/>
            <a:ext cx="39686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肘形连接符​​ 9"/>
          <p:cNvCxnSpPr>
            <a:stCxn id="84" idx="0"/>
            <a:endCxn id="85" idx="1"/>
          </p:cNvCxnSpPr>
          <p:nvPr/>
        </p:nvCxnSpPr>
        <p:spPr>
          <a:xfrm flipH="1" flipV="1" rot="5400000">
            <a:off x="3551760" y="1451160"/>
            <a:ext cx="626040" cy="1126080"/>
          </a:xfrm>
          <a:prstGeom prst="bentConnector4">
            <a:avLst>
              <a:gd name="adj1" fmla="val -69044"/>
              <a:gd name="adj2" fmla="val 59929"/>
            </a:avLst>
          </a:prstGeom>
          <a:ln w="19080">
            <a:solidFill>
              <a:srgbClr val="009ad0"/>
            </a:solidFill>
            <a:miter/>
            <a:headEnd len="med" type="oval" w="med"/>
            <a:tailEnd len="med" type="oval" w="med"/>
          </a:ln>
        </p:spPr>
      </p:cxnSp>
      <p:cxnSp>
        <p:nvCxnSpPr>
          <p:cNvPr id="90" name="肘形连接符​​ 11"/>
          <p:cNvCxnSpPr>
            <a:stCxn id="83" idx="2"/>
            <a:endCxn id="88" idx="1"/>
          </p:cNvCxnSpPr>
          <p:nvPr/>
        </p:nvCxnSpPr>
        <p:spPr>
          <a:xfrm flipH="1" rot="16200000">
            <a:off x="3146760" y="3822840"/>
            <a:ext cx="419400" cy="2143080"/>
          </a:xfrm>
          <a:prstGeom prst="bentConnector2">
            <a:avLst/>
          </a:prstGeom>
          <a:ln w="19080">
            <a:solidFill>
              <a:srgbClr val="009ad0"/>
            </a:solidFill>
            <a:miter/>
            <a:headEnd len="med" type="oval" w="med"/>
            <a:tailEnd len="med" type="oval" w="med"/>
          </a:ln>
        </p:spPr>
      </p:cxnSp>
      <p:sp>
        <p:nvSpPr>
          <p:cNvPr id="91" name="矩形​​ 18"/>
          <p:cNvSpPr/>
          <p:nvPr/>
        </p:nvSpPr>
        <p:spPr>
          <a:xfrm>
            <a:off x="1629360" y="340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​​ 20"/>
          <p:cNvSpPr/>
          <p:nvPr/>
        </p:nvSpPr>
        <p:spPr>
          <a:xfrm>
            <a:off x="5431320" y="1523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​​ 21"/>
          <p:cNvSpPr/>
          <p:nvPr/>
        </p:nvSpPr>
        <p:spPr>
          <a:xfrm>
            <a:off x="5431320" y="2651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​​ 23"/>
          <p:cNvSpPr/>
          <p:nvPr/>
        </p:nvSpPr>
        <p:spPr>
          <a:xfrm>
            <a:off x="5431320" y="3745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​​ 24"/>
          <p:cNvSpPr/>
          <p:nvPr/>
        </p:nvSpPr>
        <p:spPr>
          <a:xfrm>
            <a:off x="5431320" y="491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​​ 15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65F-EC20-469D-9C36-B50E259956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0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