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084-4F64-4162-98A2-90AC5DA2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50D-C763-451E-AF02-BEB19E4D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3B0-7B5F-4A2F-ADB5-64E2C230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985-6321-4746-B5F0-74E1EBCE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07AD-1460-4268-AFD9-0C6127A8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91D8-3AB4-42A0-B953-C3A1111D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C75E-8E11-4739-808D-8F177F0A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660F-6E3E-40AD-B66A-6D2C38E4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3BB6-A65A-4B45-BC0D-806A9642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9FF2-AC72-46DE-B412-BD09E4DC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15E2-4469-48E5-AC2A-8C71F3F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40E-9343-49E4-A277-44786271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E32A-3F32-4ED4-AB1B-2280EA62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2240-1558-414F-B778-99022F00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970C-6E31-4692-8F7C-051418DA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6837-6427-49C9-B67F-26CA9D10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2BC6-6950-4379-A8D2-CA42999F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2A6-4DE6-41C9-92DE-D087D0CA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79C-ABA7-4A0E-A489-0826B510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2E8-F84B-4BCD-9916-40F7725C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D3B-711B-4FF5-A1C4-54B6ABDF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F79-76B8-4F86-8997-D784B1AA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5CE-886B-49EA-87C8-C5A5139E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902-5674-463E-8878-E4094CF8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4219-7182-4A24-BBCB-358A3E92EBD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9A3F-CF9F-4E94-B579-A341DB89B1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8223-4125-4AEF-94F0-4FD256C03C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31A5-CA1C-458E-9ECE-E30C8D61D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65"/>
          <p:cNvSpPr/>
          <p:nvPr/>
        </p:nvSpPr>
        <p:spPr>
          <a:xfrm>
            <a:off x="1857240" y="5072040"/>
            <a:ext cx="5286600" cy="2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4"/>
          <p:cNvSpPr/>
          <p:nvPr/>
        </p:nvSpPr>
        <p:spPr>
          <a:xfrm>
            <a:off x="4357800" y="4844880"/>
            <a:ext cx="428400" cy="4287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"/>
          <p:cNvSpPr/>
          <p:nvPr/>
        </p:nvSpPr>
        <p:spPr>
          <a:xfrm rot="1040400">
            <a:off x="1020600" y="3813120"/>
            <a:ext cx="7091640" cy="1290600"/>
          </a:xfrm>
          <a:prstGeom prst="roundRect">
            <a:avLst>
              <a:gd name="adj" fmla="val 898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362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1"/>
          <p:cNvGrpSpPr/>
          <p:nvPr/>
        </p:nvGrpSpPr>
        <p:grpSpPr>
          <a:xfrm>
            <a:off x="5500800" y="3571920"/>
            <a:ext cx="1062000" cy="1168560"/>
            <a:chOff x="5500800" y="3571920"/>
            <a:chExt cx="1062000" cy="1168560"/>
          </a:xfrm>
        </p:grpSpPr>
        <p:grpSp>
          <p:nvGrpSpPr>
            <p:cNvPr id="86" name="组合 12"/>
            <p:cNvGrpSpPr/>
            <p:nvPr/>
          </p:nvGrpSpPr>
          <p:grpSpPr>
            <a:xfrm>
              <a:off x="5500800" y="3571920"/>
              <a:ext cx="1062000" cy="1062000"/>
              <a:chOff x="5500800" y="3571920"/>
              <a:chExt cx="1062000" cy="1062000"/>
            </a:xfrm>
          </p:grpSpPr>
          <p:sp>
            <p:nvSpPr>
              <p:cNvPr id="87" name="椭圆 14"/>
              <p:cNvSpPr/>
              <p:nvPr/>
            </p:nvSpPr>
            <p:spPr>
              <a:xfrm>
                <a:off x="5500800" y="3571920"/>
                <a:ext cx="1062000" cy="10620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椭圆 15"/>
              <p:cNvSpPr/>
              <p:nvPr/>
            </p:nvSpPr>
            <p:spPr>
              <a:xfrm>
                <a:off x="5535720" y="3638520"/>
                <a:ext cx="672480" cy="554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椭圆 13"/>
            <p:cNvSpPr/>
            <p:nvPr/>
          </p:nvSpPr>
          <p:spPr>
            <a:xfrm rot="20122200">
              <a:off x="5879880" y="4395240"/>
              <a:ext cx="644400" cy="221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Oval 65"/>
          <p:cNvSpPr/>
          <p:nvPr/>
        </p:nvSpPr>
        <p:spPr>
          <a:xfrm>
            <a:off x="1522440" y="4051440"/>
            <a:ext cx="11430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16"/>
          <p:cNvGrpSpPr/>
          <p:nvPr/>
        </p:nvGrpSpPr>
        <p:grpSpPr>
          <a:xfrm>
            <a:off x="1500120" y="2857680"/>
            <a:ext cx="1276560" cy="1404360"/>
            <a:chOff x="1500120" y="2857680"/>
            <a:chExt cx="1276560" cy="1404360"/>
          </a:xfrm>
        </p:grpSpPr>
        <p:grpSp>
          <p:nvGrpSpPr>
            <p:cNvPr id="92" name="组合 17"/>
            <p:cNvGrpSpPr/>
            <p:nvPr/>
          </p:nvGrpSpPr>
          <p:grpSpPr>
            <a:xfrm>
              <a:off x="1500120" y="2857680"/>
              <a:ext cx="1276560" cy="1276200"/>
              <a:chOff x="1500120" y="2857680"/>
              <a:chExt cx="1276560" cy="1276200"/>
            </a:xfrm>
          </p:grpSpPr>
          <p:sp>
            <p:nvSpPr>
              <p:cNvPr id="93" name="椭圆 19"/>
              <p:cNvSpPr/>
              <p:nvPr/>
            </p:nvSpPr>
            <p:spPr>
              <a:xfrm>
                <a:off x="1500120" y="2857680"/>
                <a:ext cx="1276560" cy="12762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椭圆 20"/>
              <p:cNvSpPr/>
              <p:nvPr/>
            </p:nvSpPr>
            <p:spPr>
              <a:xfrm>
                <a:off x="1541880" y="2937960"/>
                <a:ext cx="808560" cy="6656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椭圆 18"/>
            <p:cNvSpPr/>
            <p:nvPr/>
          </p:nvSpPr>
          <p:spPr>
            <a:xfrm rot="20122200">
              <a:off x="1955520" y="3846600"/>
              <a:ext cx="774720" cy="26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Oval 65"/>
          <p:cNvSpPr/>
          <p:nvPr/>
        </p:nvSpPr>
        <p:spPr>
          <a:xfrm rot="393000">
            <a:off x="6653160" y="4778280"/>
            <a:ext cx="11430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0"/>
          <p:cNvGrpSpPr/>
          <p:nvPr/>
        </p:nvGrpSpPr>
        <p:grpSpPr>
          <a:xfrm>
            <a:off x="6643800" y="3571920"/>
            <a:ext cx="1276200" cy="1404360"/>
            <a:chOff x="6643800" y="3571920"/>
            <a:chExt cx="1276200" cy="1404360"/>
          </a:xfrm>
        </p:grpSpPr>
        <p:grpSp>
          <p:nvGrpSpPr>
            <p:cNvPr id="98" name="组合 5"/>
            <p:cNvGrpSpPr/>
            <p:nvPr/>
          </p:nvGrpSpPr>
          <p:grpSpPr>
            <a:xfrm>
              <a:off x="6643800" y="3571920"/>
              <a:ext cx="1276200" cy="1276200"/>
              <a:chOff x="6643800" y="3571920"/>
              <a:chExt cx="1276200" cy="1276200"/>
            </a:xfrm>
          </p:grpSpPr>
          <p:sp>
            <p:nvSpPr>
              <p:cNvPr id="99" name="椭圆 6"/>
              <p:cNvSpPr/>
              <p:nvPr/>
            </p:nvSpPr>
            <p:spPr>
              <a:xfrm>
                <a:off x="6643800" y="3571920"/>
                <a:ext cx="1276200" cy="12762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椭圆 7"/>
              <p:cNvSpPr/>
              <p:nvPr/>
            </p:nvSpPr>
            <p:spPr>
              <a:xfrm>
                <a:off x="6685560" y="3652200"/>
                <a:ext cx="808200" cy="6656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椭圆 9"/>
            <p:cNvSpPr/>
            <p:nvPr/>
          </p:nvSpPr>
          <p:spPr>
            <a:xfrm rot="20122200">
              <a:off x="7099200" y="4561200"/>
              <a:ext cx="774360" cy="26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Oval 65"/>
          <p:cNvSpPr/>
          <p:nvPr/>
        </p:nvSpPr>
        <p:spPr>
          <a:xfrm rot="555000">
            <a:off x="5572080" y="4594320"/>
            <a:ext cx="857160" cy="171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下箭头 26"/>
          <p:cNvSpPr/>
          <p:nvPr/>
        </p:nvSpPr>
        <p:spPr>
          <a:xfrm rot="16801800">
            <a:off x="3879000" y="2838600"/>
            <a:ext cx="757080" cy="1663920"/>
          </a:xfrm>
          <a:prstGeom prst="down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2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1698480" y="329868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6838920" y="401328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5572080" y="393696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 rot="563400">
            <a:off x="3574080" y="3454200"/>
            <a:ext cx="1214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1220760" y="1582560"/>
            <a:ext cx="189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9"/>
          <p:cNvSpPr/>
          <p:nvPr/>
        </p:nvSpPr>
        <p:spPr>
          <a:xfrm>
            <a:off x="1285920" y="1309680"/>
            <a:ext cx="1581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36c09"/>
                </a:solidFill>
                <a:latin typeface="微软雅黑"/>
                <a:ea typeface="微软雅黑"/>
              </a:rPr>
              <a:t>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9"/>
          <p:cNvSpPr/>
          <p:nvPr/>
        </p:nvSpPr>
        <p:spPr>
          <a:xfrm>
            <a:off x="1214280" y="2143080"/>
            <a:ext cx="189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9"/>
          <p:cNvSpPr/>
          <p:nvPr/>
        </p:nvSpPr>
        <p:spPr>
          <a:xfrm>
            <a:off x="6364440" y="2201760"/>
            <a:ext cx="189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6429240" y="1928880"/>
            <a:ext cx="1581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6357960" y="2762280"/>
            <a:ext cx="1900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4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比关系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1360" y="310824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比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5:5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