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A78-69A1-4566-BB26-97AD3F13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B89-77D6-49CE-9418-E71907B2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F09-5D5E-407A-AFC0-6ADF964D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835-C040-43EE-846F-99C0A3B0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BC0-9E23-4517-9C4A-A4F48C05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FBA-3F21-40BA-BB34-76D8209E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F8E-35E3-4865-BA7D-9EDCE179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120-6A19-4824-BAB9-06D9D48D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2AB-6757-49B1-A7CC-D9FF0E0E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2FA-CE63-4A28-A300-03B8291B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C30-F34A-4EA5-A99E-F8F834F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013-6084-45FD-A0DA-76C0E326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63CD-E7FB-4368-A949-3CC4C672FC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5438-57BD-4F5E-8523-15CE758A29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0" y="5248440"/>
            <a:ext cx="9161640" cy="1609560"/>
          </a:xfrm>
          <a:custGeom>
            <a:avLst/>
            <a:gdLst/>
            <a:ahLst/>
            <a:rect l="l" t="t" r="r" b="b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-15840" y="4305240"/>
            <a:ext cx="9158400" cy="1571760"/>
          </a:xfrm>
          <a:custGeom>
            <a:avLst/>
            <a:gdLst/>
            <a:ahLst/>
            <a:rect l="l" t="t" r="r" b="b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"/>
          <p:cNvSpPr/>
          <p:nvPr/>
        </p:nvSpPr>
        <p:spPr>
          <a:xfrm>
            <a:off x="-15840" y="2665440"/>
            <a:ext cx="9159840" cy="1695600"/>
          </a:xfrm>
          <a:custGeom>
            <a:avLst/>
            <a:gdLst/>
            <a:ahLst/>
            <a:rect l="l" t="t" r="r" b="b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-15840" y="1701720"/>
            <a:ext cx="9164520" cy="1446120"/>
          </a:xfrm>
          <a:custGeom>
            <a:avLst/>
            <a:gdLst/>
            <a:ahLst/>
            <a:rect l="l" t="t" r="r" b="b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-3240" y="227160"/>
            <a:ext cx="9151920" cy="1792080"/>
          </a:xfrm>
          <a:custGeom>
            <a:avLst/>
            <a:gdLst/>
            <a:ahLst/>
            <a:rect l="l" t="t" r="r" b="b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0" y="-20520"/>
            <a:ext cx="9151920" cy="128592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4211640" y="4797360"/>
            <a:ext cx="905040" cy="844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 rot="21435600">
            <a:off x="-2176200" y="2013120"/>
            <a:ext cx="771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蜜蜂</a:t>
            </a: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 rot="21420000">
            <a:off x="258840" y="2603160"/>
            <a:ext cx="51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88000" y="1773360"/>
            <a:ext cx="4344840" cy="513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075280" y="2803680"/>
            <a:ext cx="15541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7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9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Documents and Settings\Administrator\桌面\图片1.png"/>
          <p:cNvPicPr/>
          <p:nvPr/>
        </p:nvPicPr>
        <p:blipFill>
          <a:blip r:embed="rId1"/>
          <a:stretch/>
        </p:blipFill>
        <p:spPr>
          <a:xfrm>
            <a:off x="2073240" y="2693880"/>
            <a:ext cx="4230720" cy="1238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2340000" y="3608280"/>
            <a:ext cx="4395600" cy="181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2135160" y="2644920"/>
            <a:ext cx="49579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Documents and Settings\Administrator\桌面\abstract-design-with-beautiful-flowers2.png"/>
          <p:cNvPicPr/>
          <p:nvPr/>
        </p:nvPicPr>
        <p:blipFill>
          <a:blip r:embed="rId2"/>
          <a:stretch/>
        </p:blipFill>
        <p:spPr>
          <a:xfrm flipH="1" rot="831600">
            <a:off x="1798920" y="2477880"/>
            <a:ext cx="12193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58" name="Picture 2" descr=""/>
            <p:cNvPicPr/>
            <p:nvPr/>
          </p:nvPicPr>
          <p:blipFill>
            <a:blip r:embed="rId3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" descr=""/>
            <p:cNvPicPr/>
            <p:nvPr/>
          </p:nvPicPr>
          <p:blipFill>
            <a:blip r:embed="rId4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" descr=""/>
            <p:cNvPicPr/>
            <p:nvPr/>
          </p:nvPicPr>
          <p:blipFill>
            <a:blip r:embed="rId5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" descr=""/>
            <p:cNvPicPr/>
            <p:nvPr/>
          </p:nvPicPr>
          <p:blipFill>
            <a:blip r:embed="rId6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7268400" y="6607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1.85185E-006 L 0.44063 1.85185E-006 E">
                                      <p:cBhvr>
                                        <p:cTn id="69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71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72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74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椭圆 19"/>
          <p:cNvSpPr/>
          <p:nvPr/>
        </p:nvSpPr>
        <p:spPr>
          <a:xfrm>
            <a:off x="7064280" y="833400"/>
            <a:ext cx="676440" cy="660600"/>
          </a:xfrm>
          <a:prstGeom prst="ellipse">
            <a:avLst/>
          </a:prstGeom>
          <a:solidFill>
            <a:srgbClr val="d9d9d9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"/>
          <p:cNvSpPr/>
          <p:nvPr/>
        </p:nvSpPr>
        <p:spPr>
          <a:xfrm>
            <a:off x="-392040" y="5516640"/>
            <a:ext cx="1434960" cy="1441440"/>
          </a:xfrm>
          <a:prstGeom prst="ellips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355320" y="-699120"/>
            <a:ext cx="1973880" cy="1874160"/>
            <a:chOff x="-355320" y="-699120"/>
            <a:chExt cx="1973880" cy="1874160"/>
          </a:xfrm>
        </p:grpSpPr>
        <p:sp>
          <p:nvSpPr>
            <p:cNvPr id="66" name="Rectangle 4"/>
            <p:cNvSpPr/>
            <p:nvPr/>
          </p:nvSpPr>
          <p:spPr>
            <a:xfrm>
              <a:off x="-11160" y="3240"/>
              <a:ext cx="968760" cy="829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 rot="19526400">
              <a:off x="-156960" y="-356400"/>
              <a:ext cx="15778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sp>
        <p:nvSpPr>
          <p:cNvPr id="70" name="椭圆 16"/>
          <p:cNvSpPr/>
          <p:nvPr/>
        </p:nvSpPr>
        <p:spPr>
          <a:xfrm>
            <a:off x="4718160" y="3838680"/>
            <a:ext cx="1295280" cy="131904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7"/>
          <p:cNvSpPr/>
          <p:nvPr/>
        </p:nvSpPr>
        <p:spPr>
          <a:xfrm>
            <a:off x="1314360" y="2217600"/>
            <a:ext cx="2178000" cy="2148120"/>
          </a:xfrm>
          <a:prstGeom prst="ellipse">
            <a:avLst/>
          </a:prstGeom>
          <a:solidFill>
            <a:srgbClr val="d9d9d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8"/>
          <p:cNvSpPr/>
          <p:nvPr/>
        </p:nvSpPr>
        <p:spPr>
          <a:xfrm>
            <a:off x="4743360" y="2297160"/>
            <a:ext cx="906480" cy="922320"/>
          </a:xfrm>
          <a:prstGeom prst="ellipse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6378480" y="3627360"/>
            <a:ext cx="2721240" cy="321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8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8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9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9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C12-6F6E-41D7-B4D8-8EF026D024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30:4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