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20C-7E55-4197-BD26-EEDA589F3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D97-35C6-4720-B248-076918F38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7D37-0998-4364-B0D0-2A260BA1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763-6686-4E94-9405-04875DC4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8DB2-C98C-45D7-8A9F-C36958EF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192-836A-4AA7-9F03-D8E188BEF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B27-1625-42F5-9B49-39668070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AA6B-5888-462D-B575-397B4E30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DACD-9139-43B0-970E-6FB1FA03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BD7C-2C1D-4B52-9FD3-0D2BD8F2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E64A-0036-4F77-BE11-1C3CB6FB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4078-B2E2-44F8-AA17-E7917A36D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8F6-ABBD-4968-A1D9-3339E9F6A40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78FC-506F-425E-83F6-3375A6E06C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35093-13102ZR13374.jpg"/>
          <p:cNvPicPr/>
          <p:nvPr/>
        </p:nvPicPr>
        <p:blipFill>
          <a:blip r:embed="rId1"/>
          <a:stretch/>
        </p:blipFill>
        <p:spPr>
          <a:xfrm>
            <a:off x="4881600" y="15840"/>
            <a:ext cx="4286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235103-13031FS01628.jpg"/>
          <p:cNvPicPr/>
          <p:nvPr/>
        </p:nvPicPr>
        <p:blipFill>
          <a:blip r:embed="rId1"/>
          <a:stretch/>
        </p:blipFill>
        <p:spPr>
          <a:xfrm>
            <a:off x="4160880" y="879480"/>
            <a:ext cx="4983120" cy="597852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1" descr="267859-1303010F11369.jpg"/>
          <p:cNvPicPr/>
          <p:nvPr/>
        </p:nvPicPr>
        <p:blipFill>
          <a:blip r:embed="rId1"/>
          <a:stretch/>
        </p:blipFill>
        <p:spPr>
          <a:xfrm>
            <a:off x="0" y="-1440"/>
            <a:ext cx="7520040" cy="6854760"/>
          </a:xfrm>
          <a:prstGeom prst="rect">
            <a:avLst/>
          </a:prstGeom>
          <a:ln w="0">
            <a:noFill/>
          </a:ln>
        </p:spPr>
      </p:pic>
      <p:sp>
        <p:nvSpPr>
          <p:cNvPr id="5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19:0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