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C3A-F2BC-4D41-9117-72B7A4D5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27C-4F4F-468F-99AE-0133B682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AEA-F776-4D66-AE88-DAEE4C92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75F-F2DC-4430-9AD4-3E720FF7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E65-4551-4C85-9CD8-A2FBB97A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E21-2142-473E-94F5-01D307D4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58C-7897-437C-BBB5-24EEA74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697-43E2-46F1-9A2B-210138E9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503-C7B3-45F0-A0C7-381C8C4C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3AC-FF06-4A5B-808C-631FB791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5A8-8C5B-47B7-BD0F-7AA8DA9D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E7B-E4EA-499E-860D-093188FB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10F0-8552-4859-8916-05B283B4B4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133E-1C5E-4D10-AE4C-35C9EFED4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2481466_225303001652_2.jpg"/>
          <p:cNvPicPr/>
          <p:nvPr/>
        </p:nvPicPr>
        <p:blipFill>
          <a:blip r:embed="rId1"/>
          <a:stretch/>
        </p:blipFill>
        <p:spPr>
          <a:xfrm>
            <a:off x="0" y="80316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0111114_1da4f58d05cb14993859r02ieCqWpV7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1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