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9AC-2618-46F2-81A5-8BC153A0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EA3-E8AB-4ADB-A87F-50032B85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77C-44A7-43D9-9660-0956775A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9A3-0124-4CC2-8AAE-AE89C8F6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40D-AA4A-46C0-991B-6095F6FF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BF6-A64C-45AE-8780-DBE7B590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77E-8641-46AC-A503-4870E8D8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C27-2262-4031-9D1F-4CD450AF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DEC-232E-465E-881D-2E84D2E1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A01-BC09-440C-BE39-5A480B16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0FB-349B-4480-9D2B-2B3EDC2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281-D244-4B38-BBCB-73B9B708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AF98-D2E6-4534-B50C-F21D09D8C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内容占位符 3" descr="p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1"/>
          <p:cNvSpPr/>
          <p:nvPr/>
        </p:nvSpPr>
        <p:spPr>
          <a:xfrm>
            <a:off x="254880" y="3500280"/>
            <a:ext cx="4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691560" y="3500280"/>
            <a:ext cx="99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2990880" y="4941720"/>
            <a:ext cx="42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6"/>
          <p:cNvSpPr/>
          <p:nvPr/>
        </p:nvSpPr>
        <p:spPr>
          <a:xfrm>
            <a:off x="3642840" y="501336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l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背景带色块.jpg"/>
          <p:cNvPicPr/>
          <p:nvPr/>
        </p:nvPicPr>
        <p:blipFill>
          <a:blip r:embed="rId2"/>
          <a:srcRect l="3473" t="65556" r="70557" b="15187"/>
          <a:stretch/>
        </p:blipFill>
        <p:spPr>
          <a:xfrm>
            <a:off x="317520" y="4495680"/>
            <a:ext cx="2374920" cy="132084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8"/>
          <p:cNvSpPr/>
          <p:nvPr/>
        </p:nvSpPr>
        <p:spPr>
          <a:xfrm>
            <a:off x="684360" y="53737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nd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香奈儿LOGO-01.png"/>
          <p:cNvPicPr/>
          <p:nvPr/>
        </p:nvPicPr>
        <p:blipFill>
          <a:blip r:embed="rId3"/>
          <a:stretch/>
        </p:blipFill>
        <p:spPr>
          <a:xfrm>
            <a:off x="985680" y="4724280"/>
            <a:ext cx="922320" cy="924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内容占位符 4" descr="p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17520" y="4495680"/>
            <a:ext cx="2598840" cy="1320840"/>
            <a:chOff x="317520" y="4495680"/>
            <a:chExt cx="2598840" cy="1320840"/>
          </a:xfrm>
        </p:grpSpPr>
        <p:pic>
          <p:nvPicPr>
            <p:cNvPr id="53" name="图片 3" descr="背景带色块.jpg"/>
            <p:cNvPicPr/>
            <p:nvPr/>
          </p:nvPicPr>
          <p:blipFill>
            <a:blip r:embed="rId2"/>
            <a:srcRect l="3473" t="65556" r="70557" b="15187"/>
            <a:stretch/>
          </p:blipFill>
          <p:spPr>
            <a:xfrm>
              <a:off x="317520" y="4495680"/>
              <a:ext cx="237564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文本框 4"/>
            <p:cNvSpPr/>
            <p:nvPr/>
          </p:nvSpPr>
          <p:spPr>
            <a:xfrm>
              <a:off x="683640" y="53733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rand 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图片 5" descr="香奈儿LOGO-01.png"/>
            <p:cNvPicPr/>
            <p:nvPr/>
          </p:nvPicPr>
          <p:blipFill>
            <a:blip r:embed="rId3"/>
            <a:stretch/>
          </p:blipFill>
          <p:spPr>
            <a:xfrm>
              <a:off x="985320" y="4725000"/>
              <a:ext cx="922680" cy="92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6659640" y="64929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内容占位符 3" descr="p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449-82FA-441F-828F-72E8D3C1EA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hnagsir</cp:lastModifiedBy>
  <dcterms:modified xsi:type="dcterms:W3CDTF">2015-06-13T08:56:02Z</dcterms:modified>
  <cp:revision>10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