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4B5-41DE-4F11-AC1B-64B04D83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281-80D9-4536-8985-A22D123E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59D-AD60-4565-B32B-7186D593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A1A-A2DA-4762-8674-0003C738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3DEC-59B7-447E-9E6A-20503D60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FDCB-BE05-449B-8231-803B76C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DFE7-E45B-4782-A60C-EB7078B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CE1C-F80C-4286-A669-746A2246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C7B4-4CA1-473C-BBD8-4906069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5E76-9C2E-4316-B9B3-FAC64F1A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78BD-D640-4479-86AE-F206D361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13E0-1D97-4163-A024-1448E472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C862-41C0-47BA-9534-9A8E466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6B47-6BDA-4401-BEDB-3445D9A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76C3-C5E7-49C6-8D97-DFC09E3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E003-CA51-440C-9533-D7260F3D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9BE4-B56A-4831-B41E-0FB5ED72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306-D364-4BC4-899D-3B03E57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411-6C25-4D86-B734-04831E5F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54E-57FB-4050-A1D6-1D7ACD3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961-9C8B-473E-9BE6-5093550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5F6-3D6A-47E3-ADFF-EE41F85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FDA-014B-4222-A08D-DD55C9CB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85C-DDBE-4BA4-BF72-3A5F9E48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96F5-1430-480A-8A7E-0F62B3250D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BE4-62A0-41A5-8968-0CB593F62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E44A-159A-4D2E-BE85-EBA8D571213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7960"/>
            <a:ext cx="2895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3F92-DC9F-4556-95A7-62BC4A8786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40498-1305060I61468.jpg"/>
          <p:cNvPicPr/>
          <p:nvPr/>
        </p:nvPicPr>
        <p:blipFill>
          <a:blip r:embed="rId1"/>
          <a:stretch/>
        </p:blipFill>
        <p:spPr>
          <a:xfrm>
            <a:off x="3335400" y="15840"/>
            <a:ext cx="5808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318757-130Q60SJ393.jpg"/>
          <p:cNvPicPr/>
          <p:nvPr/>
        </p:nvPicPr>
        <p:blipFill>
          <a:blip r:embed="rId1"/>
          <a:stretch/>
        </p:blipFill>
        <p:spPr>
          <a:xfrm>
            <a:off x="3254400" y="703440"/>
            <a:ext cx="5889600" cy="588636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318757-130Q60T42312.jpg"/>
          <p:cNvPicPr/>
          <p:nvPr/>
        </p:nvPicPr>
        <p:blipFill>
          <a:blip r:embed="rId1"/>
          <a:stretch/>
        </p:blipFill>
        <p:spPr>
          <a:xfrm>
            <a:off x="0" y="270000"/>
            <a:ext cx="5262480" cy="631332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318757-130Q60U10345.jpg"/>
          <p:cNvPicPr/>
          <p:nvPr/>
        </p:nvPicPr>
        <p:blipFill>
          <a:blip r:embed="rId1"/>
          <a:stretch/>
        </p:blipFill>
        <p:spPr>
          <a:xfrm>
            <a:off x="0" y="1135080"/>
            <a:ext cx="6253200" cy="500688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b_1371465546986.jpg"/>
          <p:cNvPicPr/>
          <p:nvPr/>
        </p:nvPicPr>
        <p:blipFill>
          <a:blip r:embed="rId1"/>
          <a:stretch/>
        </p:blipFill>
        <p:spPr>
          <a:xfrm>
            <a:off x="4140360" y="-1440"/>
            <a:ext cx="5003640" cy="685476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b_1371465431810.jpg"/>
          <p:cNvPicPr/>
          <p:nvPr/>
        </p:nvPicPr>
        <p:blipFill>
          <a:blip r:embed="rId1"/>
          <a:stretch/>
        </p:blipFill>
        <p:spPr>
          <a:xfrm>
            <a:off x="-9360" y="793800"/>
            <a:ext cx="3794040" cy="608004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" descr="b_1371465488818.jpg"/>
          <p:cNvPicPr/>
          <p:nvPr/>
        </p:nvPicPr>
        <p:blipFill>
          <a:blip r:embed="rId1"/>
          <a:stretch/>
        </p:blipFill>
        <p:spPr>
          <a:xfrm>
            <a:off x="2793960" y="1268280"/>
            <a:ext cx="63500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" descr="b_1371535863681.jpg"/>
          <p:cNvPicPr/>
          <p:nvPr/>
        </p:nvPicPr>
        <p:blipFill>
          <a:blip r:embed="rId1"/>
          <a:stretch/>
        </p:blipFill>
        <p:spPr>
          <a:xfrm>
            <a:off x="0" y="1508040"/>
            <a:ext cx="54864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