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A86-EA5D-4CD0-8D85-69989C5C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12F-1970-4992-8D15-DA94A863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A76-E5A7-418E-9D2F-4E79D4C4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030-8443-4960-B531-2795E356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6582-E7A6-4B61-98CD-55CED34E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E0AE-186C-4F76-89E8-9D086783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7BA3-7EE2-4479-8CBD-C8D374E6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5E0C-7CA0-46A8-AB38-5C5E19F5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73F8-BAA8-44AA-9BEC-531132B5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D934-D726-471F-A889-5D9AC5FB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71A8-EC31-45FF-B823-EA4E83EE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ECC-871D-4BDC-B887-D2073A9C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F04A-6F23-48BA-8FC4-D3EF18F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1632-4DD6-4D1A-9C38-FE378C70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8F89-7917-4A40-B050-E2D6AE72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66F6-F8AD-458B-8C80-1C478E05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5CE8-4E25-4109-BB55-CD67C2E7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C01-3E95-435F-BC89-58EFCE2F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4A5-EEEF-4969-849D-73F8DF6F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2B2-BD55-485E-B60C-06868AEB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528-5EDA-4DFC-9D22-FD2DB7D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CB8-FB9E-40DF-8F39-896182EF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ACE-B2A2-4C15-B4A6-BD74D270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483-DAD2-4197-9285-BDE8A3F4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2218-25F9-48ED-BA00-68093AEC39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7BDE-9CE0-4F62-9351-F467ACF16D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F758-4CC5-409C-B013-D1009E9E4D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0ABA-6230-4D5E-BB46-98D27A9E3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3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调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3279600" y="5186520"/>
            <a:ext cx="5153040" cy="147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466560" y="5445000"/>
            <a:ext cx="4173840" cy="31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3276720" y="2060640"/>
            <a:ext cx="5143320" cy="3125880"/>
          </a:xfrm>
          <a:prstGeom prst="roundRect">
            <a:avLst>
              <a:gd name="adj" fmla="val 0"/>
            </a:avLst>
          </a:prstGeom>
          <a:solidFill>
            <a:srgbClr val="fbd4b4">
              <a:alpha val="12000"/>
            </a:srgbClr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未知"/>
          <p:cNvSpPr/>
          <p:nvPr/>
        </p:nvSpPr>
        <p:spPr>
          <a:xfrm flipH="1">
            <a:off x="714240" y="2771640"/>
            <a:ext cx="1859040" cy="1847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未知"/>
          <p:cNvSpPr/>
          <p:nvPr/>
        </p:nvSpPr>
        <p:spPr>
          <a:xfrm flipH="1">
            <a:off x="970920" y="1844640"/>
            <a:ext cx="1601640" cy="1855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 flipH="1">
            <a:off x="970920" y="3700440"/>
            <a:ext cx="3214440" cy="184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 flipH="1">
            <a:off x="2575080" y="1844640"/>
            <a:ext cx="1869840" cy="277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未知"/>
          <p:cNvSpPr/>
          <p:nvPr/>
        </p:nvSpPr>
        <p:spPr>
          <a:xfrm flipH="1" flipV="1">
            <a:off x="1266480" y="2421000"/>
            <a:ext cx="1319040" cy="264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未知"/>
          <p:cNvSpPr/>
          <p:nvPr/>
        </p:nvSpPr>
        <p:spPr>
          <a:xfrm flipH="1" flipV="1">
            <a:off x="2574360" y="2420280"/>
            <a:ext cx="1145880" cy="1314360"/>
          </a:xfrm>
          <a:prstGeom prst="pie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 flipH="1" flipV="1">
            <a:off x="2574360" y="3741120"/>
            <a:ext cx="1145880" cy="1320840"/>
          </a:xfrm>
          <a:prstGeom prst="pie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未知"/>
          <p:cNvSpPr/>
          <p:nvPr/>
        </p:nvSpPr>
        <p:spPr>
          <a:xfrm flipH="1" flipV="1">
            <a:off x="2587680" y="2698200"/>
            <a:ext cx="2101680" cy="207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1263600" y="347328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254400" y="35593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20"/>
          <p:cNvSpPr/>
          <p:nvPr/>
        </p:nvSpPr>
        <p:spPr>
          <a:xfrm rot="19732200">
            <a:off x="1285560" y="2344680"/>
            <a:ext cx="1085760" cy="1810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1"/>
          <p:cNvSpPr/>
          <p:nvPr/>
        </p:nvSpPr>
        <p:spPr>
          <a:xfrm rot="2038800">
            <a:off x="2797200" y="2354040"/>
            <a:ext cx="1085760" cy="1807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22"/>
          <p:cNvSpPr/>
          <p:nvPr/>
        </p:nvSpPr>
        <p:spPr>
          <a:xfrm rot="16200000">
            <a:off x="549360" y="3594240"/>
            <a:ext cx="1085760" cy="1807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3"/>
          <p:cNvSpPr/>
          <p:nvPr/>
        </p:nvSpPr>
        <p:spPr>
          <a:xfrm>
            <a:off x="2013120" y="5106960"/>
            <a:ext cx="1085760" cy="1810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4840200" y="25700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4840200" y="28670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4861080" y="324792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4861080" y="354492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9"/>
          <p:cNvSpPr/>
          <p:nvPr/>
        </p:nvSpPr>
        <p:spPr>
          <a:xfrm>
            <a:off x="4861080" y="396720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4861080" y="426420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8:5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